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F314-57EC-4C23-8157-EE48BFCB6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D68F-8D4E-4DC9-AF69-2375F0FC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EE65-1D80-4ECB-9A67-77966B1F2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87FB-61B4-4D3A-A534-F2193CB49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1EEC-714F-474E-905B-E7DD27F6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4C5B-75F3-4DE9-BD13-46A220CB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2D31-3971-4779-A98B-127D1178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3D0A-8C25-4415-B053-D50EB001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BDD5-6038-4FE1-948A-DBB3B2C2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0604-E2D9-41D6-BE2E-63CF2D2E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8D6C-F4A4-4F8A-9242-4D909152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2686-6A9F-4528-B8E3-24029591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3B7B-CCCF-4BD5-8FD1-2317A78EC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0" y="350532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47960" y="4419360"/>
            <a:ext cx="3886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 Closer Look at Instruction Set Architectur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F63D-0460-46F2-A444-85217A0EA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2 Instruction Forma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next consideration for architecture design concerns how the CPU will store dat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have three choic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. A stack architectur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. An accumulator architectur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. A general purpose register architectur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choosing one over the other, the tradeoffs are simplicity (and cost) of hardware design with execution speed and ease of u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2002-D3EA-4086-9754-DE45B5AFE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2 Instruction Forma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stack architecture, instructions and operands are implicitly taken from the stac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tack cannot be accessed random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n accumulator architecture, one operand of a binary operation is implicitly in the accumulat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perand is in memory, creating lots of bus traffi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general purpose register (GPR) architecture, registers can be used instead of memor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er than accumulator archit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t implementation for compil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 in longer instru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8CB7-5CA1-4DF1-9E8F-54821C350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2 Instruction Forma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systems today are GPR system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three typ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-memory where two or three operands may be in mem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er-memory where at least one operand must be in a reg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-store where no operands may be in mem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number of operands and the number of available registers has a direct affect on instruction lengt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83A3-E89B-4203-B2A3-EB7629486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2 Instruction Forma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ck machines use o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and zero-operand instruc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LOA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TOR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structions require a single memory address operan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instructions use operands from the stack implicitl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perations involve only the stack’s top eleme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nary instructions (e.g.,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MUL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use the top two items on the stac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F2CA-3A0B-4EE5-B0CF-763A9859B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2 Instruction Forma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ck architectures require us to think about arithmetic expressions a little differentl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are accustomed to writing expressions using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nfi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notation, such as: Z = X + 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ck arithmetic requires that we us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ostfi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notation: Z = XY+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lso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verse Polish no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(somewhat) in honor of its Polish inventor, Jan Lukasiewicz (1878 - 1956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8D3A-3385-4385-987E-8BA6BE3F6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2 Instruction Forma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al advantage of postfix notation is that parentheses are not us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xample, the infix expression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Z = (X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Y) + (W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U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comes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Z = X 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W U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postfix not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4E1B-537A-4129-AF24-F317798D3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2 Instruction Forma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stack ISA, the postfix expression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Z = X 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W U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ght look like thi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SH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SH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SH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SH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SH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4113360"/>
            <a:ext cx="2438640" cy="176976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Note: The result of a binary operation is implicitly stored on the top of the stack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CB05-1D63-4A91-A348-AD5E54108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2 Instruction Forma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one-address ISA, like MARIE, the infix expression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Z = X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Y + W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oks like thi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AD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UL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ORE TE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AD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ULT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 TE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ORE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FE67-8DEE-4005-BFBF-D0C1CFC22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2 Instruction Forma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two-address ISA, (e.g.,Intel, Motorola), the infix expression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Z = X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Y + W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ght look like thi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AD R1,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ULT R1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AD R2,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ULT R2,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  R1,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ORE Z,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4116600"/>
            <a:ext cx="2438640" cy="176976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Note: One-address ISAs usually require one operand to be a regist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2EDC-19D0-4444-9ECB-D593153E1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2 Instruction Forma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a three-address ISA, (e.g.,mainframes), the infix expression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Z = X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Y + W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ght look like thi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ULT R1,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ULT R2,W,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  Z,R1,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4618440"/>
            <a:ext cx="7391520" cy="76428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Would this program execute faster than the corresponding (longer) program that we saw in the stack-based IS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571500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5 Objectiv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e factors involved in instruction set architecture desi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 familiarity with memory addressing m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e concepts of instruction-level pipelining and its affect upon execution perform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E85A-BDFC-4FE4-B81B-798D6BBA37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C1F9-C40A-4300-8F6A-635BF81B3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2 Instruction Forma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have seen how instruction length is affected by the number of operands supported by the IS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ny instruction set, not all instructions require the same number of operand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tions that require no operands,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AL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necessarily waste some space when fixed-length instructions are us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way to recover some of this space is to use expanding opco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E02F-E5B6-4CA6-9B71-6A8F38B72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2 Instruction Forma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ystem has 16 registers and 4K of memor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need 4 bits to access one of the registers. We also need 12 bits for a memory addres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ystem is to have 16-bit instructions, we have two choices for our instruction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5-2" descr=""/>
          <p:cNvPicPr/>
          <p:nvPr/>
        </p:nvPicPr>
        <p:blipFill>
          <a:blip r:embed="rId2"/>
          <a:stretch/>
        </p:blipFill>
        <p:spPr>
          <a:xfrm>
            <a:off x="1447920" y="3751200"/>
            <a:ext cx="58323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5DD6-D105-4299-B47F-E160173CC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2 Instruction Forma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we allow the length of the opcode to vary, we could create a very rich instruction se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Ecodes" descr=""/>
          <p:cNvPicPr/>
          <p:nvPr/>
        </p:nvPicPr>
        <p:blipFill>
          <a:blip r:embed="rId2"/>
          <a:stretch/>
        </p:blipFill>
        <p:spPr>
          <a:xfrm>
            <a:off x="1143000" y="2454120"/>
            <a:ext cx="6334200" cy="3337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14400" y="5972760"/>
            <a:ext cx="6629400" cy="42912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Is there something missing from this instruction set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F3AC-BC65-4488-BEED-56125880A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3 Instruction typ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tructions fall into several broad categories that you should be familiar with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oveme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285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ithmeti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285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olea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285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t manipul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285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/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285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ol transf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285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al purpo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05520" y="3210120"/>
            <a:ext cx="2590560" cy="1281960"/>
          </a:xfrm>
          <a:prstGeom prst="rect">
            <a:avLst/>
          </a:prstGeom>
          <a:solidFill>
            <a:srgbClr val="e2fed2"/>
          </a:solidFill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Times New Roman"/>
              </a:rPr>
              <a:t>Can you think of some examples of each of thes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2989-599C-48BB-8563-0E6D209CB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4 Address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ressing modes specify where an operand is locat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can specify a constant, a register, or a memory loc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actual location of an operand is it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ffective addres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rtain addressing modes allow us to determine the address of an operand dynamicall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5EFB-5D71-484E-85D9-9990745C0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4 Address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mmediate addres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where the data is part of the instru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irect addres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where the address of the data is given in the instru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gister addres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where the data is located in a regist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ndirect addres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ives the address of the address of the data in the instru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gister indirect addres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uses a register to store the address of the address of the dat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7C57-E91B-4C8A-ACDC-4914B7CF2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4 Address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ndexed addres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uses a register (implicitly or explicitly) as an offset, which is added to the address in the operand to determine the effective address of the dat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ased addres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similar except that a base register is used instead of an index regist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difference between these two is that an index register holds an offset relative to the address given in the instruction, a base register holds a base address where the address field represents a displacement from this ba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0831-3FE0-4024-935A-A5D75FC79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4 Address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tack addres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e operand is assumed to be on top of the stac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many variations to these addressing modes includ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rect index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/off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-rel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 increment - decr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won’t cover these in detai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5713920"/>
            <a:ext cx="7467480" cy="42912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Let’s look at an example of the principal addressing mod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C87F-91B8-4CC9-8B9E-91C1E39CB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4 Address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the instruction shown, what value is loaded into the accumulator for each addressing mod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addr1" descr=""/>
          <p:cNvPicPr/>
          <p:nvPr/>
        </p:nvPicPr>
        <p:blipFill>
          <a:blip r:embed="rId2"/>
          <a:stretch/>
        </p:blipFill>
        <p:spPr>
          <a:xfrm>
            <a:off x="457200" y="2438280"/>
            <a:ext cx="805356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D42F-3045-4521-84A0-ED082E5F8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4 Address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se are the values loaded into the accumulator for each addressing mod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addr2" descr=""/>
          <p:cNvPicPr/>
          <p:nvPr/>
        </p:nvPicPr>
        <p:blipFill>
          <a:blip r:embed="rId2"/>
          <a:stretch/>
        </p:blipFill>
        <p:spPr>
          <a:xfrm>
            <a:off x="457200" y="2438280"/>
            <a:ext cx="804384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8390-E30C-4AA4-A16B-450395774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1 Introdu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s chapter builds upon the ideas in Chapter 4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present a detailed look at different instruction formats, operand types, and memory access metho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will see the interrelation between machine organization and instruction format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s leads to a deeper understanding of computer architecture in genera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D21C-4918-482A-84C3-31C73501F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382320"/>
            <a:ext cx="67057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5 Instruction-Level Pipelin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CPUs divide the fetch-decode-execute cycle into smaller step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se smaller steps can often be executed in parallel to increase throughpu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ch parallel execution is calle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nstruction-level pipelin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term is sometimes abbreviate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L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the literatur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5713920"/>
            <a:ext cx="7772400" cy="42912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The next slide shows an example of instruction-level pipelining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91C7-3A75-4F30-826D-3600249D2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382320"/>
            <a:ext cx="67057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5 Instruction-Level Pipelin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se a fetch-decode-execute cycle were broken into the following smaller step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se we have a six-stage pipeline.  S1 fetches the instruction, S2 decodes it, S3 determines the address of the operands, S4 fetches them, S5 executes the instruction, and S6 stores the resul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2419920"/>
            <a:ext cx="647676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3422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Fetch instructio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Fetch oper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3422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Decode opcod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Execute instru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3422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Calculate effe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Sto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3422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 of oper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3091-795F-4B5E-8DEF-0F067B6FC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2320"/>
            <a:ext cx="67057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5 Instruction-Level Pipelin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very clock cycle, one small step is carried out, and the stages are overlapp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5007240"/>
            <a:ext cx="647676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75"/>
              </a:spcBef>
              <a:tabLst>
                <a:tab algn="l" pos="0"/>
                <a:tab algn="l" pos="3422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1. Fetch instruction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4. Fetch operand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75"/>
              </a:spcBef>
              <a:tabLst>
                <a:tab algn="l" pos="0"/>
                <a:tab algn="l" pos="3422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2. Decode opcode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5. Execu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75"/>
              </a:spcBef>
              <a:tabLst>
                <a:tab algn="l" pos="0"/>
                <a:tab algn="l" pos="3422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3. Calculate effectiv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6. Store resul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75"/>
              </a:spcBef>
              <a:tabLst>
                <a:tab algn="l" pos="0"/>
                <a:tab algn="l" pos="3422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ress of operand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ilp1" descr=""/>
          <p:cNvPicPr/>
          <p:nvPr/>
        </p:nvPicPr>
        <p:blipFill>
          <a:blip r:embed="rId2"/>
          <a:stretch/>
        </p:blipFill>
        <p:spPr>
          <a:xfrm>
            <a:off x="1828800" y="2373480"/>
            <a:ext cx="4680000" cy="25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3705-6F53-434E-AD42-B00498322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382320"/>
            <a:ext cx="67057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5 Instruction-Level Pipelin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27960" indent="-32796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theoretical speedup offered by a pipeline can be determined as follow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744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the time per stage.  Each instruction represents a task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n the pipe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744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rst task (instruction) requir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 to complete in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age pipeline.  The remaining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1) tasks emerge from the pipeline one per cycle.  So the total time to complete the remaining tasks i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1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744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, to comple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sks using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age pipeline requi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744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1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1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26EC-57BF-44B4-BB08-35E6A0798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382320"/>
            <a:ext cx="67057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5 Instruction-Level Pipelin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we take the time required to complet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asks without a pipeline and divide it by the time it takes to complet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asks using a pipeline, we fin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we take the limit a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pproaches infinity,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1) approache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hich results in a theoretical speedup 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s2b" descr=""/>
          <p:cNvPicPr/>
          <p:nvPr/>
        </p:nvPicPr>
        <p:blipFill>
          <a:blip r:embed="rId2"/>
          <a:stretch/>
        </p:blipFill>
        <p:spPr>
          <a:xfrm>
            <a:off x="1720800" y="4745160"/>
            <a:ext cx="4222800" cy="1122120"/>
          </a:xfrm>
          <a:prstGeom prst="rect">
            <a:avLst/>
          </a:prstGeom>
          <a:ln w="0">
            <a:noFill/>
          </a:ln>
        </p:spPr>
      </p:pic>
      <p:pic>
        <p:nvPicPr>
          <p:cNvPr id="157" name="S" descr=""/>
          <p:cNvPicPr/>
          <p:nvPr/>
        </p:nvPicPr>
        <p:blipFill>
          <a:blip r:embed="rId3"/>
          <a:stretch/>
        </p:blipFill>
        <p:spPr>
          <a:xfrm>
            <a:off x="1751040" y="2782800"/>
            <a:ext cx="518328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B0BF-53A5-4045-90F9-EF97C43C4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382320"/>
            <a:ext cx="67057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5 Instruction-Level Pipelin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r neat equations take a number of things for grant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rst, we have to assume that the architecture supports fetching instructions and data in paralle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, we assume that the pipeline can be kept filled at all times.  This is not always the case.  Pipelin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azard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rise that cause pipeline conflicts and stal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09CA-1915-4C96-B3B2-285AA387E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382320"/>
            <a:ext cx="67057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5 Instruction-Level Pipelin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instruction pipeline may stall, or be flushed for any of the following reason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 confli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612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dependen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612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branc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sures can be taken at the software level as well as at the hardware level to reduce the effects of these hazards, but they cannot be totally eliminat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2C6D-CB6A-4054-A932-B645B257C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240" y="382320"/>
            <a:ext cx="71629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6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Real-World Examples of ISA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return briefly to the Intel and MIPS architectures from the last chapter, using some of the ideas introduced in this chapt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l introduced pipelining to their processor line with its Pentium chip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rst Pentium had two five-stage pipelines.  Each subsequent Pentium processor had a longer pipeline than its predecessor with the Pentium IV having a 24-stage pipelin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tanium (IA-64) has only a 10-stage pipelin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24E3-5718-426D-A229-C62D2662F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382320"/>
            <a:ext cx="71629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6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Real-World Examples of ISA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1200" indent="-331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l processors support a wide array of addressing mo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1200" indent="-331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original 8086 provided 17 ways to address memory, most of them variants on the methods presented in this chapt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1200" indent="-331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wing to their need for backward compatibility, the Pentium chips also support these 17 addressing mo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1200" indent="-331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tanium, having a RISC core, supports only one: register indirect addressing with optional post increme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B7B6-E635-410D-B651-DCF5364EA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382320"/>
            <a:ext cx="71629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6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Real-World Examples of ISA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PS was an acronym fo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icroprocessor Without Interlocked Pipeline Stag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architecture is little endian and word-addressable with three-address, fixed-length instruc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ke Intel, the pipeline size of the MIPS processors has grown: The R2000 and R3000 have five-stage pipelines.; the R4000 and R4400 have 8-stage pipelin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CC27-6CD1-45C9-B3CB-E4A66C0D4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2 Instruction Forma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 sets are differentiated by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mber of bits per instru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ck-based or register-bas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mber of explicit operands per instru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nd loc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ypes of oper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ype and size of operand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B944-FF9F-4EC0-867B-F1EFAA666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382320"/>
            <a:ext cx="71629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6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Real-World Examples of ISA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10000 has three pipelines: A five-stage pipeline for integer instructions, a seven-stage pipeline for floating-point instructions, and a six-state pipeline fo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LOAD/STOR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struction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ll MIPS ISAs, only the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LOA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TOR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structions can access memor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SA uses only base addressing mod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assembler accommodates programmers who need to use immediate, register, direct, indirect register, base, or indexed addressing mo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B09F-8301-42F1-8AF2-E1B792E8D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240" y="382320"/>
            <a:ext cx="71629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6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Real-World Examples of ISA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Java programming language is an interpreted language that runs in a software machine called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Java Virtual Machin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JVM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JVM is written in a native language for a wide array of processors, including MIPS and Inte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ke a real machine, the JVM has an ISA all of its own, calle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ytecod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This ISA was designed to be compatible with the architecture of any machine on which the JVM is runni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71600" y="5485320"/>
            <a:ext cx="5943600" cy="42912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The next slide shows how the pieces fit togeth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E6EA-8D04-4732-A56A-8BB0D1B93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382320"/>
            <a:ext cx="71629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6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Real-World Examples of ISA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5-6" descr=""/>
          <p:cNvPicPr/>
          <p:nvPr/>
        </p:nvPicPr>
        <p:blipFill>
          <a:blip r:embed="rId2"/>
          <a:stretch/>
        </p:blipFill>
        <p:spPr>
          <a:xfrm>
            <a:off x="762120" y="1469880"/>
            <a:ext cx="744984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EEE1-9329-4C00-9C47-1FD8BC49C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382320"/>
            <a:ext cx="71629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6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Real-World Examples of ISA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bytecode is a stack-based languag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instructions are zero address instruc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JVM has four registers that provide access to five regions of main memor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references to memory are offsets from these registers. Java uses no pointers or absolute memory referen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was designed for platform interoperability, not performance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C658-234B-4ED0-8066-7DA733C8E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7620120" cy="41911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As are distinguished according to their bits per instruction, number of operands per instruction, operand location and types and sizes of operand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dianness as another major architectural consider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PU can store store data based 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A stack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An accumulator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A general purpose register architectur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5 Conclu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1300-7A9A-4D0E-B0F2-C406DBAC6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7620120" cy="41911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tructions can be fixed length or variable lengt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enrich the instruction set for a fixed length instruction set, expanding opcodes can be us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addressing mode of an ISA is also another important factor.  We looked a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med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Di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Register Indi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r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5 Conclu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BC25-7CEA-4F34-A373-61B3F4D89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7620120" cy="41911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stage pipeline can theoretically produce execution speedup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s compared to a non-pipelined machin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peline hazards such as resource conflicts and conditional branching prevents this speedup from being achieved in practic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ntel, MIPS, and JVM architectures provide good examples of the concepts presented in this chapt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5 Conclu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2E5A-017D-4693-B085-60C769FCC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6699"/>
                </a:solidFill>
                <a:latin typeface="Arial"/>
              </a:rPr>
              <a:t>End of Chapter 5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1912-627F-4E6B-8EE5-3D88F3557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2 Instruction Forma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 set architectures are measured according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 memory space occupied by a progra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truction complexit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truction length (in bits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 number of instructions in the instruction se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227F-3926-4D75-A118-BAD2B66DB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2 Instruction Forma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620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esigning an instruction set, consideration is given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truction lengt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ther short, long, o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mber of operand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mber of addressable regist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ory organiz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ther byte- or word address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ressing mo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ny or all: direct, indirect or index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F46E-6BF4-4584-AB33-093928564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80880" y="15238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te ordering, o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iannes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is another major architectural consider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we have a two-byte integer, the integer may be stored so that the least significant byte is followed by the most significant byte or vice vers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ttle endia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ines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east significant byte is followed by the most significant by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g endi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chines store the most significant byte first (at the lower address)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2 Instruction Forma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54E8-944B-4635-8D36-5A6B9A985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0880" y="1523880"/>
            <a:ext cx="79250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an example, suppose we have the hexadecimal number 12345678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endian and small endian arrangements of the bytes are shown below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2 Instruction Forma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5-1" descr=""/>
          <p:cNvPicPr/>
          <p:nvPr/>
        </p:nvPicPr>
        <p:blipFill>
          <a:blip r:embed="rId2"/>
          <a:stretch/>
        </p:blipFill>
        <p:spPr>
          <a:xfrm>
            <a:off x="533520" y="3809880"/>
            <a:ext cx="792468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BABC-FDF9-459B-858F-129929841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2 Instruction Forma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g endia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more nat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gn of the number can be determined by looking at the byte at address offset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s and integers are stored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ttle endian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 it easier to place values on non-word bounda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sion from a 16-bit integer address to a 32-bit integer address does not require any arithmet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23:57:00Z</dcterms:created>
  <dc:creator>Null &amp; Lobur</dc:creator>
  <dc:description/>
  <dc:language>en-US</dc:language>
  <cp:lastModifiedBy>User</cp:lastModifiedBy>
  <dcterms:modified xsi:type="dcterms:W3CDTF">2006-01-10T02:49:23Z</dcterms:modified>
  <cp:revision>348</cp:revision>
  <dc:subject/>
  <dc:title>Chapter 2</dc:title>
</cp:coreProperties>
</file>