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800-B79A-4300-9988-724EAEF3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3B2-36F0-4574-B480-9CF9860A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7C6-6411-4C62-9604-0C6EE461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59A-F0C9-4DF9-AD44-DF4DF5D1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C64-23C4-4D23-8E32-163CB1A4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3CA-5E3E-4C13-9BCA-1F5BE793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D4B-D1A4-41E9-B6CD-3C305ACB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DA8-506C-43A9-B72C-A7354782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F56-1959-46E3-9CA1-E42BEBCF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03E-39B6-46FD-B8E4-934B7F4D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C50-DE0D-448C-AE10-84C4A15A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D62-BCF9-45F9-A0E4-9D6ACCD8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DF4F-49FC-4C6A-88AC-0567B6BD2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0" y="35049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3 Special S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419720" y="4800600"/>
            <a:ext cx="4495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cus 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rnaug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962B-ADB7-484B-A121-7D00F4F2F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K132E" descr=""/>
          <p:cNvPicPr/>
          <p:nvPr/>
        </p:nvPicPr>
        <p:blipFill>
          <a:blip r:embed="rId2"/>
          <a:stretch/>
        </p:blipFill>
        <p:spPr>
          <a:xfrm>
            <a:off x="5940360" y="4414680"/>
            <a:ext cx="1965240" cy="1606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3 Kmap Simplification for Two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best way of selecting two groups of 1s form our simple Kmap is shown below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see that both groups are powers of two and that the groups overla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ext slide gives guidance for selecting Kmap group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274F-5359-4C64-9F97-9DCEE119E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ules of Kmap simplification 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oupings can contain only 1s; no 0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oups can be formed only at right angles; diagonal groups are not allow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number of 1s in a group must be a power of 2 – even if it contains a single 1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groups must be made as large as possibl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oups can overlap and wrap around the sides of the Kmap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3 Kmap Simplification for Two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101A-981F-4B82-BED0-ABB49E9D5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4 Kmap Simplification for Three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Kmap for three variables is constructed as shown in the diagram be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placed each minterm in the cell that will hold its val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the values for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bination at the top of the matrix form a pattern that is not a normal binary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K134" descr=""/>
          <p:cNvPicPr/>
          <p:nvPr/>
        </p:nvPicPr>
        <p:blipFill>
          <a:blip r:embed="rId2"/>
          <a:stretch/>
        </p:blipFill>
        <p:spPr>
          <a:xfrm>
            <a:off x="2971800" y="4329000"/>
            <a:ext cx="448776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6BF7-5E44-4327-ABF7-D79CE12B8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4 Kmap Simplification for Three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848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the first row of the Kmap contains all minterms whe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s a value of z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column contains all minterms whe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 have a value of z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K134" descr=""/>
          <p:cNvPicPr/>
          <p:nvPr/>
        </p:nvPicPr>
        <p:blipFill>
          <a:blip r:embed="rId2"/>
          <a:stretch/>
        </p:blipFill>
        <p:spPr>
          <a:xfrm>
            <a:off x="2971800" y="4329000"/>
            <a:ext cx="448776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24B4-AD33-492B-90A7-FB2E91745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4 Kmap Simplification for Three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 the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Kmap is given be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largest group of 1s that is a power of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K135C" descr=""/>
          <p:cNvPicPr/>
          <p:nvPr/>
        </p:nvPicPr>
        <p:blipFill>
          <a:blip r:embed="rId2"/>
          <a:stretch/>
        </p:blipFill>
        <p:spPr>
          <a:xfrm>
            <a:off x="1828800" y="2057400"/>
            <a:ext cx="6253200" cy="595440"/>
          </a:xfrm>
          <a:prstGeom prst="rect">
            <a:avLst/>
          </a:prstGeom>
          <a:ln w="0">
            <a:noFill/>
          </a:ln>
        </p:spPr>
      </p:pic>
      <p:pic>
        <p:nvPicPr>
          <p:cNvPr id="97" name="K135A" descr=""/>
          <p:cNvPicPr/>
          <p:nvPr/>
        </p:nvPicPr>
        <p:blipFill>
          <a:blip r:embed="rId3"/>
          <a:stretch/>
        </p:blipFill>
        <p:spPr>
          <a:xfrm>
            <a:off x="3276720" y="4257720"/>
            <a:ext cx="38750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016B-FBA7-4D68-B402-67FD9213A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K135B" descr=""/>
          <p:cNvPicPr/>
          <p:nvPr/>
        </p:nvPicPr>
        <p:blipFill>
          <a:blip r:embed="rId2"/>
          <a:stretch/>
        </p:blipFill>
        <p:spPr>
          <a:xfrm>
            <a:off x="3276720" y="4295880"/>
            <a:ext cx="3848040" cy="1884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4 Kmap Simplification for Three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grouping tells us that changes in the variabl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 no influence upon the value of the function: They are irreleva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eans that the function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s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(x) = z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K135C" descr=""/>
          <p:cNvPicPr/>
          <p:nvPr/>
        </p:nvPicPr>
        <p:blipFill>
          <a:blip r:embed="rId3"/>
          <a:srcRect l="0" t="13349" r="0" b="23110"/>
          <a:stretch/>
        </p:blipFill>
        <p:spPr>
          <a:xfrm>
            <a:off x="1600200" y="3381480"/>
            <a:ext cx="6253200" cy="37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4494600"/>
            <a:ext cx="2209680" cy="14346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You could verify this reduction with identities or a truth t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A3F7-6D4A-4676-AF9E-FFC8A3C64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K136A" descr=""/>
          <p:cNvPicPr/>
          <p:nvPr/>
        </p:nvPicPr>
        <p:blipFill>
          <a:blip r:embed="rId2"/>
          <a:stretch/>
        </p:blipFill>
        <p:spPr>
          <a:xfrm>
            <a:off x="3352680" y="4343400"/>
            <a:ext cx="3784680" cy="1852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4 Kmap Simplification for Three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for a more complicated Kmap.  Consider the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Kmap is shown below. There are (only) two groupings of 1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find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K136C" descr=""/>
          <p:cNvPicPr/>
          <p:nvPr/>
        </p:nvPicPr>
        <p:blipFill>
          <a:blip r:embed="rId3"/>
          <a:stretch/>
        </p:blipFill>
        <p:spPr>
          <a:xfrm>
            <a:off x="1066680" y="2438280"/>
            <a:ext cx="7496280" cy="5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7615-FF43-4C9C-B9A5-1DDC41675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K136B" descr=""/>
          <p:cNvPicPr/>
          <p:nvPr/>
        </p:nvPicPr>
        <p:blipFill>
          <a:blip r:embed="rId2"/>
          <a:stretch/>
        </p:blipFill>
        <p:spPr>
          <a:xfrm>
            <a:off x="3352680" y="4322880"/>
            <a:ext cx="3848400" cy="18954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4 Kmap Simplification for Three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is Kmap, we see an example of a group that wraps around the sides of a Kma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group tells us that the values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not relevant to the term of the function that is encompassed by the grou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is tell us about this term of the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663080"/>
            <a:ext cx="2133720" cy="10994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What about the green group in the top row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3B0F-6C39-4941-8F05-5D1FB83C8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K136B" descr=""/>
          <p:cNvPicPr/>
          <p:nvPr/>
        </p:nvPicPr>
        <p:blipFill>
          <a:blip r:embed="rId2"/>
          <a:stretch/>
        </p:blipFill>
        <p:spPr>
          <a:xfrm>
            <a:off x="3352680" y="4322880"/>
            <a:ext cx="3848400" cy="1895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4 Kmap Simplification for Three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reen group in the top row tells us that only the value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significant in that grou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see that it is complemented in that row, so the other term of the reduced function is   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reduced function 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K136E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2962440" cy="423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4664520"/>
            <a:ext cx="2666880" cy="10994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Recall that we had six minterms in our original function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X" descr=""/>
          <p:cNvPicPr/>
          <p:nvPr/>
        </p:nvPicPr>
        <p:blipFill>
          <a:blip r:embed="rId4"/>
          <a:stretch/>
        </p:blipFill>
        <p:spPr>
          <a:xfrm>
            <a:off x="6315120" y="2971800"/>
            <a:ext cx="2379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A5D6-6852-477A-BDD4-A9EC6448D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5 Kmap Simplification for Four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model can be extended to accommodate the 16 minterms that are produced by a four-input fun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format for a 16-minterm Kma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K137" descr=""/>
          <p:cNvPicPr/>
          <p:nvPr/>
        </p:nvPicPr>
        <p:blipFill>
          <a:blip r:embed="rId2"/>
          <a:stretch/>
        </p:blipFill>
        <p:spPr>
          <a:xfrm>
            <a:off x="1828800" y="3530520"/>
            <a:ext cx="52657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198F-FEC0-4671-82C1-63BB7D010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A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ication of Boolean functions leads to simpler (and usually faster) digital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ying Boolean functions using identities is time-consuming and error-pro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special section presents an easy, systematic method for reducing Boolean express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9A5E-CF18-44B0-8744-65A928B58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3A-6-MIN" descr=""/>
          <p:cNvPicPr/>
          <p:nvPr/>
        </p:nvPicPr>
        <p:blipFill>
          <a:blip r:embed="rId2"/>
          <a:stretch/>
        </p:blipFill>
        <p:spPr>
          <a:xfrm>
            <a:off x="1273320" y="2500200"/>
            <a:ext cx="6727680" cy="776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5 Kmap Simplification for Four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populated the Kmap shown below with the nonzero minterms from the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identify (only)  three groups in this Km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K137A" descr=""/>
          <p:cNvPicPr/>
          <p:nvPr/>
        </p:nvPicPr>
        <p:blipFill>
          <a:blip r:embed="rId3"/>
          <a:stretch/>
        </p:blipFill>
        <p:spPr>
          <a:xfrm>
            <a:off x="3394080" y="3884760"/>
            <a:ext cx="3794040" cy="2439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66680" y="4312080"/>
            <a:ext cx="1524240" cy="10994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Recall that groups can overla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15CB-EE98-4759-B952-B9FF8FA1B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5 Kmap Simplification for Four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three groups consist 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urple group entirely within the Kmap at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ink group that wraps the top and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en group that spans the cor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 we have three terms in our final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K137A" descr=""/>
          <p:cNvPicPr/>
          <p:nvPr/>
        </p:nvPicPr>
        <p:blipFill>
          <a:blip r:embed="rId2"/>
          <a:stretch/>
        </p:blipFill>
        <p:spPr>
          <a:xfrm>
            <a:off x="3394080" y="3884760"/>
            <a:ext cx="3794040" cy="2439720"/>
          </a:xfrm>
          <a:prstGeom prst="rect">
            <a:avLst/>
          </a:prstGeom>
          <a:ln w="0">
            <a:noFill/>
          </a:ln>
        </p:spPr>
      </p:pic>
      <p:pic>
        <p:nvPicPr>
          <p:cNvPr id="135" name="K137B" descr=""/>
          <p:cNvPicPr/>
          <p:nvPr/>
        </p:nvPicPr>
        <p:blipFill>
          <a:blip r:embed="rId3"/>
          <a:stretch/>
        </p:blipFill>
        <p:spPr>
          <a:xfrm>
            <a:off x="3381480" y="3811680"/>
            <a:ext cx="3967200" cy="2593800"/>
          </a:xfrm>
          <a:prstGeom prst="rect">
            <a:avLst/>
          </a:prstGeom>
          <a:ln w="0">
            <a:noFill/>
          </a:ln>
        </p:spPr>
      </p:pic>
      <p:pic>
        <p:nvPicPr>
          <p:cNvPr id="136" name="K137D" descr=""/>
          <p:cNvPicPr/>
          <p:nvPr/>
        </p:nvPicPr>
        <p:blipFill>
          <a:blip r:embed="rId4"/>
          <a:stretch/>
        </p:blipFill>
        <p:spPr>
          <a:xfrm>
            <a:off x="609480" y="4317840"/>
            <a:ext cx="240372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A935-DE63-4075-A287-4BBF936BA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5 Kmap Simplification for Four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possible to have a choice as to how to pick groups within a Kmap, while keeping the groups as large as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(different) functions that result from the groupings below are logically equival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K138B" descr=""/>
          <p:cNvPicPr/>
          <p:nvPr/>
        </p:nvPicPr>
        <p:blipFill>
          <a:blip r:embed="rId2"/>
          <a:srcRect l="6582" t="0" r="6582" b="17560"/>
          <a:stretch/>
        </p:blipFill>
        <p:spPr>
          <a:xfrm>
            <a:off x="4508640" y="3994200"/>
            <a:ext cx="3492360" cy="2330280"/>
          </a:xfrm>
          <a:prstGeom prst="rect">
            <a:avLst/>
          </a:prstGeom>
          <a:ln w="0">
            <a:noFill/>
          </a:ln>
        </p:spPr>
      </p:pic>
      <p:pic>
        <p:nvPicPr>
          <p:cNvPr id="141" name="K138C" descr=""/>
          <p:cNvPicPr/>
          <p:nvPr/>
        </p:nvPicPr>
        <p:blipFill>
          <a:blip r:embed="rId3"/>
          <a:srcRect l="5486" t="0" r="5486" b="17560"/>
          <a:stretch/>
        </p:blipFill>
        <p:spPr>
          <a:xfrm>
            <a:off x="777960" y="3994200"/>
            <a:ext cx="35654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4F48-F057-41C7-B898-2179AE01D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6 Don’t Care Condition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 circuits don’t always need to have an output defined for every possible in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some calculator displays consist of 7-segment LEDs.  These LEDs can displa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1 patterns, but only ten of them ar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 circuit is designed so that a particular set of inputs can never happen, we call this set of inputs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on’t car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i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are very helpful to us in Kmap circuit simplifi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C4F4-37EB-4DBA-ADA7-D63C16726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6 Don’t Care Condition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Kmap, a don’t care condition is identified by a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the cell of the minterm(s) for the don’t care inputs, as shown be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erforming the simplification, we are free to include or ignore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when creating our grou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K140E" descr=""/>
          <p:cNvPicPr/>
          <p:nvPr/>
        </p:nvPicPr>
        <p:blipFill>
          <a:blip r:embed="rId2"/>
          <a:stretch/>
        </p:blipFill>
        <p:spPr>
          <a:xfrm>
            <a:off x="2438280" y="3983040"/>
            <a:ext cx="38116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00E4-11A5-466A-B003-41103574E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K140A" descr=""/>
          <p:cNvPicPr/>
          <p:nvPr/>
        </p:nvPicPr>
        <p:blipFill>
          <a:blip r:embed="rId2"/>
          <a:stretch/>
        </p:blipFill>
        <p:spPr>
          <a:xfrm>
            <a:off x="2438280" y="3962520"/>
            <a:ext cx="3811680" cy="24350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6 Don’t Care Condition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ne grouping in the Kmap below, we have the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K140B" descr=""/>
          <p:cNvPicPr/>
          <p:nvPr/>
        </p:nvPicPr>
        <p:blipFill>
          <a:blip r:embed="rId3"/>
          <a:stretch/>
        </p:blipFill>
        <p:spPr>
          <a:xfrm>
            <a:off x="1752480" y="2490840"/>
            <a:ext cx="404028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E2E8-A816-4D7A-ADE9-E88DDF32E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K140C" descr=""/>
          <p:cNvPicPr/>
          <p:nvPr/>
        </p:nvPicPr>
        <p:blipFill>
          <a:blip r:embed="rId2"/>
          <a:stretch/>
        </p:blipFill>
        <p:spPr>
          <a:xfrm>
            <a:off x="2454120" y="3962520"/>
            <a:ext cx="3794400" cy="24080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6 Don’t Care Condition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ifferent grouping gives us the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K140D" descr=""/>
          <p:cNvPicPr/>
          <p:nvPr/>
        </p:nvPicPr>
        <p:blipFill>
          <a:blip r:embed="rId3"/>
          <a:stretch/>
        </p:blipFill>
        <p:spPr>
          <a:xfrm>
            <a:off x="1752480" y="2133720"/>
            <a:ext cx="404028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06A4-55C0-42E4-9EBD-AD474E764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6 Don’t Care Condition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ruth table 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different from the truth table 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, the values for which they differ, are the inputs for which we have don’t care condi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K140D" descr=""/>
          <p:cNvPicPr/>
          <p:nvPr/>
        </p:nvPicPr>
        <p:blipFill>
          <a:blip r:embed="rId2"/>
          <a:stretch/>
        </p:blipFill>
        <p:spPr>
          <a:xfrm>
            <a:off x="3122640" y="2971800"/>
            <a:ext cx="4040280" cy="633240"/>
          </a:xfrm>
          <a:prstGeom prst="rect">
            <a:avLst/>
          </a:prstGeom>
          <a:ln w="0">
            <a:noFill/>
          </a:ln>
        </p:spPr>
      </p:pic>
      <p:pic>
        <p:nvPicPr>
          <p:cNvPr id="163" name="K140B" descr=""/>
          <p:cNvPicPr/>
          <p:nvPr/>
        </p:nvPicPr>
        <p:blipFill>
          <a:blip r:embed="rId3"/>
          <a:stretch/>
        </p:blipFill>
        <p:spPr>
          <a:xfrm>
            <a:off x="3152880" y="1981080"/>
            <a:ext cx="4039920" cy="633600"/>
          </a:xfrm>
          <a:prstGeom prst="rect">
            <a:avLst/>
          </a:prstGeom>
          <a:ln w="0">
            <a:noFill/>
          </a:ln>
        </p:spPr>
      </p:pic>
      <p:pic>
        <p:nvPicPr>
          <p:cNvPr id="164" name="K140C" descr=""/>
          <p:cNvPicPr/>
          <p:nvPr/>
        </p:nvPicPr>
        <p:blipFill>
          <a:blip r:embed="rId4"/>
          <a:stretch/>
        </p:blipFill>
        <p:spPr>
          <a:xfrm>
            <a:off x="4648320" y="4495680"/>
            <a:ext cx="2916000" cy="1851120"/>
          </a:xfrm>
          <a:prstGeom prst="rect">
            <a:avLst/>
          </a:prstGeom>
          <a:ln w="0">
            <a:noFill/>
          </a:ln>
        </p:spPr>
      </p:pic>
      <p:pic>
        <p:nvPicPr>
          <p:cNvPr id="165" name="K140A" descr=""/>
          <p:cNvPicPr/>
          <p:nvPr/>
        </p:nvPicPr>
        <p:blipFill>
          <a:blip r:embed="rId5"/>
          <a:stretch/>
        </p:blipFill>
        <p:spPr>
          <a:xfrm>
            <a:off x="1181160" y="4449600"/>
            <a:ext cx="293364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F44E-8889-407C-8352-87CECB1C6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620120" cy="39625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maps provide an easy graphical method of simplifying Boolean express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Kmap is a matrix consisting of the outputs of the minterms of a Boolean fun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is section, we have discussed 2- 3- and 4-input Kmaps.  This method can be extended to any number of inputs through the use of multiple t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A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63E9-9392-46F6-A522-316F6718B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apping the rules of Kmap simplific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oupings can contain only 1s; no 0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oups can be formed only at right angles; diagonal groups are not allow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number of 1s in a group must be a power of 2 – even if it contains a single 1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groups must be made as large as possibl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oups can overlap and wrap around the sides of the Kmap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don’t care conditions when you ca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A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259B-9E0F-472B-8651-45B5D4C31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A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51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1953, Maurice Karnaugh was a telecommunications engineer at Bell Lab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51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le exploring the new field of digital logic and its application to the design of telephone circuits, he invented a graphical way of visualizing and then simplifying Boolean express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51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graphical representation, now known as a Karnaugh map, or Kmap, is named in his hon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2CD8-9F6E-4AE7-BD5D-524BD6C97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Arial"/>
              </a:rPr>
              <a:t>End of Chapter 3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C28E-E88C-4938-9109-BC9E0F085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2468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2 Description of Kmaps and Terminology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Kmap is a matrix consisting of rows and columns that represent the output values of a Boolean fun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utput values placed in each cell are derived from the minterm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a Boolean fun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int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product term that contains all of the function’s variables exactly once, either complemented or not complemen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0A6A-CE32-4F6D-AE2E-69A9A4360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the minterms for a function having the input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 the Boolean function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minterms 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2468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2 Description of Kmaps and Terminology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K131A" descr=""/>
          <p:cNvPicPr/>
          <p:nvPr/>
        </p:nvPicPr>
        <p:blipFill>
          <a:blip r:embed="rId2"/>
          <a:stretch/>
        </p:blipFill>
        <p:spPr>
          <a:xfrm>
            <a:off x="4343400" y="2062080"/>
            <a:ext cx="2943360" cy="376200"/>
          </a:xfrm>
          <a:prstGeom prst="rect">
            <a:avLst/>
          </a:prstGeom>
          <a:ln w="0">
            <a:noFill/>
          </a:ln>
        </p:spPr>
      </p:pic>
      <p:pic>
        <p:nvPicPr>
          <p:cNvPr id="56" name="K131B" descr=""/>
          <p:cNvPicPr/>
          <p:nvPr/>
        </p:nvPicPr>
        <p:blipFill>
          <a:blip r:embed="rId3"/>
          <a:stretch/>
        </p:blipFill>
        <p:spPr>
          <a:xfrm>
            <a:off x="5527800" y="2590920"/>
            <a:ext cx="3006720" cy="433440"/>
          </a:xfrm>
          <a:prstGeom prst="rect">
            <a:avLst/>
          </a:prstGeom>
          <a:ln w="0">
            <a:noFill/>
          </a:ln>
        </p:spPr>
      </p:pic>
      <p:pic>
        <p:nvPicPr>
          <p:cNvPr id="57" name="K130" descr=""/>
          <p:cNvPicPr/>
          <p:nvPr/>
        </p:nvPicPr>
        <p:blipFill>
          <a:blip r:embed="rId4"/>
          <a:stretch/>
        </p:blipFill>
        <p:spPr>
          <a:xfrm>
            <a:off x="3733920" y="3200400"/>
            <a:ext cx="28065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BA0E-C71F-473F-8243-29A156277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3581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ly, a function having three inputs, has the minterms that are shown in this diag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2468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2 Description of Kmaps and Terminology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K131" descr=""/>
          <p:cNvPicPr/>
          <p:nvPr/>
        </p:nvPicPr>
        <p:blipFill>
          <a:blip r:embed="rId2"/>
          <a:stretch/>
        </p:blipFill>
        <p:spPr>
          <a:xfrm>
            <a:off x="4267080" y="1676520"/>
            <a:ext cx="35100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343F-2585-4422-BA82-4FCE1EA1B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2468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2 Description of Kmaps and Terminology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Kmap has a cell for each minter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eans that it has a cell for each line for the truth table of a fun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ruth table for the functi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(x,y) = x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shown at the right along with its corresponding Kma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K132A" descr=""/>
          <p:cNvPicPr/>
          <p:nvPr/>
        </p:nvPicPr>
        <p:blipFill>
          <a:blip r:embed="rId2"/>
          <a:stretch/>
        </p:blipFill>
        <p:spPr>
          <a:xfrm>
            <a:off x="5715000" y="1676520"/>
            <a:ext cx="2733840" cy="2298600"/>
          </a:xfrm>
          <a:prstGeom prst="rect">
            <a:avLst/>
          </a:prstGeom>
          <a:ln w="0">
            <a:noFill/>
          </a:ln>
        </p:spPr>
      </p:pic>
      <p:pic>
        <p:nvPicPr>
          <p:cNvPr id="66" name="K132B" descr=""/>
          <p:cNvPicPr/>
          <p:nvPr/>
        </p:nvPicPr>
        <p:blipFill>
          <a:blip r:embed="rId3"/>
          <a:stretch/>
        </p:blipFill>
        <p:spPr>
          <a:xfrm>
            <a:off x="6102360" y="4191120"/>
            <a:ext cx="1974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33AC-018D-4061-A3D7-4D354324D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K133B" descr=""/>
          <p:cNvPicPr/>
          <p:nvPr/>
        </p:nvPicPr>
        <p:blipFill>
          <a:blip r:embed="rId2"/>
          <a:stretch/>
        </p:blipFill>
        <p:spPr>
          <a:xfrm>
            <a:off x="6095880" y="4191120"/>
            <a:ext cx="1965600" cy="1606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2468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2 Description of Kmaps and Terminology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495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nother example, we give the truth table and KMap for the function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(x,y) = x + 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function is equivalent to the OR of all of the minterms that have a value of 1.  Thu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K133A" descr=""/>
          <p:cNvPicPr/>
          <p:nvPr/>
        </p:nvPicPr>
        <p:blipFill>
          <a:blip r:embed="rId3"/>
          <a:stretch/>
        </p:blipFill>
        <p:spPr>
          <a:xfrm>
            <a:off x="5711760" y="1671480"/>
            <a:ext cx="2741760" cy="2308320"/>
          </a:xfrm>
          <a:prstGeom prst="rect">
            <a:avLst/>
          </a:prstGeom>
          <a:ln w="0">
            <a:noFill/>
          </a:ln>
        </p:spPr>
      </p:pic>
      <p:pic>
        <p:nvPicPr>
          <p:cNvPr id="72" name="K132D" descr=""/>
          <p:cNvPicPr/>
          <p:nvPr/>
        </p:nvPicPr>
        <p:blipFill>
          <a:blip r:embed="rId4"/>
          <a:stretch/>
        </p:blipFill>
        <p:spPr>
          <a:xfrm>
            <a:off x="1143000" y="4952880"/>
            <a:ext cx="464328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C209-AC06-41A3-8A98-BF079396D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K133B" descr=""/>
          <p:cNvPicPr/>
          <p:nvPr/>
        </p:nvPicPr>
        <p:blipFill>
          <a:blip r:embed="rId2"/>
          <a:stretch/>
        </p:blipFill>
        <p:spPr>
          <a:xfrm>
            <a:off x="5943600" y="4413240"/>
            <a:ext cx="1965240" cy="1606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3 Kmap Simplification for Two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 course, the minterm function that we derived from our Kmap was not in simplest term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’s what we started with in this 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can, however, reduce our complicated expression to its simplest terms by finding adjacent 1s in the Kmap that can be collected into groups that are powers of tw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3356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312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ur example, we have two such group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>
              <a:lnSpc>
                <a:spcPct val="100000"/>
              </a:lnSpc>
              <a:spcBef>
                <a:spcPts val="3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find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3:57:00Z</dcterms:created>
  <dc:creator>Null &amp; Lobur</dc:creator>
  <dc:description/>
  <dc:language>en-US</dc:language>
  <cp:lastModifiedBy>User</cp:lastModifiedBy>
  <dcterms:modified xsi:type="dcterms:W3CDTF">2006-01-10T02:48:43Z</dcterms:modified>
  <cp:revision>264</cp:revision>
  <dc:subject/>
  <dc:title>Chapter 2</dc:title>
</cp:coreProperties>
</file>