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1.jpeg" ContentType="image/jpe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7B94-A396-4983-8175-CA6C11F5C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18CB-F42F-4D6F-9FFA-0F20DF151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7E45-9152-4733-A3D1-801C9878B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A692-62E2-479B-B142-03AE14006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2B49-ACF2-4BD3-BF9F-B0DB5D8B9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6B8E-7580-4CA6-8612-CFB1BFA0B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E6A7-4D43-426A-9A72-7C564406F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E9EA-106C-42EA-83F3-D46EDEADD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B260-2120-446B-860D-D9E649D7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9CD5-A309-422F-A0C0-FCE1CF97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0EC5-11A0-4F30-A70E-F0F547F4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03C7-3CCC-4937-ACDD-78D28577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76195-979F-4439-95E0-188A6BD2AC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76920" y="3657600"/>
            <a:ext cx="4038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495680" y="46479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nput/Output and Storage System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BFD9C-629A-4E4D-96F3-5958FE7116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80880" y="14479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/O can be controlled in four general way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grammed I/O reserves a register for each I/O device.  Each register is continually polled to detect data arriva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terrupt-Driven I/O allows the CPU to do other things until I/O is requested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rect Memory Access (DMA) offloads I/O processing to a special-purpose chip that takes care of the detai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hannel I/O uses dedicated I/O processor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4 I/O Architectur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963FF-8770-41B8-9A9A-44F52DCDA0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an idealized I/O subsystem that uses interrup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device connects its interrupt line to the interrupt controll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4 I/O Architectur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7-2" descr=""/>
          <p:cNvPicPr/>
          <p:nvPr/>
        </p:nvPicPr>
        <p:blipFill>
          <a:blip r:embed="rId2"/>
          <a:srcRect l="0" t="2284" r="2970" b="10944"/>
          <a:stretch/>
        </p:blipFill>
        <p:spPr>
          <a:xfrm>
            <a:off x="1523880" y="2819520"/>
            <a:ext cx="7467840" cy="334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92120" y="2588040"/>
            <a:ext cx="198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troller signals the CPU when any of the interrupt lines are asser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A8081-03C7-4F9F-ACD2-E9501135D9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8052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call from Chapter 4 that in a system that uses interrupts, the status of the interrupt signal is checked at the top of the fetch-decode-execute cycl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particular code that is executed whenever an interrupt occurs is determined by a set of addresses called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interrupt vector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that are stored in low memory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system state is saved before the interrupt service routine is executed and is restored afterward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4 I/O Architectur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0E52B-1ABA-4048-873F-7C7D28FE66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80880" y="1904760"/>
            <a:ext cx="3200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a DMA configur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ce that the DMA and the CPU share the bu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MA runs at a higher priority and steals memory cycles from the CP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4 I/O Architectur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7-5" descr=""/>
          <p:cNvPicPr/>
          <p:nvPr/>
        </p:nvPicPr>
        <p:blipFill>
          <a:blip r:embed="rId2"/>
          <a:stretch/>
        </p:blipFill>
        <p:spPr>
          <a:xfrm>
            <a:off x="3809880" y="1676520"/>
            <a:ext cx="4962600" cy="44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80A51-ECAC-4A06-AEBB-8FD574F900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Very large systems employ channel I/O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hannel I/O consists of one or more I/O processors (IOPs) that control various channel path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lower devices such as terminals and printers are combined (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ultiplexed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) into a single faster channe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n IBM mainframes, multiplexed channels are called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ultiplexor channel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, the faster ones are called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selector channel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4 I/O Architectur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7F570-A695-45F9-986F-80DD78479C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80520" y="1447560"/>
            <a:ext cx="81536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hannel I/O is distinguished from DMA by the intelligence of the IOP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IOP negotiates protocols, issues device commands, translates storage coding to memory coding, and can transfer entire files or groups of files independent of the host CPU. 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host has only to create the program instructions for the I/O operation and tell the IOP where to find the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4 I/O Architectur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F41C3-7F2B-47EF-AAEF-4BAD4B8D6F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s is a channel I/O configuration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4 I/O Architectur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7-3" descr=""/>
          <p:cNvPicPr/>
          <p:nvPr/>
        </p:nvPicPr>
        <p:blipFill>
          <a:blip r:embed="rId2"/>
          <a:stretch/>
        </p:blipFill>
        <p:spPr>
          <a:xfrm>
            <a:off x="838080" y="1754280"/>
            <a:ext cx="6701040" cy="45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BBE66-9EFD-40D2-9684-677AF4A3CA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80520" y="1447560"/>
            <a:ext cx="8153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haracter I/O devices process one byte (or character) at a tim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include modems, keyboards, and m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boards are usually connected through an interrupt-driven I/O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lock I/O devices handle bytes in group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mass storage devices (disk and tape) are block I/O devi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 I/O systems are most efficiently connected through DMA or channel I/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4 I/O Architectur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DCAAD-6B73-439D-810A-38B45383C4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80880" y="144756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/O buses, unlike memory buses, operate asynchronously. Requests for bus access must be arbitrated among the devices involved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s control lines activate the devices when they are needed, raise signals when errors have occurred, and reset devices when necessary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number of data lines is th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dth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of the bu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bus clock coordinates activities and provides bit cell boundari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4 I/O Architectur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703F0-ED9D-447E-B4D7-13110A1A08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80520" y="14479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a generic DMA configuration showing how the DMA circuit connects to a data 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4 I/O Architectur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Fig_7-8" descr=""/>
          <p:cNvPicPr/>
          <p:nvPr/>
        </p:nvPicPr>
        <p:blipFill>
          <a:blip r:embed="rId2"/>
          <a:stretch/>
        </p:blipFill>
        <p:spPr>
          <a:xfrm>
            <a:off x="762120" y="2390760"/>
            <a:ext cx="736740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571500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hapter 7 Objectiv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derstand how I/O systems work, including  I/O methods and architectur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come familiar with storage media, and the differences in their respective forma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derstand how RAID improves disk performance and reliability, and which RAID systems are most useful toda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familiar with emerging data storage technologies and the barriers that remain to be overcom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07FD-6551-4226-8973-CB6F5C71AC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3EC9-7BA2-4E1D-8C13-0299876268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80520" y="1447560"/>
            <a:ext cx="807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how a bus connects to a disk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4 I/O Architectur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7-6" descr=""/>
          <p:cNvPicPr/>
          <p:nvPr/>
        </p:nvPicPr>
        <p:blipFill>
          <a:blip r:embed="rId2"/>
          <a:stretch/>
        </p:blipFill>
        <p:spPr>
          <a:xfrm>
            <a:off x="380880" y="2209680"/>
            <a:ext cx="8218440" cy="39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901D6-ECDB-4795-A1CD-6B4EC584D8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80520" y="1447920"/>
            <a:ext cx="16765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ing diagrams, such as this one, define bus operation in det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4 I/O Architectur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7-7" descr=""/>
          <p:cNvPicPr/>
          <p:nvPr/>
        </p:nvPicPr>
        <p:blipFill>
          <a:blip r:embed="rId2"/>
          <a:stretch/>
        </p:blipFill>
        <p:spPr>
          <a:xfrm>
            <a:off x="2133720" y="1447920"/>
            <a:ext cx="6746760" cy="48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885D9-34F3-4502-9AC7-24B82705B2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382320"/>
            <a:ext cx="6553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5 Data Transmission Mod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213372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ytes can be conveyed from one point to another by sending their encoding signals simultaneously using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arallel data transmiss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r by sending them one bit at a time in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rial data transmiss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7a_1" descr=""/>
          <p:cNvPicPr/>
          <p:nvPr/>
        </p:nvPicPr>
        <p:blipFill>
          <a:blip r:embed="rId2"/>
          <a:srcRect l="0" t="3758" r="0" b="4930"/>
          <a:stretch/>
        </p:blipFill>
        <p:spPr>
          <a:xfrm>
            <a:off x="3733920" y="3429000"/>
            <a:ext cx="4462200" cy="29718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143000" y="3395880"/>
            <a:ext cx="2362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2600" indent="-282600"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 data transmission for a printer resembles the signal protocol of a memory b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40A43-BC2A-4BBB-83BF-3571739003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382320"/>
            <a:ext cx="6553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5 Data Transmission Mod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358128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parallel data transmission, the interface requires one conductor for each bi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allel cables are fatter than serial cabl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red with parallel data interfaces, serial communications interface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 fewer condu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less susceptible to atten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transmit data farther and fa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5333040"/>
            <a:ext cx="6858000" cy="76428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Serial communications interfaces are suitable for time-sensitive (</a:t>
            </a:r>
            <a:r>
              <a:rPr b="1" i="1" lang="en-US" sz="2200" spc="-1" strike="noStrike">
                <a:solidFill>
                  <a:srgbClr val="cc3300"/>
                </a:solidFill>
                <a:latin typeface="Times New Roman"/>
              </a:rPr>
              <a:t>isochronous</a:t>
            </a: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) data such as voice and vide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D30B1-B2E6-47D7-B49B-753C194FC7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80880" y="144756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gnetic disks offer large amounts of durable storage that can be accessed quickly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sk drives are called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random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or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direct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access storage devices,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because blocks of data can be accessed according to their location on the dis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erm was coined when all other durable storage (e.g., tape) was sequ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gnetic disk organization is shown on the following slid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456840" y="382320"/>
            <a:ext cx="6553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6 Magnetic Disk Technolog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8CC7D-14AA-403F-8CD7-C4AF5F7338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80520" y="1447920"/>
            <a:ext cx="2057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k tracks are numbered from the outside edge, starting with z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6840" y="382320"/>
            <a:ext cx="6553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6 Magnetic Disk Technolog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7-9" descr=""/>
          <p:cNvPicPr/>
          <p:nvPr/>
        </p:nvPicPr>
        <p:blipFill>
          <a:blip r:embed="rId2"/>
          <a:stretch/>
        </p:blipFill>
        <p:spPr>
          <a:xfrm>
            <a:off x="2725560" y="1338120"/>
            <a:ext cx="4818240" cy="53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64F98-44D2-4A22-B4FF-1FC614A231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80880" y="1447920"/>
            <a:ext cx="3200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rd disk platters are mounted on spindle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ad/write heads are mounted on a comb that swings radially to read the disk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456840" y="382320"/>
            <a:ext cx="6553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6 Magnetic Disk Technolog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7-10" descr=""/>
          <p:cNvPicPr/>
          <p:nvPr/>
        </p:nvPicPr>
        <p:blipFill>
          <a:blip r:embed="rId2"/>
          <a:stretch/>
        </p:blipFill>
        <p:spPr>
          <a:xfrm>
            <a:off x="3581280" y="1905120"/>
            <a:ext cx="5054760" cy="36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EB60F-9847-40D1-9015-C207FB7DA5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80880" y="1447560"/>
            <a:ext cx="3200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rotating disk forms a logical cylinder beneath the read/write head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ata blocks are addressed by their cylinder, surface, and sector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456840" y="382320"/>
            <a:ext cx="6553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6 Magnetic Disk Technolog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7-10" descr=""/>
          <p:cNvPicPr/>
          <p:nvPr/>
        </p:nvPicPr>
        <p:blipFill>
          <a:blip r:embed="rId2"/>
          <a:stretch/>
        </p:blipFill>
        <p:spPr>
          <a:xfrm>
            <a:off x="3581280" y="1905120"/>
            <a:ext cx="5054760" cy="36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D81A4-3319-445D-86C1-47B1EA4E27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80520" y="1447920"/>
            <a:ext cx="8153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re are a number of electromechanical properties of hard disk drives that determine how fast its data can be access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im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the time that it takes for a disk arm to move into position over the desired cylind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otational dela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the time that it takes for the desired sector to move into position beneath the read/write hea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ek time + rotational delay =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access tim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456840" y="382320"/>
            <a:ext cx="6553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6 Magnetic Disk Technolog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FE868-AEE1-47EA-B44D-FD98D5E56C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80520" y="1447920"/>
            <a:ext cx="8153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ransfer rat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gives us the rate at which data can be read from the disk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verage latenc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a function of the rotational spee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Mean Time To Failure (MTTF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a statistically-determined value often calculated experimentall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usually doesn’t tell us much about the actual expected life of the disk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ign lif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ually more realist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6840" y="382320"/>
            <a:ext cx="6553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6 Magnetic Disk Technolog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Lat" descr=""/>
          <p:cNvPicPr/>
          <p:nvPr/>
        </p:nvPicPr>
        <p:blipFill>
          <a:blip r:embed="rId2"/>
          <a:stretch/>
        </p:blipFill>
        <p:spPr>
          <a:xfrm>
            <a:off x="1860480" y="2743200"/>
            <a:ext cx="4944960" cy="13240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990720" y="5896440"/>
            <a:ext cx="6933960" cy="42912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Figure 7.11 in the text shows a sample disk specificat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B6E3A-AB0D-4EE0-8A92-9234788A25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1 Introdu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storage and retrieval is one of the primary functions of computer system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could easily make the argument that computers are more useful to us as data storage and retrieval devices than they are as computational machi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omputers have I/O devices connected to them, and to achieve good performance I/O should be kept to a minimum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studying I/O, we seek to understand the different types of I/O devices as well as how they work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50FFE-ADBC-4897-BF72-48E4B54A90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80880" y="14479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loppy (flexible) disks are organized in the same way as hard disks, with concentric tracks that are divided into secto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ysical and logical limitations restrict floppies to much lower densities than hard disk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ajor logical limitation of the DOS/Windows floppy diskette is the organization of its file allocation table (FAT)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AT gives the status of each sector on the disk: Free, in use, damaged, reserved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456840" y="382320"/>
            <a:ext cx="6553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6 Magnetic Disk Technolog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54643-1528-4A25-BE2A-7D82ECE91E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80880" y="144756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 a standard 1.44MB floppy, the FAT is limited to nine 512-byte sectors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two copies of the F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re are 18 sectors per track and 80 tracks on each surface of a floppy, for a total of 2880 sectors on the disk.  So each FAT entry needs at least 12 bits (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 2048 &lt; 2880 &lt;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4096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s, FAT entries for disks smaller than 10MB are 12 bits, and the organization is called FAT1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T 16 is employed for disks larger than 10M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56840" y="382320"/>
            <a:ext cx="6553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6 Magnetic Disk Technolog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0789D-8899-4919-9332-8F81F5305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80520" y="1447560"/>
            <a:ext cx="81536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disk directory associates logical file names with physical disk locat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rectories contain a file name and the file’s first FAT entr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file spans more than one sector (or cluster), the FAT contains a pointer to the next cluster (and FAT entry) for the fi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AT is read like a linked list until the &lt;EOF&gt; entry is found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456840" y="382320"/>
            <a:ext cx="6553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6 Magnetic Disk Technolog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C3DC0-0502-41C5-A2B3-FE55F796C3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80880" y="14479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irectory entry says that a file we want to read starts at sector 121 in the FAT fragment shown be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2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tors 121, 124, 126, and 122 are read.  After each sector is read, its FAT entry is to find the next sector occupied by the fi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2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t the FAT entry for sector 122, we find the end-of-file marker &lt;EOF&gt;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56840" y="382320"/>
            <a:ext cx="6553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6 Magnetic Disk Technolog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7-12" descr=""/>
          <p:cNvPicPr/>
          <p:nvPr/>
        </p:nvPicPr>
        <p:blipFill>
          <a:blip r:embed="rId2"/>
          <a:stretch/>
        </p:blipFill>
        <p:spPr>
          <a:xfrm>
            <a:off x="304920" y="2362320"/>
            <a:ext cx="8448480" cy="13237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990720" y="5485320"/>
            <a:ext cx="6933960" cy="42912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How many disk accesses are required to read this file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8587E-0357-4CD2-808C-14163C319D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tical disks provide large storage capacities very inexpensivel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come in a number of varieties including CD-ROM, DVD, and WOR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y large computer installations produce document output on optical disk rather than on paper. This idea is called COLD--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Computer Output Laser Disk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is estimated that optical disks can endure for a hundred years. Other media are good for only a decade-- at bes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456840" y="382320"/>
            <a:ext cx="6553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7 Optical Disk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A4784-53B8-43A4-B288-7A6C2D78CD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D-ROMs were designed by the music industry in the 1980s, and later adapted to dat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history is reflected by the fact that data is recorded in a single spiral track, starting from the center of the disk and spanning outwar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inary ones and zeros are delineated by bumps in the polycarbonate disk substrate. The transitions between pits and lands define binary on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you could unravel a full CD-ROM track, it would be nearly five miles long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456840" y="382320"/>
            <a:ext cx="6553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7 Optical Disk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87CD2-77AE-45E9-86D2-6D6C2C8659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80520" y="14475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logical data format for a CD-ROM is much more complex than that of a magnetic disk. (See the text for details.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erent formats are provided for data and music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wo levels of error correction are provided for the data forma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cause of this, a CD holds at most 650MB of data, but can contain as much as 742MB of music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456840" y="382320"/>
            <a:ext cx="6553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7 Optical Disk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CFB92-A481-413B-A73D-439D2BC62D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VDs can be thought of as quad-density CD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eties include single sided, single layer, single sided double layer, double sided double layer, and double sided double lay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re a CD-ROM can hold at most 650MB of data, DVDs can hold as much as 17GB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e of the reasons for this is that DVD employs a laser that has a shorter wavelength than the CD’s las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allows pits and land to be closer together and the spiral track to be wound tight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456840" y="382320"/>
            <a:ext cx="6553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7 Optical Disk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E1569-3D58-49F6-B008-2A5849732E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shorter wavelength light can read and write bytes in greater densities than can be done by a longer wavelength las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is one reason that DVD’s density is greater than that of C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manufacture of blue-violet lasers can now be done economically, bringing about the next generation of laser disk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wo incompatible formats, HD-CD and Blu-Ray, are competing for market dominanc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456840" y="382320"/>
            <a:ext cx="6553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7 Optical Disk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8D933-1558-4784-BE12-692937CCCF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880" y="144756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u-Ray was developed by a consortium of nine companies that includes Sony, Samsung, and Pione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um capacity of a single layer Blu-Ray disk is 25G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D-DVD was developed under the auspices of the DVD Forum with NEC and Toshiba leading the effor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um capacity of a single layer HD-DVD is 15G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difference between the two is that HD-DVD is backward compatible with red laser DVDs, and Blu-Ray is no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456840" y="382320"/>
            <a:ext cx="6553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7 Optical Disk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E5BE3-D1F1-4AC5-9F7F-A3C6F3452E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2 I/O and Performan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luggish I/O throughput can have a ripple effect, dragging down overall system performanc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especially true when virtual memory is invol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fastest processor in the world is of little use if it spends most of its time waiting for dat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we really understand what’s happening in a computer system we can make the best possible use of its resourc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9845E-A1A0-4A04-AE46-A44F7EF5A4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ue-violet laser disks have also been designed for use in the data cent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intention is to provide a means for long term data storage and retriev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wo types are now dominant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ny’s Professional Disk for Data (PDD) that can store 23GB on one disk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smon’s Ultra Density Optical (UDO) that can hold up to 30G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is too soon to tell which of these technologies will emerge as the winn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456840" y="382320"/>
            <a:ext cx="6553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7 Optical Disk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6CBAF-2FF2-4B3C-966B-2F5EFA375D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80880" y="14479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rst-generation magnetic tape was not much more than wide analog recording tape, having capacities under 11MB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was usually written in nine vertical track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456840" y="382320"/>
            <a:ext cx="6553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8 Magnetic Tap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7-17" descr=""/>
          <p:cNvPicPr/>
          <p:nvPr/>
        </p:nvPicPr>
        <p:blipFill>
          <a:blip r:embed="rId2"/>
          <a:stretch/>
        </p:blipFill>
        <p:spPr>
          <a:xfrm>
            <a:off x="262080" y="3352680"/>
            <a:ext cx="850104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8AB3B-9735-402E-95FD-FFADFAA003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day’s tapes are digital, and provide multiple gigabytes of data storag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wo dominant recording methods ar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rpentin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helical sca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which are distinguished by how the read-write head passes over the recording mediu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rpentine recording is used in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digital linear tap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DLT) an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Quarter inch cartridg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QIC) tape system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Digital audio tap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DAT) systems employ helical scan recording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456840" y="382320"/>
            <a:ext cx="6553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8 Magnetic Tap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62120" y="5744160"/>
            <a:ext cx="7467480" cy="42912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These two recording methods are shown on the next slid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AE212-7215-4F2D-BBC8-EE7DB4A436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2320"/>
            <a:ext cx="6553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8 Magnetic Tap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7-18" descr=""/>
          <p:cNvPicPr/>
          <p:nvPr/>
        </p:nvPicPr>
        <p:blipFill>
          <a:blip r:embed="rId2"/>
          <a:stretch/>
        </p:blipFill>
        <p:spPr>
          <a:xfrm>
            <a:off x="304920" y="1371600"/>
            <a:ext cx="5302080" cy="331488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5486400" y="18277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pen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81080" y="52567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lical Scan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Fig7-23_a" descr=""/>
          <p:cNvPicPr/>
          <p:nvPr/>
        </p:nvPicPr>
        <p:blipFill>
          <a:blip r:embed="rId3"/>
          <a:stretch/>
        </p:blipFill>
        <p:spPr>
          <a:xfrm>
            <a:off x="4495680" y="3013200"/>
            <a:ext cx="4381560" cy="3116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382F0-7E8E-43F1-94DE-F5BAE91585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umerous incompatible tape formats emerged over the yea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times even different models of the same manufacturer’s tape drives were incompatibl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nally, in 1997, HP, IBM, and Seagate collaboratively invented a best-of-breed tape standar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called this new tape format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Linear Tape Ope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LT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because the specification is openly availa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456840" y="382320"/>
            <a:ext cx="6553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8 Magnetic Tap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EA2F1-ED90-4F54-8115-C68ACCFDA2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TO, as the name implies, is a linear digital tape forma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pecification allowed for the refinement of the technology through four “generations.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neration 3 was released in 2004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compression, the tapes support a transfer rate of 80MB per second and each tape can hold up to 400G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TO supports several levels of error correction, providing superb reliabilit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pe has a reputation for being an error-prone medi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456840" y="382320"/>
            <a:ext cx="6553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8 Magnetic Tap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03131-9FA7-4231-9706-74BACDCCC8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ID, an acronym for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dundant Array of Independent Disk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was invented to address problems of disk reliability, cost, and performanc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RAID, data is stored across many disks, with extra disks added to the array to provide error correction (redundancy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inventors of RAID, David Patterson, Garth Gibson, and Randy Katz, provided a RAID taxonomy that has persisted for a quarter of a century, despite many efforts to redefine i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456840" y="382320"/>
            <a:ext cx="6553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9 RAI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77404-BF58-43B3-95EF-15C7730DB3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ID Level 0, also known a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drive spann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provides improved performance, but no redundanc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ta is written in blocks across the entire arr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6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disadvantage of RAID 0 is in its low reliability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456840" y="382320"/>
            <a:ext cx="6553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9 RAI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7-20" descr=""/>
          <p:cNvPicPr/>
          <p:nvPr/>
        </p:nvPicPr>
        <p:blipFill>
          <a:blip r:embed="rId2"/>
          <a:stretch/>
        </p:blipFill>
        <p:spPr>
          <a:xfrm>
            <a:off x="623880" y="2819520"/>
            <a:ext cx="760572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36637-6629-4EED-A6E0-9BA245CBF1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ID Level 1, also known a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disk mirror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provides 100% redundancy, and good performanc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wo matched sets of disks contain the same dat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6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disadvantage of RAID 1 is cos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Raid1a" descr=""/>
          <p:cNvPicPr/>
          <p:nvPr/>
        </p:nvPicPr>
        <p:blipFill>
          <a:blip r:embed="rId2"/>
          <a:stretch/>
        </p:blipFill>
        <p:spPr>
          <a:xfrm>
            <a:off x="685800" y="2913120"/>
            <a:ext cx="7620120" cy="233676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6840" y="382320"/>
            <a:ext cx="6553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9 RAI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3025A-F5F8-4D92-A166-D416CE30E1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RAID Level 2 configuration consists of a set of data drives, and a set of Hamming code driv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2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mming code drives provide error correction for the data driv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AID 2 performance is poor and the cost is relatively high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456840" y="382320"/>
            <a:ext cx="6553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9 RAI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7-22" descr=""/>
          <p:cNvPicPr/>
          <p:nvPr/>
        </p:nvPicPr>
        <p:blipFill>
          <a:blip r:embed="rId2"/>
          <a:stretch/>
        </p:blipFill>
        <p:spPr>
          <a:xfrm>
            <a:off x="1550880" y="2666880"/>
            <a:ext cx="5840640" cy="31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7B27-BD6A-42D7-8B82-15BE6CACC8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3 Amdahl’s Law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153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overall performance of a system is a result of the interaction of all of its componen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stem performance is most effectively improved when the performance of the most heavily used components is improved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idea is quantified by Amdahl’s Law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Al" descr=""/>
          <p:cNvPicPr/>
          <p:nvPr/>
        </p:nvPicPr>
        <p:blipFill>
          <a:blip r:embed="rId2"/>
          <a:stretch/>
        </p:blipFill>
        <p:spPr>
          <a:xfrm>
            <a:off x="990720" y="4253040"/>
            <a:ext cx="3071520" cy="13096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14800" y="4158000"/>
            <a:ext cx="4648320" cy="16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11448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is the overall speedu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is the fraction of work performed by a faster component;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is the speedup of the faster compon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30BE0-A101-48C6-BB57-9290681AC0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ID Level 3 stripes bits across a set of data drives and provides a separate disk for parit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rity is the XOR of the data bit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16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AID 3 is not suitable for commercial applications, but is good for personal system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456840" y="382320"/>
            <a:ext cx="6553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9 RAI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7-23" descr=""/>
          <p:cNvPicPr/>
          <p:nvPr/>
        </p:nvPicPr>
        <p:blipFill>
          <a:blip r:embed="rId2"/>
          <a:stretch/>
        </p:blipFill>
        <p:spPr>
          <a:xfrm>
            <a:off x="380880" y="2855880"/>
            <a:ext cx="813600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52449-6241-41ED-9BD6-EB163F4B71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ID Level 4 is like adding parity disks to RAID 0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ta is written in blocks across the data disks, and a parity block is written to the redundant driv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AID 4 would be feasible if all record blocks were the same siz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456840" y="382320"/>
            <a:ext cx="6553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9 RAI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7-24" descr=""/>
          <p:cNvPicPr/>
          <p:nvPr/>
        </p:nvPicPr>
        <p:blipFill>
          <a:blip r:embed="rId2"/>
          <a:stretch/>
        </p:blipFill>
        <p:spPr>
          <a:xfrm>
            <a:off x="291960" y="2749680"/>
            <a:ext cx="854712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EBF2A-4D56-4644-BFEC-912284DB00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ID Level 5 is RAID 4 with distributed parit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ith distributed parity, some accesses can be serviced concurrently, giving good performance and high reliability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AID 5 is used in many commercial system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456840" y="382320"/>
            <a:ext cx="6553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9 RAI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7-25" descr=""/>
          <p:cNvPicPr/>
          <p:nvPr/>
        </p:nvPicPr>
        <p:blipFill>
          <a:blip r:embed="rId2"/>
          <a:stretch/>
        </p:blipFill>
        <p:spPr>
          <a:xfrm>
            <a:off x="914400" y="2822400"/>
            <a:ext cx="6810480" cy="29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8C5C-1BA0-4A0A-8070-8958B75B01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ID Level 6 carries two levels of error protection over striped data: Reed-Soloman and parit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t can tolerate the loss of two disk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1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AID 6 is write-intensive, but highly fault-tolera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456840" y="382320"/>
            <a:ext cx="6553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9 RAI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7-26" descr=""/>
          <p:cNvPicPr/>
          <p:nvPr/>
        </p:nvPicPr>
        <p:blipFill>
          <a:blip r:embed="rId2"/>
          <a:stretch/>
        </p:blipFill>
        <p:spPr>
          <a:xfrm>
            <a:off x="457200" y="2895480"/>
            <a:ext cx="8236080" cy="27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C6974-71BD-454C-AD0B-FE28F5FF21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380880" y="1447920"/>
            <a:ext cx="83822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 parity RAID (RAID DP) employs pairs of over- lapping parity blocks that provide linearly independent parity 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456840" y="382320"/>
            <a:ext cx="6553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9 RAI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Fig_7-31_ECOA2E_ppt" descr=""/>
          <p:cNvPicPr/>
          <p:nvPr/>
        </p:nvPicPr>
        <p:blipFill>
          <a:blip r:embed="rId2"/>
          <a:stretch/>
        </p:blipFill>
        <p:spPr>
          <a:xfrm>
            <a:off x="152280" y="2666880"/>
            <a:ext cx="868680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C4843-F38E-4AD4-A542-5DC31F0F69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380520" y="144756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ke RAID 6, RAID DP can tolerate the loss of two disk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use of simple parity functions provides RAID DP with better performance than RAID 6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 course, because two parity functions are involved, RAID DP’s performance is somewhat degraded from that of RAID 5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 DP is also known as EVENODD, diagonal parity RAID, RAID 5DP, advanced data guarding RAID (RAID ADG) and-- erroneously-- RAID 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456840" y="382320"/>
            <a:ext cx="6553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9 RAI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D6BD5-7F00-4024-AD19-2A6DA6842B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3805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rge systems consisting of many drive arrays may employ various RAID levels, depending on the criticality of the data on the driv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isk array that provides program workspace (say for file sorting) does not require high fault toleranc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itical, high-throughput files can benefit from combining RAID 0 with RAID 1, called RAID 10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ep in mind that a higher RAID level does not necessarily mean a “better” RAID level.  It all depends upon the needs of the applications that use the disk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456840" y="382320"/>
            <a:ext cx="6553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9 RAI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98589-DDC2-4F31-886B-53C2A90D44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380520" y="144792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ances in technology have defied all efforts to define the ultimate upper limit for magnetic disk storag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1970s, the upper limit was thought to be around 2Mb/i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day’s disks commonly support 20Gb/i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rovements have occurred in several different technologies including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erials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gneto-optical recording hea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ror correcting co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457200" y="382320"/>
            <a:ext cx="68580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10 The Future of Data Storag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CBA4F-D466-4637-930E-0BEB55D64F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380520" y="1447560"/>
            <a:ext cx="8153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 data densities increase, bit cells consist of proportionately fewer magnetic grai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re is a point at which there are too few grains to hold a value, and a 1 might spontaneously change to a 0, or vice vers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point is called the superparamagnetic limi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006, the superparamagnetic limit is thought to lie between 150Gb/i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200Gb/i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en if this limit is wrong by a few orders of magnitude, the greatest gains in magnetic storage have probably already been realiz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57200" y="382320"/>
            <a:ext cx="68580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10 The Future of Data Storag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59A47-82C7-4061-B211-735C917E6C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3805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exponential gains in data storage most likely will occur through the use of totally new technologi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earch into finding suitable replacements for magnetic disks is taking place on several fron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of the more interesting technologies includ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logical mate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ographic systems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-electro-mechanical devi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title"/>
          </p:nvPr>
        </p:nvSpPr>
        <p:spPr>
          <a:xfrm>
            <a:off x="457200" y="382320"/>
            <a:ext cx="68580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10 The Future of Data Storag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F26D2-6BF1-4C8D-81DA-A085F901C4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3 Amdahl’s Law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1536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mdahl’s Law gives us a handy way to estimate the performance improvement we can expect when we upgrade a system componen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 a large system, suppose we can upgrade a CPU to make it 50% faster for $10,000 or upgrade its disk drives for $7,000 to make them 250% faster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cesses spend 70% of their time running in the CPU and 30% of their time waiting for disk servic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 upgrade of which component would offer the greater benefit for the lesser cost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5675C-8921-48A9-8561-6E40312AD4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ent day biological data storage systems combine organic compounds such as proteins or oils with inorganic (magentizable) substanc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rly prototypes have encouraged the expectation that densities of 1Tb/i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re attaina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 course, the ultimate biological data storage medium is DN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illions of messages can be stored in a tiny strand of DN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actical DNA-based data storage is most likely decades awa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457200" y="382320"/>
            <a:ext cx="68580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10 The Future of Data Storag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798E7-39BD-48B4-978A-BEA629BECF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380880" y="14479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ographic storage uses a pair of laser beams to etch a three-dimensional hologram onto a polymer medi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title"/>
          </p:nvPr>
        </p:nvSpPr>
        <p:spPr>
          <a:xfrm>
            <a:off x="457200" y="382320"/>
            <a:ext cx="68580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10 The Future of Data Storag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FIG" descr=""/>
          <p:cNvPicPr/>
          <p:nvPr/>
        </p:nvPicPr>
        <p:blipFill>
          <a:blip r:embed="rId2"/>
          <a:stretch/>
        </p:blipFill>
        <p:spPr>
          <a:xfrm>
            <a:off x="380880" y="2317680"/>
            <a:ext cx="842508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F8152-81E3-46EF-B683-59C5B6F475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380880" y="14479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is retrieved by passing the reference beam through the hologram, thereby reproducing the original coded object be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457200" y="382320"/>
            <a:ext cx="68580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10 The Future of Data Storag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Fig_7-33_ECOA2E_ppt" descr=""/>
          <p:cNvPicPr/>
          <p:nvPr/>
        </p:nvPicPr>
        <p:blipFill>
          <a:blip r:embed="rId2"/>
          <a:srcRect l="12229" t="64312" r="13670" b="0"/>
          <a:stretch/>
        </p:blipFill>
        <p:spPr>
          <a:xfrm>
            <a:off x="533520" y="2743200"/>
            <a:ext cx="784836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BC8BB-7BE1-4A9F-AB5A-DE703D7C1B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cause holograms are three-dimensional, tremendous data densities are possi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erimental systems have achieved over 30Gb/i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with transfer rates of around 1GBp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ddition, holographic storage is content addressa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ans that there is no need for a file directory on the disk. Accordingly, access time is reduc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major challenge is in finding an inexpensive, stable, rewriteable holographic mediu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457200" y="382320"/>
            <a:ext cx="68580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10 The Future of Data Storag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68785-5869-4EFA-BF29-260FCC20CC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38088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cro-electro-mechanical storage (MEMS) devices offer another promising approach to mass storag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BM’s Millipede is one such devic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totypes have achieved densities of 100Gb/i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with 1Tb/i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expected as the technology is refin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title"/>
          </p:nvPr>
        </p:nvSpPr>
        <p:spPr>
          <a:xfrm>
            <a:off x="457200" y="382320"/>
            <a:ext cx="68580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10 The Future of Data Storag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5028120"/>
            <a:ext cx="7467480" cy="42912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A photomicrograph of Millipede  is shown on the next slid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E7E33-C955-442C-9D1C-029DC61A8E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380880" y="144792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lipede consists of thousands of cantilevers that record a binary 1 by pressing a heated tip into a polymer substr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457200" y="382320"/>
            <a:ext cx="68580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10 The Future of Data Storag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4920" y="2817000"/>
            <a:ext cx="320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06440" indent="-4064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ip reads a binary 1 when it dips into the imprint in the poly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04920" y="5005080"/>
            <a:ext cx="3504960" cy="111672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Photomicrograph courtesy of the IBM Corporat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© 2005 IBM Corp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Fig_7-34_ECOA2E" descr=""/>
          <p:cNvPicPr/>
          <p:nvPr/>
        </p:nvPicPr>
        <p:blipFill>
          <a:blip r:embed="rId2"/>
          <a:stretch/>
        </p:blipFill>
        <p:spPr>
          <a:xfrm>
            <a:off x="3886200" y="2666880"/>
            <a:ext cx="441972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DC3AC-4CF0-43A3-9424-4F7DBAA901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19112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/O systems are critical to the overall performance of a computer syste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mdahl’s Law quantifies this asser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/O systems consist of memory blocks, cabling, control circuitry, interfaces, and medi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/O control methods include programmed I/O, interrupt-based I/O, DMA, and channel I/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ses require control lines, a clock, and data lines. Timing diagrams specify operational detail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title"/>
          </p:nvPr>
        </p:nvSpPr>
        <p:spPr>
          <a:xfrm>
            <a:off x="609480" y="382320"/>
            <a:ext cx="647712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hapter 7 Conclus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D94F8-51AD-4B8B-8F48-873D02108E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19112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gnetic disk is the principal form of durable storag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k performance metrics include seek time, rotational delay, and reliability estimat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tical disks provide long-term storage for large amounts of data, although access is slow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gnetic tape is also an archival medium.  Recording methods are track-based, serpentine, and helical sca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title"/>
          </p:nvPr>
        </p:nvSpPr>
        <p:spPr>
          <a:xfrm>
            <a:off x="609480" y="382320"/>
            <a:ext cx="647712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hapter 7 Conclus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12605-97D3-439E-9288-9097BC9611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ID gives disk systems improved performance and reliability. RAID 3 and RAID 5 are the most comm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ID 6 and RAID DP protect against dual disk failure, but RAID DP offers better performance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y one of several new technologies including biological, holographic, or mechanical may someday replace magnetic disk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hardest part of data storage may be end up be in locating the data after it’s stor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title"/>
          </p:nvPr>
        </p:nvSpPr>
        <p:spPr>
          <a:xfrm>
            <a:off x="609480" y="382320"/>
            <a:ext cx="647712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hapter 7 Conclus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FA533-7740-4C82-8A87-FB62B47BCE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6699"/>
                </a:solidFill>
                <a:latin typeface="Arial"/>
              </a:rPr>
              <a:t>End of Chapter 7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8530A-DE77-446C-A60F-9AB22291C1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3 Amdahl’s Law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534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rocessor option offers a 130% speedup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the disk drive option gives a 122% speedup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ch 1% of improvement for the processor costs $333, and for the disk a 1% improvement costs $318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Al1" descr=""/>
          <p:cNvPicPr/>
          <p:nvPr/>
        </p:nvPicPr>
        <p:blipFill>
          <a:blip r:embed="rId2"/>
          <a:stretch/>
        </p:blipFill>
        <p:spPr>
          <a:xfrm>
            <a:off x="2514600" y="1981080"/>
            <a:ext cx="5932440" cy="903240"/>
          </a:xfrm>
          <a:prstGeom prst="rect">
            <a:avLst/>
          </a:prstGeom>
          <a:ln w="0">
            <a:noFill/>
          </a:ln>
        </p:spPr>
      </p:pic>
      <p:pic>
        <p:nvPicPr>
          <p:cNvPr id="63" name="Al2" descr=""/>
          <p:cNvPicPr/>
          <p:nvPr/>
        </p:nvPicPr>
        <p:blipFill>
          <a:blip r:embed="rId3"/>
          <a:stretch/>
        </p:blipFill>
        <p:spPr>
          <a:xfrm>
            <a:off x="2514600" y="3581280"/>
            <a:ext cx="5978520" cy="959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219320" y="5713920"/>
            <a:ext cx="6172200" cy="42912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Should price/performance be your only concern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FE21B-6F41-4380-BFC1-B68A2A6968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4 I/O Architectur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153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define input/output as a subsystem of components that moves coded data between external devices and a host syste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/O subsystems includ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s of main memory that are devoted to I/O 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es that move data into and out of the syst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modules in the host and in peripheral de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faces to external components such as keyboards and dis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bling or communications links between the host system and its peripher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5DF3C-B275-492C-97D8-4F4DE175B7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7-1" descr=""/>
          <p:cNvPicPr/>
          <p:nvPr/>
        </p:nvPicPr>
        <p:blipFill>
          <a:blip r:embed="rId2"/>
          <a:stretch/>
        </p:blipFill>
        <p:spPr>
          <a:xfrm>
            <a:off x="2473200" y="1320840"/>
            <a:ext cx="6137280" cy="49561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4 I/O Architectur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560" y="2438280"/>
            <a:ext cx="2361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s is a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del I/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figuration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23:57:00Z</dcterms:created>
  <dc:creator>Null &amp; Lobur</dc:creator>
  <dc:description/>
  <dc:language>en-US</dc:language>
  <cp:lastModifiedBy>User</cp:lastModifiedBy>
  <dcterms:modified xsi:type="dcterms:W3CDTF">2006-01-10T02:46:46Z</dcterms:modified>
  <cp:revision>455</cp:revision>
  <dc:subject/>
  <dc:title>Chapter 7</dc:title>
</cp:coreProperties>
</file>