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70E2-3C23-4F89-87DB-1B04D8757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961-5AD1-404E-BB7D-C50812FA8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F263-49CA-4D73-800A-278C269E0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D8CD-1D8A-4799-8B03-6670F53B2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2E3D-0873-40A2-A6DB-8986A3A88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A321-B9C6-47A8-8AAE-840F5C134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B2F1-DC09-4363-9BD9-E616BC0DC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EED-25B8-4AA9-A6CC-D303BCD28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5C7-42EC-4CFD-A128-71973B983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A5A-76FD-4699-8D88-F69E273A7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033-E0BB-453A-9B8A-1043F1CF4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DE8-025B-48F3-A1AD-1A190EE1D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617E-C084-4945-B3E9-3E6749532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A9C0-4CCC-4777-B600-B597750EA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B02-DD91-4950-9416-BF131D2C6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FFB8-24B3-400D-BC4B-E150DC4EE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9E5-4DAE-420B-8F44-05D9385D8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39A6-7F4F-4840-A246-BC01EEBC5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8D6-EA4B-465E-AFD8-20F22B02A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426E-4E99-4295-9794-72E7EE24C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418-6943-4F6C-9DB2-1975CF943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FFE1-69E7-4A51-B24A-78930A0D0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7B07-8553-46D7-8A3B-BDC2B0C5A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AFB-A68A-49EF-9350-BB1DBCEB7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7FC1-DC85-4670-848A-DCD49C470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667-83E1-4095-A983-331276FC3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15FE-B77A-4024-92BD-E9ED46328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E23-DAE3-4ECD-AAE6-176A16D08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6363-9176-4117-9102-4CFAB629C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BD55-510A-434A-A7A8-5B6BA639B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7A1-C305-410B-9F12-1D68C6306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A835-0C88-46F9-91E5-31D316EBB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5EA8-AC45-400C-8851-3477880DC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D8AE-46C7-488E-9167-15AE86C42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A88C-9BC2-460E-87AF-E85186857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585-5159-47C4-8ED5-B7E782122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9E09-1D4F-4CEE-AED2-7329737B5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86FA-2D60-48C4-9D54-89A2867E6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162-0277-4AC8-BE40-1A073FF0A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9275-47E7-425B-9000-BFE633DF2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0B8-FF63-4EAF-8ECA-BF0C8977A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BC59-D06E-4D76-A986-454835B49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2CF1-2CBC-431D-8123-EE9ED66F2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ED3-8D41-446D-8BEB-F9EC3C19E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D2CA-32BA-4694-AF3D-80FCA3820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B9E6-4BF8-4C09-8FE9-5199AF601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3F4D-6C9F-4C6B-A8D0-EA070FE2C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BEC-D09A-4F2D-AD19-CC936626F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C09D-D13C-4647-A8F9-0BA22C453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24B-C31A-4781-B14C-4CA24EF0E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5108-8D5A-4AF6-8D71-0FA3A4D00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FD4-F3B9-43AD-82F9-11F33E0D3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4E4-2FB3-4D63-A510-A13DFD1EF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9D4-F8D0-475C-894A-EC0E01B1E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20E9-EEF3-42B2-BD84-BDFD3355D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122-E3D4-46FA-87E2-8AF978D33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E61-0B2F-41DD-8D6E-ABB876945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9D7-80DF-431F-8056-3A8F6680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CBE-B177-4D64-9D3C-5AFAB5B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8E1-2365-4215-BCFE-07E9D666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E10-9E15-42AF-A82C-21E9DE94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22B-1520-4B2C-8622-80A8C119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C64-3FEE-4D31-8845-512BA55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FFA-8F81-4671-B58A-BB6682EC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1DB-5D1E-4A8C-ADAE-945B4EED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44A-A22D-41D5-BD89-608679C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EE6-D8B3-40EE-BE53-54AC1DB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E09-750C-4403-AC08-6D99094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30A-51B0-4115-B9E4-986C9987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ACA9-6FC6-4DFF-A98B-DD1362C80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520" y="37339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7960" y="47239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763-7831-43D8-B83D-256B8C8F9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asures of time and spa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i- (m) = 1 thousand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-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 m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o- (n) = 1 b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o- (p) = 1 tr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to- (f) = 1 quadr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o- (a) = 1 quint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pto- (z) = 1 sext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cto- (y) = 1 sept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2CD-466B-4082-9863-72E20958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second =  1 thousandth of a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disk drive access times are often 10 to 20 milli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second = 1 billionth of a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 access times are often 50 to 70 nano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n (micrometer) = 1 millionth of a 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s on computer chips are measured in mic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429-D1BB-48A4-A504-25F067840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ote that cycle time is the reciprocal of clock frequen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us operating at 133MHz has a cycle time of 7.52 nanosecon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429000" y="5180400"/>
            <a:ext cx="487692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w back to the advertisemen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90720" y="3855240"/>
            <a:ext cx="7315200" cy="581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3,000,000 cycles/second  =  7.52ns/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954-D676-4274-82A5-E457CDF3A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8" descr="C:\wpdocs\Julie\ECOA 2e\Ch01\Ppt\Ad1.TIF"/>
          <p:cNvPicPr/>
          <p:nvPr/>
        </p:nvPicPr>
        <p:blipFill>
          <a:blip r:embed="rId1"/>
          <a:srcRect l="0" t="0" r="24570" b="-960"/>
          <a:stretch/>
        </p:blipFill>
        <p:spPr>
          <a:xfrm>
            <a:off x="762120" y="1371600"/>
            <a:ext cx="8001000" cy="4626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76320" y="1447920"/>
            <a:ext cx="54864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334120" y="3048120"/>
            <a:ext cx="3504960" cy="29718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4724280" y="2362320"/>
            <a:ext cx="1067040" cy="1522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5"/>
          <p:cNvSpPr/>
          <p:nvPr/>
        </p:nvSpPr>
        <p:spPr>
          <a:xfrm flipV="1">
            <a:off x="5562720" y="3047760"/>
            <a:ext cx="838080" cy="16002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6858000" y="2743200"/>
            <a:ext cx="1981080" cy="380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90920" y="4598640"/>
            <a:ext cx="531792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bus moves data within the computer.  The faster the bus the better.  This one runs at 400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1550160"/>
            <a:ext cx="4952880" cy="155700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processor is the “brain” of the system.  It executes program instructions.  This one is a Pentium (Intel) running at 4.20G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5486400" y="1447920"/>
            <a:ext cx="3352680" cy="9144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DA6-5A33-4D7F-9F3F-4BBA5D18F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with large main memory capacity can run larger programs with greater speed than computers having small memo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 is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ndom access memo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Random access means that memory contents can be accessed directly if you know its lo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he is a type of temporary memory that can be accessed faster than 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054-AA1E-429E-84A1-228AD777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6" descr="C:\wpdocs\Julie\ECOA 2e\Ch01\Ppt\Ad1.TIF"/>
          <p:cNvPicPr/>
          <p:nvPr/>
        </p:nvPicPr>
        <p:blipFill>
          <a:blip r:embed="rId1"/>
          <a:srcRect l="0" t="6827" r="19852" b="0"/>
          <a:stretch/>
        </p:blipFill>
        <p:spPr>
          <a:xfrm>
            <a:off x="457200" y="1371600"/>
            <a:ext cx="8458200" cy="4249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76320" y="1447920"/>
            <a:ext cx="54864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334120" y="3048120"/>
            <a:ext cx="3504960" cy="28954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6019920" y="2971800"/>
            <a:ext cx="380880" cy="12952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486400" y="1447920"/>
            <a:ext cx="3352680" cy="8380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523880" y="4238280"/>
            <a:ext cx="7162920" cy="12520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wo levels of cache memory, the level 1 (L1) cache is smaller and (probably) faster than the L2 cache.  Note that these cache sizes are measured in K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334120" y="1600200"/>
            <a:ext cx="1066680" cy="99072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5029200" y="2286000"/>
            <a:ext cx="1295280" cy="2286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62120" y="1550520"/>
            <a:ext cx="434340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ystem has 256MB of (fast) synchronous dynamic RAM (SDRAM)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CE7F-84EA-4EE7-804C-7162E2A62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320" y="1447920"/>
            <a:ext cx="38862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657600" y="3352680"/>
            <a:ext cx="5486400" cy="259092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3886200" y="3352680"/>
            <a:ext cx="457200" cy="106704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86200" y="1447920"/>
            <a:ext cx="5029200" cy="1523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523880" y="4160160"/>
            <a:ext cx="6934320" cy="155700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can store 80GB.  7200 RPM is the rotational speed of the disk.  Generally, the faster a disk rotates, the faster it can deliver data to RAM.  (There are many other factors involv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1190160"/>
            <a:ext cx="4114800" cy="12520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disk capacity determines the amount of data and size of programs you can sto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074-CC3C-425D-9D81-D3C2C6BF1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6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447920"/>
            <a:ext cx="38862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943600" y="3276720"/>
            <a:ext cx="2971800" cy="2666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581280" y="1447920"/>
            <a:ext cx="5334120" cy="1523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553080" y="2819520"/>
            <a:ext cx="2362320" cy="4572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867280" y="2895480"/>
            <a:ext cx="1219320" cy="38124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962520" y="2590920"/>
            <a:ext cx="1295280" cy="4572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3505320" y="4114800"/>
            <a:ext cx="2971800" cy="18288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8600" y="1418760"/>
            <a:ext cx="7010280" cy="12520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A stand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anced technology attach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describes how the hard disk interfaces with (or connects to) other system componen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809880" y="3352680"/>
            <a:ext cx="2971800" cy="38124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752480" y="4903560"/>
            <a:ext cx="678204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D can store about 650MB of data. This drive supports rewritable CDs, CD-RW, that can be written to many times..  48x describes its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4343040" y="4190760"/>
            <a:ext cx="152280" cy="53316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D35-BBE5-4685-AF44-75BC37003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6320" y="1447920"/>
            <a:ext cx="3809880" cy="4419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886200" y="3657600"/>
            <a:ext cx="4952880" cy="22096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3124080" y="3657240"/>
            <a:ext cx="1143000" cy="15238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733920" y="1447920"/>
            <a:ext cx="5105160" cy="18288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362320" y="5056200"/>
            <a:ext cx="2438280" cy="8254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ystem has ten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52280" y="1245960"/>
            <a:ext cx="434340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movement of data between a system and its external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3A9-FD2C-4486-98D9-B1E99BA74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85800" y="1676520"/>
            <a:ext cx="777240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ports send data as a series of pulses along one or two data l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orts send data as a single pulse along at least eight data l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B, Universal Serial Bus, is an intelligent serial interface that is self-configuring.  (It supports “plug and play.”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935E-E60A-4B14-A75B-C7AD0BA2B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6483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the difference between computer organization and computer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units of measure common to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eciate the evolution of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computer as a layered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explain the von Neumann architecture and the function of basic computer com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715-3037-4E99-AF8C-78E5507B0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6320" y="1447920"/>
            <a:ext cx="3886200" cy="4419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733920" y="1447920"/>
            <a:ext cx="5105160" cy="25905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1703160"/>
            <a:ext cx="495288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buses can be augmented by dedicated I/O buses.  PCI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eripheral component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one such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809880" y="4876920"/>
            <a:ext cx="5105520" cy="9144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2514600" y="4571640"/>
            <a:ext cx="1371600" cy="6094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04920" y="5238720"/>
            <a:ext cx="5638680" cy="8254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ystem has three PCI devices: a video card, a sound card, and a data/fax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180-6231-4DA0-9DA1-50DEF7C2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76320" y="1447920"/>
            <a:ext cx="3886200" cy="4419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733920" y="1447920"/>
            <a:ext cx="5105160" cy="2133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04920" y="1220400"/>
            <a:ext cx="662940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times per second that the image on a monitor is repainted is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resh r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t p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monitor tells us how clear the image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590920" y="2819520"/>
            <a:ext cx="1371600" cy="76176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80880" y="2617920"/>
            <a:ext cx="8305920" cy="45972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has a dot pitch of 0.24mm and a refresh rate of 75Hz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886200" y="4419720"/>
            <a:ext cx="5105520" cy="14475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 flipV="1">
            <a:off x="3048120" y="4266720"/>
            <a:ext cx="838080" cy="11430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143000" y="5208480"/>
            <a:ext cx="5486400" cy="8254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deo card contains memory and programs that support the monito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70D-B9A7-4A32-910B-8B2F42189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7467480" cy="175284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out the remainder of this book you will see how these components work and how they interact with software to make complete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295280" y="3504240"/>
            <a:ext cx="7162920" cy="45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tatement raises two important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828800" y="4033440"/>
            <a:ext cx="6172200" cy="1709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What assurance do we have that computer components will operate as we exp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nd what assurance do we have that computer components will operate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04AE-00C3-4A38-B362-2231FD94D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organizations that set computer hardware standards-- to include the interoperability of computer com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out this book, and in your career, you will encounter many of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f the most important standards-setting groups are . .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C89C-38F4-473D-BFD4-27E1C4861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3276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stitute of Electrical and Electronic Engineers (IEE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motes the interests of the worldwide electrical engineering commun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ablishes standards for computer components, data representation, and signaling protocols, among many other thin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A76-B6DA-431A-8D2D-95A32E08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tional Telecommunications Union (IT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rns itself with the interoperability of telecommunications systems, including data communications and telepho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groups establish standards within their respective countri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merican National Standards Institute (ANS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British Standards Institution (BS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BB69-3E05-4A03-9746-D9E7EC24F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543800" cy="3276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tional Organization for Standardization (IS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ablishes worldwide standards for everything from screw threads to photographic fil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influential in formulating standards for computer hardware and software, including their methods of manufa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914400" y="4951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Note: ISO i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an acronym. ISO comes from the Gree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isos,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meaning “equa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9F6-1367-439E-8A37-16491925C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809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fully appreciate the computers of today, it is helpful to understand how things got the way they 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volution of computing machinery has taken place over several centu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dern times computer evolution is usually classified into four generations according to the salient technology of the e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76520" y="556164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e note that many of the following dates are approx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4EC3-BDEA-49E1-B9ED-D6C5A84CB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809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Zero: Mechanical Calculating Machines (1642 - 194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lculating Clock - Wilhelm Schickard (1592 - 1635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caline - Blaise Pascal (1623 - 1662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fference Engine - Charles Babbage (1791 - 1871), also designed but never built the Analytical Eng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nched card tabulating machines - Herman Hollerith (1860 - 1929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666880" y="5256720"/>
            <a:ext cx="5257800" cy="7038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Hollerith cards were commonly used for computer input well into the 197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428-C52D-43F9-8A89-AA5FCE298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Generation: Vacuum Tube Computers (1945 - 195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040" y="2514240"/>
            <a:ext cx="6095880" cy="2438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anasoff Berry Computer (1937 - 1938)  solved systems of linear equ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Atanasoff and Clifford Berry of  Iowa State Univers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0" descr="C:\wpdocs\Julie\Org&amp;Arch\PPT_Master\TUBE1.JPG"/>
          <p:cNvPicPr/>
          <p:nvPr/>
        </p:nvPicPr>
        <p:blipFill>
          <a:blip r:embed="rId1"/>
          <a:stretch/>
        </p:blipFill>
        <p:spPr>
          <a:xfrm>
            <a:off x="609480" y="2666880"/>
            <a:ext cx="1478160" cy="3276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4E2-E0FA-469B-A428-1B4F8EDFF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y study computer organization and architecture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better programs, including system software such as compilers, operating systems, and device d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 program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(benchmark) computer system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ime, space, and price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59436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1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257-4C2C-475F-9983-F5278FD1A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14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Generation: Vacuum Tube Computers (1945 - 195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8960" y="2666520"/>
            <a:ext cx="6553080" cy="2133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ctronic Numerical Integrator and Computer (ENIAC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Mauchly and J. Presper Ecke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versity of Pennsylvania, 194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09480" y="4724280"/>
            <a:ext cx="7086600" cy="885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6440" indent="-300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NIAC was the fir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eneral-purpo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3BF-6665-49A6-83A2-409FE9AEA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Generation: Vacuum Tube Computers (1945 - 195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BM 650 first mass-produced computer. (19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was phased out in 196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ajor computer manufacturers of this period include UNIVAC, Engineering Research Associates (ERA), and Computer Research Corporation (CR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VAC and ERA were bought by Remington Rand, the ancestor of the Unisys Corpor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C was bought by the Underwood (typewriter) Corporation, which left the computer busi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D1B-F504-4742-A431-088E43613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14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cond Generation: Transistorized Computers (1954 - 196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239240" cy="25905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7094 (scientific) and 1401 (busines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gital Equipment Corporation (DEC) PDP-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vac 1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 Data Corporation 16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. . and many oth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C:\wpdocs\Julie\Org&amp;Arch\Ch1\TRANS.JPG"/>
          <p:cNvPicPr/>
          <p:nvPr/>
        </p:nvPicPr>
        <p:blipFill>
          <a:blip r:embed="rId1"/>
          <a:srcRect l="8514" t="0" r="0" b="0"/>
          <a:stretch/>
        </p:blipFill>
        <p:spPr>
          <a:xfrm>
            <a:off x="304920" y="2514600"/>
            <a:ext cx="1293840" cy="2133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219320" y="5409360"/>
            <a:ext cx="6095880" cy="3988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ese systems had few architectural similar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9AAC-BE0E-41F3-9C7B-F24A6DA91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hird Generation: Integrated Circuit Computers (1965 - 198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 PDP-8 and PDP-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ay-1 super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. . and many oth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is time, IBM had gained overwhelming dominance in the indus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manufacturers of this era were characterized as IBM and the BUNCH (Burroughs, Unisys, NCR, Control Data, and Honeywell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86F0-1D5C-4C02-8696-DD48A1C04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391520" cy="914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urth Generation: VLSI Computers (1980 - ???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001000" cy="2971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y large scale integrated circuits (VLSI) have more than 10,000 components per chi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d the creation of   microprocess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was the 4-bit Intel 40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ter versions, such as the 8080, 8086, and 8088 spawned the idea of “personal computing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100E-7B1C-4576-95F9-D8BDEAA5E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’s Law (196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rdon Moore, Intel fou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ensity of transistors in an integrated circuit will double every year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mporary vers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ensity of silicon chips doubles every 18 month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666880" y="5180400"/>
            <a:ext cx="563904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ut this “law” cannot hold forev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F94-1185-4C4A-A6BA-1E23757AC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2666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’s La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thur Rock, Intel financ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ost of capital equipment to build semiconductors will double every four year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1968, a new chip plant cost about $12,000.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057400" y="4315320"/>
            <a:ext cx="5867280" cy="13770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t the time, $12,000 would buy a nice home in the subur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 executive earning $12,000 per year was “making a very comfortable living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302-E37A-4034-BDBE-C9857313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’s La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2005, a chip plants under construction cost over $2.5 bill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Moore’s Law to hold, Rock’s Law must fall, or vice versa.  But no one can say which will give out first.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133720" y="3243600"/>
            <a:ext cx="5638680" cy="13136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$2.5 billion is more than the gross domestic product of some small countries, including Belize, Bhutan, and the Republic of Sierra Le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4B4-2D14-4A41-A509-83554C94A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6201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consist of many things besides chi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a computer can do anything worthwhile, it must also use soft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 complex programs requires a “divide and conquer” approach, where each program module solves a smaller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computer systems employ a similar technique through a series of virtual machine lay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5434-0330-44B0-8918-B7E43F4C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virtual machine layer is an abstraction of the level below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achines at each level execute their own particular instructions, calling upon machines at lower levels to perform tasks as requi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r circuits ultimately carry out the 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C:\wpdocs\Julie\Org&amp;Arch\Ch1\WorkingFiles\Layers.tif"/>
          <p:cNvPicPr/>
          <p:nvPr/>
        </p:nvPicPr>
        <p:blipFill>
          <a:blip r:embed="rId1"/>
          <a:stretch/>
        </p:blipFill>
        <p:spPr>
          <a:xfrm>
            <a:off x="4600440" y="1479600"/>
            <a:ext cx="4314960" cy="4768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E94-35D6-4ADC-B471-EFC24FA1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1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organiz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passes all physical aspects of compute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ircuit design, control signals, memory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does a compute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aspects of system implementation as seen by the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instruction sets, instruction formats, data types, addressing m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do I design a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195-EF7E-4D60-98F3-CD9D60943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6: The User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gram execution and user interface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level with which we are most famili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5: High-Level Languag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level with which we interact when we write programs in languages such as C, Pascal, Lisp, and Ja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125-2ED7-4DF0-A2A1-CE81F2437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5438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4: Assembly Languag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s upon assembly language produced from Level 5, as well as instructions programmed directly at this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3: System Softwar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s executing processes on th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s system resour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embly language instructions often pass through Level 3 without modif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A84B-83D2-4AD0-88E5-3963FAA5C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4678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2: Mach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known as the Instruction Set Architecture (ISA)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ists of instructions that are particular to the architecture of the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grams written in machine language need no compilers, interpreters, or assembl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F58D-9C00-4A2E-997C-7C1796AD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: Control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codes and executes instructions and moves data through th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 units can b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icroprogramm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rdwi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microprogram is a program written in a low-level language that is implemented by the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dwired control units consist of hardware that directly executes machine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A89-73C6-44D3-8CA7-EE7F43D90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467840" cy="2971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0: Digital Logic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level is where we find digital circuits (the chip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gital circuits consist of gates and wi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components implement the mathematical logic of all other leve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A57E-2C2C-4C3A-81B5-D32C50CC3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543800" cy="3124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ENIAC, all programming was done at the digital logic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ing the computer involved moving plugs and wi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fferent hardware configuration was needed to solve every unique problem ty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143000" y="4799520"/>
            <a:ext cx="6629400" cy="7038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figuring the ENIAC to solve a “simple” problem required many days labor  by skilled technici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0DC-79DC-4556-B2C3-78F9A195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915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ntors of the ENIAC, John Mauchley and   J. Presper Eckert, conceived of a computer that could store instructions in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vention of this idea has since been ascribed to a mathematician, John von Neumann, who was a contemporary of Mauchley and Ecke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d-program computers have become known as von Neumann Architectur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7C9-2765-4566-9DD1-37D7656C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’s stored-program computers have the following characteristic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hardware system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entral processing unit (C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in mem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/O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apacity to carry out sequential instruction process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ingle data path between the CPU and main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ngle path is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n Neumann bottlen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B25-B800-4BBD-BA5F-D3DF0EB4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2971800" cy="3352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a general depiction of a von Neumann syst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se computers employ a fetch-decode-execute cycle to run programs as follows . . 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C:\wpdocs\Julie\Org&amp;Arch\Ch1\WorkingFiles\ALU.TIF"/>
          <p:cNvPicPr/>
          <p:nvPr/>
        </p:nvPicPr>
        <p:blipFill>
          <a:blip r:embed="rId1"/>
          <a:stretch/>
        </p:blipFill>
        <p:spPr>
          <a:xfrm>
            <a:off x="3581280" y="1752480"/>
            <a:ext cx="52578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F64-A091-47DB-8882-0D40CB56C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C:\wpdocs\Julie\Org&amp;Arch\Ch1\WorkingFiles\ALU1.TIF"/>
          <p:cNvPicPr/>
          <p:nvPr/>
        </p:nvPicPr>
        <p:blipFill>
          <a:blip r:embed="rId1"/>
          <a:stretch/>
        </p:blipFill>
        <p:spPr>
          <a:xfrm>
            <a:off x="1600200" y="2666880"/>
            <a:ext cx="5667480" cy="3686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90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ol unit fetches the next instruction from memory using the program counter to determine where the instruction is loc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D298-9228-4936-83A9-FF73E41C8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2 Computer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clear distinction between matters related to computer organization and matters relevant to computer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iple of Equivalence of Hardware and Softw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nything that can be done with software can also be done with hardware, and anything that can be done with hardware can also be done with software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5715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Assuming speed is not a conc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A12-BDD2-407D-BC8A-242F35326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6" descr="C:\wpdocs\Julie\Org&amp;Arch\Ch1\WorkingFiles\ALU2.TIF"/>
          <p:cNvPicPr/>
          <p:nvPr/>
        </p:nvPicPr>
        <p:blipFill>
          <a:blip r:embed="rId1"/>
          <a:stretch/>
        </p:blipFill>
        <p:spPr>
          <a:xfrm>
            <a:off x="1598760" y="2668680"/>
            <a:ext cx="56671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762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struction is decoded into a language that the ALU can underst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CC88-F42B-4A66-959F-FD3144A9E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5" descr="C:\wpdocs\Julie\Org&amp;Arch\Ch1\WorkingFiles\ALU3.TIF"/>
          <p:cNvPicPr/>
          <p:nvPr/>
        </p:nvPicPr>
        <p:blipFill>
          <a:blip r:embed="rId1"/>
          <a:stretch/>
        </p:blipFill>
        <p:spPr>
          <a:xfrm>
            <a:off x="1600200" y="2666880"/>
            <a:ext cx="5667480" cy="36864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90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y data operands required to execute the instruction are fetched from memory and placed into registers within the CP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E488-1B96-4D6A-B365-51E3D39C0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6" descr="C:\wpdocs\Julie\Org&amp;Arch\Ch1\WorkingFiles\ALU4.TIF"/>
          <p:cNvPicPr/>
          <p:nvPr/>
        </p:nvPicPr>
        <p:blipFill>
          <a:blip r:embed="rId1"/>
          <a:stretch/>
        </p:blipFill>
        <p:spPr>
          <a:xfrm>
            <a:off x="1600200" y="2666880"/>
            <a:ext cx="5657760" cy="36784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90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U executes the instruction and places results in registers or memo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7D6C-C2A8-47D5-9822-D6A5EB271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152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ntional stored-program computers have undergone many incremental improvements over the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improvements include adding specialized buses, floating-point units, and cache memories, to name only a fe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enormous improvements in computational power require departure from the classic von Neumann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processors is one appro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8 Non-von Neumann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DC9-EA3E-4B5A-AEC5-F6C8F533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152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late 1960s, high-performance computer systems were equipped with dual processors to increase computational through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1970s supercomputer systems were introduced with 32 process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computers with 1,000 processors were built in the 1980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99, IBM announced its Blue Gene system containing over 1 million process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8 Non-von Neumann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FB7C-DBDC-454A-A14D-C757F60FB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152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rocessing is only one method of providing increased computational pow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adical systems have reinvented the fundamental concepts of compu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dvanced systems include genetic computers, quantum computers, and dataflow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is point, it is unclear whether any of these systems will provide the basis for the next generation of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8 Non-von Neumann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E9E1-6076-4DDD-B8BD-8522B58F7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315200" cy="335304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pter has given you an overview of the subject of computer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now be sufficiently familiar with general system structure to guide your studies throughout the remainder of this cour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quent chapters will explore many of these topics in great det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2FCF-BC8C-4CC8-8E97-C0A39CDA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3152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most basic level, a computer is a device consisting of three pie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or to interpret and execut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mory to store both data an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chanism for transferring data to and from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2 Computer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BDFE-2837-4679-A239-5BD37A1C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4" descr="C:\wpdocs\Julie\ECOA 2e\Ch01\Ppt\Ad1.TIF"/>
          <p:cNvPicPr/>
          <p:nvPr/>
        </p:nvPicPr>
        <p:blipFill>
          <a:blip r:embed="rId1"/>
          <a:srcRect l="0" t="0" r="1783" b="0"/>
          <a:stretch/>
        </p:blipFill>
        <p:spPr>
          <a:xfrm>
            <a:off x="304920" y="1981080"/>
            <a:ext cx="8381880" cy="3686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is advertis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8"/>
          <p:cNvSpPr/>
          <p:nvPr/>
        </p:nvSpPr>
        <p:spPr>
          <a:xfrm rot="20417400">
            <a:off x="6019920" y="1447560"/>
            <a:ext cx="190476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Hz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 rot="1054800">
            <a:off x="6857640" y="3123720"/>
            <a:ext cx="190512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B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 rot="20658600">
            <a:off x="3200040" y="4266720"/>
            <a:ext cx="190512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CI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 rot="1396800">
            <a:off x="6934320" y="4800600"/>
            <a:ext cx="190476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USB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 rot="20080800">
            <a:off x="76320" y="2895120"/>
            <a:ext cx="228600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1 Cach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95280" y="577476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at does it all mean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4B80-28A6-4059-92F3-411C406F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asures of capacity and spe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o- (K) = 1 thousand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a- (M) = 1 m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ga- (G) = 1 b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a- (T) = 1 tr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a- (P) = 1 quadr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- (E) = 1 quint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tta- (Z) = 1 sext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tta- (Y) = 1 sept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2120" y="54086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ther a metric refers to a power of ten or a power of two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ypicall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depends upon what is being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F1DB-72A0-4CC6-94F5-21B6E500C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ertz = clock cycles per second (frequenc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Hz = 1,000,0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speeds are measured in MHz or G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te = a unit of stor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2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B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48,57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 (RAM) is measured in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storage is measured in GB for small systems, TB for lar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0:07:56Z</dcterms:created>
  <dc:creator>Null &amp; Lobur</dc:creator>
  <dc:description>Copyright 2005</dc:description>
  <dc:language>en-US</dc:language>
  <cp:lastModifiedBy>John MacCormick</cp:lastModifiedBy>
  <dcterms:modified xsi:type="dcterms:W3CDTF">2008-07-25T20:01:26Z</dcterms:modified>
  <cp:revision>110</cp:revision>
  <dc:subject/>
  <dc:title>Chapter 1</dc:title>
</cp:coreProperties>
</file>