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07F-1316-4B15-8C3C-552C5D36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D0D-F2A2-4F47-91D9-F15179F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D9E-320B-4119-9BE3-B27D730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B99-01DC-4A99-B83B-02D0D7ED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A6A-4BF2-4924-9A74-105067C2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238-6C91-4F26-9665-18B3372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808-81E0-45EA-B3BA-AE58ECA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DD4-E693-46FB-A794-03B5D246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E97-BD81-480C-BAD7-E22CB829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0D2-7006-42EE-A246-5E01CF4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FF5-BCA7-4F70-8C24-B65980E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BD4-1380-4636-94C4-78333B9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30D9-1111-411A-8BDF-B5F18878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9140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2 Special S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440" y="3962520"/>
            <a:ext cx="4876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 on Codes for Data Recording and Transmis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F19B-9D2D-490F-9E1F-0CB2F5498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RLL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,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de dictates a min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a max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ecutive zeros between any pair of consecutive on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L(2,7) has been the dominant disk storage coding method for many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RLL(2,7) code contains more bit cells than its corresponding ASCII or EBCDIC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coding method allows bit cells to be smaller, thus closer together, than in MFM or any other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BEE-9030-4C45-B855-50287B25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32" descr=""/>
          <p:cNvPicPr/>
          <p:nvPr/>
        </p:nvPicPr>
        <p:blipFill>
          <a:blip r:embed="rId2"/>
          <a:stretch/>
        </p:blipFill>
        <p:spPr>
          <a:xfrm>
            <a:off x="1346040" y="3049560"/>
            <a:ext cx="734076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LL(2,7) coding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hown below, compared to MFM. The RLL code (bottom) contains 25% fewer transitions than the MFM code (to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486400"/>
            <a:ext cx="4800600" cy="762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The details as to how this code is derived are given in the 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4D41-D8FC-49A0-B13D-99FDAB96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LL by itself is insufficient for reliable recording on ultra high density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jacent bits interfere with each other at very high dens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ewer magnetic grains are available to each bit cell, the magnetic flux weakens proportion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henomenon,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uperposition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hown on the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1E61-ABBE-45DC-ADB9-A24B8DFD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tunately, this behavior is well understood and can be used to our advan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a8" descr=""/>
          <p:cNvPicPr/>
          <p:nvPr/>
        </p:nvPicPr>
        <p:blipFill>
          <a:blip r:embed="rId2"/>
          <a:stretch/>
        </p:blipFill>
        <p:spPr>
          <a:xfrm>
            <a:off x="3962520" y="1630440"/>
            <a:ext cx="4724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78BC-0EA0-48B7-8D1A-E758739E8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tterns in the previous slide can be made meaningful when each bit cell is sampled several ti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pling determines a “partial response” patter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iterbi detector tries to match the partial response with the most likely patter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technique is stunningly accurate. We describe it in detail in Chapte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6A7-17ED-49A7-8A90-D67EC83E5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mission and storage codes are devised to convey or store bytes reliably and econom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ding scheme that uses fewer magnetic transitions is more efficient than one with more magnetic transitions per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 strings of zeroes and ones can result in synchronization lo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tion 2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9F4F-17AC-4042-96B3-B4E597E6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LL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,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de dictates a min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a max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ecutive zeros between any pair of consecutive 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FM was widely used until PRML and its extensions became widely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ML requires multiple samplings per bit cell, but permits bit cells to be spaced closer toge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return to this subject in Chapte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tion 2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11B3-884B-4F5A-AF78-84D60CC4A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914-44CA-4791-8F72-D192E375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part of Chapter 2 provides great detail about the various ways in which digital computers express numeric and non-numeric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expressions are an abstraction for the way in which the values are actually stored on computer media and sent over transmission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0C7-C642-4A76-A727-63804A14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ransmit data, pulses of “high” and “low” voltage are sent across communications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tore data, changes are induced in the magnetic polarity of the recording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olarity change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ux reversal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od of time during which a bit is transmitted, or the area of magnetic storage within which a bit is stored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t ce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FAC-B9E8-4EBB-81A8-5A2A83AA9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st data recording and transmission code is the non-return-to-zero (NRZ)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RZ encodes 1 as “high” and 0 as “low.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ding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n ASCII)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1 Non-Return-to-Zero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26" descr=""/>
          <p:cNvPicPr/>
          <p:nvPr/>
        </p:nvPicPr>
        <p:blipFill>
          <a:blip r:embed="rId2"/>
          <a:srcRect l="0" t="0" r="4350" b="0"/>
          <a:stretch/>
        </p:blipFill>
        <p:spPr>
          <a:xfrm>
            <a:off x="237960" y="4095720"/>
            <a:ext cx="76694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7CD6-111D-429D-8992-6924A14B1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blem with NRZ code is that long strings of zeros and ones cause synchronization lo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return-to-zero-invert (NRZI) reduces this synchronization loss by providing a transition (either low-to-high or high-to-low) for each binary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7" descr=""/>
          <p:cNvPicPr/>
          <p:nvPr/>
        </p:nvPicPr>
        <p:blipFill>
          <a:blip r:embed="rId2"/>
          <a:stretch/>
        </p:blipFill>
        <p:spPr>
          <a:xfrm>
            <a:off x="1047600" y="4114800"/>
            <a:ext cx="6042240" cy="1525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54100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2 Non-Return-to-Zero-Invert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60EE-7A4D-46BA-A5EE-BE42D1BD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227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it prevents loss of synchronization over long strings of binary ones, NRZI coding does nothing to prevent synchronization loss within long strings of zer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chester coding (also known as phase modulation) prevents this problem by encoding a binary one with an “up” transition and a binary zero with a “down” tran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28" descr=""/>
          <p:cNvPicPr/>
          <p:nvPr/>
        </p:nvPicPr>
        <p:blipFill>
          <a:blip r:embed="rId2"/>
          <a:stretch/>
        </p:blipFill>
        <p:spPr>
          <a:xfrm>
            <a:off x="1276200" y="4648320"/>
            <a:ext cx="6032520" cy="150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3 Manchester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B4EC-E3D6-4616-8BE7-701F5CD5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227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many years, Manchester code was the dominant transmission code for local area network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, however, wasteful of communications capacity because there is a transition on every bit cel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re efficient coding method is based upon the frequency modulation (FM) code. In FM, a transition is provided at each cell boundary.  Cells containing binary ones have a mid-cell tran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9" descr=""/>
          <p:cNvPicPr/>
          <p:nvPr/>
        </p:nvPicPr>
        <p:blipFill>
          <a:blip r:embed="rId2"/>
          <a:stretch/>
        </p:blipFill>
        <p:spPr>
          <a:xfrm>
            <a:off x="1273320" y="4800600"/>
            <a:ext cx="6014880" cy="1503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4  Frequency Mod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68DC-9648-446F-B8A7-3139F9DF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30" descr=""/>
          <p:cNvPicPr/>
          <p:nvPr/>
        </p:nvPicPr>
        <p:blipFill>
          <a:blip r:embed="rId2"/>
          <a:stretch/>
        </p:blipFill>
        <p:spPr>
          <a:xfrm>
            <a:off x="1270080" y="4800600"/>
            <a:ext cx="6216480" cy="1552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first glance, FM is worse than Manchester code, because it requires a transition at each cell boundary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we can eliminate some of these transitions, we would have a more economical cod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ified FM does just this. It provides a cell boundary transition only when adjacent cells contain zer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MFM cell containing a binary one has a transition in the middle as in regular F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4  Frequency Mod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4FA-0DAB-4EC5-9489-2F7E8913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7770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challenge for data recording and trans-mission is how to retain synchronization without chewing up more resources than necessa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-length-limited, RLL, is a code specifically designed to reduce the number of consecutive ones and ze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tra bits are inserted into th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even with these extra bits RLL is remarkably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54Z</dcterms:modified>
  <cp:revision>179</cp:revision>
  <dc:subject/>
  <dc:title>Chapter 2</dc:title>
</cp:coreProperties>
</file>