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C96-2D6E-4CE5-875E-A721A721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CAF-740D-4D97-A4FC-45B0F60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F6E-8759-4DCF-B5E8-625267AF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286-4DAF-4E01-8CF5-436104F2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DE4-6161-4730-B5FC-C69374E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192-C927-42A3-8C00-FE25C4D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883-25AD-4E0F-91E6-7A8F7DDA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ABC-9BDE-4CB9-B7E3-2F758B7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60C-9A8B-4F28-9B9F-E3A26D17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651-8F43-4097-BB6F-A848594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15E-233E-49E6-8873-DCCD3452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AF9-9EC4-47D6-82A2-3D9FE11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1B46-0316-4748-86D3-B71D3D65C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3809880"/>
            <a:ext cx="1218960" cy="304812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76360" y="4800600"/>
            <a:ext cx="5715000" cy="144792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Storage Systems and Inte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47960" y="38095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D3A-0DD4-4B23-8707-68E76D360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interesting SAM serial protocols is the IEEE 1394 interface, which is also known as FireWi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1394 isn’t just a storage interface, it is a peer-to-peer storage networ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salient feature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conductor cable, 4 for data and control, 2 for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15 feet of cable between each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63 daisy chained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hot plug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5713920"/>
            <a:ext cx="6019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configu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7D1-9E6C-4009-A225-37AC06C0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2971800" cy="1143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EEE 139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7a_6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4262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A639-25A1-47EC-87FC-94BFEB7D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ig_13-4_ECOA2E_ppt" descr=""/>
          <p:cNvPicPr/>
          <p:nvPr/>
        </p:nvPicPr>
        <p:blipFill>
          <a:blip r:embed="rId2"/>
          <a:srcRect l="2029" t="4340" r="1525" b="3076"/>
          <a:stretch/>
        </p:blipFill>
        <p:spPr>
          <a:xfrm>
            <a:off x="1752480" y="1446120"/>
            <a:ext cx="7010640" cy="4722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IEEE 1394 protocol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3B23-7136-4C88-8263-50DE930FC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Storage Architecture (SSA) is now of interest only in a historical s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early 1990s, SSA proved the superiority of serial protocols in high demand environ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SSA, peripheral devices in the data center were interconnected using parallel cabl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dual loop topology provided throughput at 40MBps (simplex) or 80MBps (duplex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409360"/>
            <a:ext cx="601992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configu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7F38-A032-434E-A10A-FCFA055FB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Fig_13-6_ppt" descr=""/>
          <p:cNvPicPr/>
          <p:nvPr/>
        </p:nvPicPr>
        <p:blipFill>
          <a:blip r:embed="rId2"/>
          <a:srcRect l="0" t="0" r="1131" b="0"/>
          <a:stretch/>
        </p:blipFill>
        <p:spPr>
          <a:xfrm>
            <a:off x="152280" y="1066680"/>
            <a:ext cx="7925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A34A-C458-4998-9C01-1676D7D7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A offered low attenuation over long cable runs, and was compatible with SCSI-2 comm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ices were self-managing. They could exchange data concurrently if there was bandwidth available between the devi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no need to go through a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A was the most promising storage architecture of its day, but its day didn’t last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A was soon replaced by much superior Fibre Channel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8E2C-7071-499A-8983-B8E62EB27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295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re Channel is one the preferred storage interfaces employed by large data centers and server far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7a_8" descr=""/>
          <p:cNvPicPr/>
          <p:nvPr/>
        </p:nvPicPr>
        <p:blipFill>
          <a:blip r:embed="rId2"/>
          <a:stretch/>
        </p:blipFill>
        <p:spPr>
          <a:xfrm>
            <a:off x="2743200" y="2801880"/>
            <a:ext cx="6019920" cy="3225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2587320"/>
            <a:ext cx="1981080" cy="23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connection topologies can be any of three types:  switched, point-to-point, or loop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78A-56EF-47CB-A256-28F3B54DA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5909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ost widely used form of Fibre Channel i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ibre Channel Arbitrated Loo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FC-AL) in basic loop or switched hub configuration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witched hub configurations provide maximum throughput (100MBps over fiber) for a practically unlimited number of devices (up to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7a_8a" descr=""/>
          <p:cNvPicPr/>
          <p:nvPr/>
        </p:nvPicPr>
        <p:blipFill>
          <a:blip r:embed="rId2"/>
          <a:stretch/>
        </p:blipFill>
        <p:spPr>
          <a:xfrm>
            <a:off x="1066680" y="4071960"/>
            <a:ext cx="6558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4A0-D49C-49D9-AE12-FDCB58B9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038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re Channel is as much of a data network protocol as it is a storage network protoco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lower three layers of its protocol stack (shown on the next slide) are the same for data networks and storage network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wing to its higher level protocol mappings, Fibre Channel networks do not require direct connection to a host and they can fit seamlessly into a data network configu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B9E7-6635-46AF-A743-AE6D6EC3C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7a_9" descr=""/>
          <p:cNvPicPr/>
          <p:nvPr/>
        </p:nvPicPr>
        <p:blipFill>
          <a:blip r:embed="rId2"/>
          <a:srcRect l="0" t="0" r="2947" b="2763"/>
          <a:stretch/>
        </p:blipFill>
        <p:spPr>
          <a:xfrm>
            <a:off x="304920" y="1447920"/>
            <a:ext cx="7848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3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eciate the role of enterprise storage as a distinct architectural ent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upon basic I/O concepts to include storage protoc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interplay between data communications and storage archite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familiar with a variety of widely installed I/O interf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1E0-F212-4863-BFAA-A6028917F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78B9-3A82-46A8-87A1-C04DC49AF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bre Channel components are costly and installation and maintenance of Fibre Channel systems requires specialized train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this, a number of alternatives are taking hold. One of the most widely deployed of these is Internet SCSI (iSCSI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eneral idea is to replace the SCSI bus with an Internet conn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42AF-036B-4F5F-AAE7-BBDF74E6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53040" cy="3352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diagram illustrates how a traditional parallel SCSI system processes an I/O request made by a program running on a ho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ig_13-10_ECOA2E_ppt" descr=""/>
          <p:cNvPicPr/>
          <p:nvPr/>
        </p:nvPicPr>
        <p:blipFill>
          <a:blip r:embed="rId2"/>
          <a:srcRect l="2110" t="4356" r="60992" b="5625"/>
          <a:stretch/>
        </p:blipFill>
        <p:spPr>
          <a:xfrm>
            <a:off x="4114800" y="1447920"/>
            <a:ext cx="3927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208B-413B-47A8-BF5E-F70462F9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895840" cy="2666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diagram illustrates how an iSCSI system processes an I/O requ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Fig_13-10_ECOA2E_ppt" descr=""/>
          <p:cNvPicPr/>
          <p:nvPr/>
        </p:nvPicPr>
        <p:blipFill>
          <a:blip r:embed="rId2"/>
          <a:srcRect l="42936" t="4993" r="2893" b="6441"/>
          <a:stretch/>
        </p:blipFill>
        <p:spPr>
          <a:xfrm>
            <a:off x="3200400" y="1371600"/>
            <a:ext cx="5486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DE4-4071-4997-AEFF-FE914F49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there is considerable overhead involved with traversing so many protocol lay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time a packet of SCSI data gets to the Internet, it is encapsulated in numerous PDU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ig_13-11_ECOA2E_ppt" descr=""/>
          <p:cNvPicPr/>
          <p:nvPr/>
        </p:nvPicPr>
        <p:blipFill>
          <a:blip r:embed="rId2"/>
          <a:stretch/>
        </p:blipFill>
        <p:spPr>
          <a:xfrm>
            <a:off x="2133720" y="3429000"/>
            <a:ext cx="4343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6D9-8391-4CDA-B5F7-6D0525461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rder to deal with such heavy overhead, iSCSI systems incorporate special embedded processors called TCP offload engines (TOEs) to relieve the main processors of the protocol conversion wor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vantage of iSCSI is that there are technically no distance limit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 use of the Internet to transfer sensitive data raises a number of security concerns that must be dealt with head o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503-39FE-48F3-A382-56507620B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organizations support both Fibre Channel and iSCSI sys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bre Channel systems are used for those storage arrays that support heavy transaction processing that requires excellent response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SCSI arrays are used for user file storage that is tolerant of delays, or for long-distance data archiv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ne expects either technology to become obsolete anytime s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FA3-59CF-41A4-B0CE-C58E14C9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re Channel technology has enabled the development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torage area network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SANs), which are designed specifically to support large pools of mass storag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s are logical extensions of host storage buse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y type of host connected to the network has access to the same storage poo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s, servers, and mainframes all see the same storag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 storage pools can be miles distant from their hos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866560"/>
            <a:ext cx="4876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S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4EDE-8850-4F35-A6DA-75F87314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3-13" descr=""/>
          <p:cNvPicPr/>
          <p:nvPr/>
        </p:nvPicPr>
        <p:blipFill>
          <a:blip r:embed="rId2"/>
          <a:stretch/>
        </p:blipFill>
        <p:spPr>
          <a:xfrm>
            <a:off x="457200" y="1025640"/>
            <a:ext cx="75963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EBF2-B2DD-4B7A-A4A1-F48C7743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s differ from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etwork attached storag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NAS) because they can be isolated from routine network traffi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olation facilitates storage management and enables various security metho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s have a lower protocol overhead than NAS because only the storage protocols are involv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S is gaining popularity because of lower costs for equipment and training of personnel, most of whom are familiar with data networking protocol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866560"/>
            <a:ext cx="4876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CCA1-BC75-4162-BE9D-944AA21AD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IG13-12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386480" cy="5626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73C-7892-4079-A93A-03C7657F7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pter is a brief introduction to several important mass storag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.will encounter these ideas and architectures throughout your car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mands and expectations placed on storage have been growing exponenti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ment presents an array of interesting problems, which are a subjects of ongoing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999D-0752-48CA-A72B-5274C21F1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are a number of popular I/O architectures that are outside the sphere of the SCSI-3 Architecture Mode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arallel I/O buses common in microcomputers are an examp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riginal IBM PC used an 8-bit PC/XT bus. It became an IEEE standard and was renamed 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dustry Standard Architectur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ISA)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bus eventually became a bottleneck in small computer 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E153-F138-49DF-9517-3E88E006B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ral improvements to the ISA bus have taken place over the yea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ost popular is the AT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iations to this bus include the AT Attachment (ATA), ATAPI, FastATA, and EID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oretically, ATA buses run as fast as 100MBps. Ultra ATA supports a burst transfer rate of 133MBp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buses are inexpensive and well supported in the industr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are, however, too slow for today’s 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44C9-E7D2-4A45-B1FD-570101DB2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processor speeds continue to increase, even Ultra ATA cannot keep u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more, these fast processors dissipate a lot of heat, which must be moved away from the CPU as quickly as possible. Fat parallel disk ribbon cables impede air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ial ATA (SATA) is one solution to these probl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s present transfer rate is 300MBps (with faster rates expected soon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TA uses thin cables that operate with lower voltages and longer distan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BE6-C1DB-4187-B280-410615675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ial attached SCSI (SAS) is plug compatible with SA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S also moves data at 300MBps, but unlike SATA, it can (theoretically) support 16,000 de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ipheral Component Interconnect (PCI) is yet another proposed replacement for the AT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a data bus replacement that operates as fast as 264MBps for a 32-bit system, and 528MBps for a 64-bit syst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FA90-0370-43CB-B64C-8C6F23153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versal Serial Bus (USB) is another I/O architecture of intere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B isn’t really a bus: It’s a serial peripheral interface that connects to a microcomputer expansion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 to 127 devices can be cascaded off of one another up to five dee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B 2.0 supports transfer rates of up to 480Mbp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s low power consumption makes USB a good choice for laptop and handheld compu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DCC0-6982-4337-BAF7-195B6403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High Performance Peripheral Interface (HIPPI) is another interface that is outside of the SCSI-3 Architecture Mode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designed to interconnect supercomputers and high-performance mainfram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sent top speeds are 100MBps with work underway for a 6.4GBps implement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out repeaters, HIPPI can travel about 150 feet (50 meters) over copper and 6 miles (10 km) over fib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F32-21FE-46DD-9388-90EA38CC2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925040" cy="3809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examined a number of popular I/O architectures to include SCSI-2, FC-AL, ATA, SATA, SAS, PCI, USB, IEEE 1394, and HIPP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 of these architectures are part of the SCSI Architecture Mode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er Channel is most often deployed as Fiber Channel Arbitrated Loop, forming the infrastructure for storage area networks, although iSCSI is gaining fa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5333040"/>
            <a:ext cx="586728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ummarizes the capabilities of the I/O architectures presented in this chap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465-7871-4324-8636-A7E8C710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2" descr=""/>
          <p:cNvPicPr/>
          <p:nvPr/>
        </p:nvPicPr>
        <p:blipFill>
          <a:blip r:embed="rId2"/>
          <a:stretch/>
        </p:blipFill>
        <p:spPr>
          <a:xfrm>
            <a:off x="914400" y="973080"/>
            <a:ext cx="698184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1855-24CD-4503-B15F-597D3327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1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A7DD-CAE1-4333-B002-4B41E563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systems have become independent systems requiring good management tools and techniq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llenges facing storage management includ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ing and extracting meaningful information from multi-terabyt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ing disk and file structures for optimum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ng large storage pools from disk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E41-634F-4085-B209-87CC4571B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SI,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all Computer System Interf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s a set of protocols and disk I/O signaling specifications that became an ANSI standard in 198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key idea behind SCSI is that it pushes intelligence from the host to the interface circuits thus making the system nearly self mana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CSI specification is now in its third generation, SCSI-3, which includes both serial and parallel interf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085-FB63-45C1-8BEC-3CE3DC620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066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 SCSI-2 daisy chains the host and disk devices along a parallel c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a_2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586728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27384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2600" indent="-282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the implement-ation, the cable may contain as many as 68 p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32AE-7CD8-4BB4-898F-5041512A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7a_3" descr=""/>
          <p:cNvPicPr/>
          <p:nvPr/>
        </p:nvPicPr>
        <p:blipFill>
          <a:blip r:embed="rId2"/>
          <a:stretch/>
        </p:blipFill>
        <p:spPr>
          <a:xfrm>
            <a:off x="685800" y="1512720"/>
            <a:ext cx="7767720" cy="4811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2286000" cy="1904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SI-2 protocol uses phases, as shown in this stat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F855-90B7-4AA9-BE29-8C575BDD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CSI-3 Architecture Model (SAM) is a layered architecture of specifications for numerous serial and parallel interf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layer interacts with a host-level command architecture called the SCSI-3 Common Access Method (CAM) that can interface with practically any type of storage de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ayers communicate with each other using protocol service requests, indications, responses, and confirm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561640"/>
            <a:ext cx="46479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show the SAM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01C6-274C-4D34-A483-41872F4E2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720" y="5790960"/>
            <a:ext cx="4496040" cy="5331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SI-3 Architectu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g_13-3_ECOA2E_ppt" descr=""/>
          <p:cNvPicPr/>
          <p:nvPr/>
        </p:nvPicPr>
        <p:blipFill>
          <a:blip r:embed="rId2"/>
          <a:stretch/>
        </p:blipFill>
        <p:spPr>
          <a:xfrm>
            <a:off x="189000" y="1643040"/>
            <a:ext cx="88027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0:07:56Z</dcterms:created>
  <dc:creator>Null &amp; Lobur</dc:creator>
  <dc:description/>
  <dc:language>en-US</dc:language>
  <cp:lastModifiedBy>User</cp:lastModifiedBy>
  <dcterms:modified xsi:type="dcterms:W3CDTF">2006-01-10T02:48:07Z</dcterms:modified>
  <cp:revision>141</cp:revision>
  <dc:subject/>
  <dc:title>Chapter 7A</dc:title>
</cp:coreProperties>
</file>