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5857-1D25-452C-8AC9-3DDC6AAD6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50DA-6A7B-48AF-B39C-5B359AAFE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C645-6CF2-4095-9392-CCE2DE5AF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3DAB-4E0F-40D0-B5E2-9AE54AB10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A8E9-F121-4763-8AA2-C13FC97E2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5692-2327-4165-8D6A-18C82327F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EB42-4BDD-45FD-828D-52CD36FFE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5E5F-4FE8-4AFB-ACE4-3EA6E2FBA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7505-FC2B-4E49-94B1-50C9C431D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512D-FC2B-4765-A724-7C5ED7480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17DB-394F-426A-85C4-F6DB150F1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DC85-4283-435F-87C3-E3EB353F9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8218-9626-436D-9A82-1C1A13123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ED97-5446-406D-9C65-565B28C77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A169-9A0A-4913-A5FC-0BFAB1537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6B5D-70AD-4E78-AC01-57FA0553A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40BF-42BB-4D24-96DC-ACA408A39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BAEF-4C54-4BE6-89C6-3640F520A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3368-1042-41F8-986F-15EC36579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79A1-09AC-45F2-8A00-417BCCB25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F276-70EB-45BC-A73C-60DC1A018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F462-F97D-487A-B06E-56E882DBD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4EE8-0D6E-4A6C-B176-1DD50DA3A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1BC7-DAD8-426B-9008-D4FED063A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7055-0E31-4E27-B243-22D5EC3D2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D2F0-3EAD-47B9-B9F4-B2C20F96E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F59F-4CCD-4E05-812C-C7C8D268E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783B-FBD6-43FF-9C40-D2771CA10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F093-BC5E-4A0F-9544-58ADF4E39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8D0A-AEB9-4854-A4BD-3FEE20312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8975-0AE9-407C-8B84-327D58C22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0BB8-97E3-4FDC-974E-36481B8CD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F59C-942F-4C3D-88D1-35557279C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340B-4AC4-4B67-8419-0DC4910DD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D9E5-4AEA-40F4-BCA9-30ADA70F0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1DDB-E540-4126-9956-A4010E1FE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44C3-AECE-402E-80E6-BD855D90F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5C81-E04E-4D18-A265-C996CDD39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0F57-AB1D-4051-BD7C-AFBCB73AC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1366-6CC6-4929-B732-F05105383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DCA4-FB95-4A91-867F-6C16CAF34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0F02-2232-4620-A72A-9D51E220F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E9D5-6A3E-4D5C-ACB9-FFD7E91F0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3E2C-145B-4BA3-8A39-03939AEC3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A67B-0EAD-4F6F-A65B-2B148CFF7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464D-7F7D-466D-8475-F26D75022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CF95-52D4-4DE4-A62F-D895998BF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03CD-33B7-40EA-81A0-208350B86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8416-2EAB-4522-B38F-CF91F49AF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BB45-0A44-41BC-A8B0-0950AD356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D3BC-83AC-4552-B509-FDD107307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FCF3-32FF-4A21-B574-86BF787D1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9A3C-7EAE-4705-9783-43B9A60A1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182E-228C-4599-BD32-4F5175F1B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FDEA-3CD7-444E-8B80-698EE3DB7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3F3C-579F-4ADC-866B-2708BC6AA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050C-8A35-4BD0-B9ED-4A59BD1E7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13A7-F718-46B5-BB2B-85C5E55B3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DD1D-06A0-4F13-AF97-6DE0415B8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D788-8843-4E6D-A707-51F9D2308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17B3-B840-4C62-A153-9F09D6F94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E767-D0C0-4CA7-BF9A-3D20361B3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DD00-0069-47CB-9870-E6CBA4874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64B7-318C-46B6-B53E-E0911A51A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BE0A-A3CC-451E-9ED1-6787D68AC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4D38-9A85-4B0A-B250-AEADFCB5F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8AF1-6782-4A26-844B-D5F361C9F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1275-E2B4-43E6-8539-51B6823D6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705E-367A-4DAB-852E-9BF0BA674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EC6F-04CB-4917-B17B-1A11BAA2C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178F-35AC-4D8F-A23C-4C7580CD5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0992-E3A7-4913-A874-2490A9777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F2C3-3780-42EF-BFF5-909F65508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D0BA-9543-4A9F-848F-ADA4F3CDD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6F82-0646-485B-9EAD-FE84EE02A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B6CD-F8E7-4394-9F64-A0BAA76DA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7A64-9B6D-4659-9EF3-082CD289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74C8-6E34-4AE5-8E82-D70C11D2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D46-2C67-40BC-81C4-1F00BAED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AA77-7170-4244-9AD7-1C52AAFE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30F-071F-4306-92DE-F078D7DE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D17D-6DDF-4BF9-863D-629C3AAA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1CC-AD67-43A0-AC81-5407594E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BDA-ECF0-453E-BD39-AD4AB235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E56-EAD0-486F-84D4-A69FA7F9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809-F9DB-4AEC-9CF8-6F1E9FBA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416D-9DB6-4CC9-8AB8-31875583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84D6-86DC-41FD-AE16-2BA7E5F8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7ABB-DD88-420D-8FAA-6B5D50343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520" y="3733920"/>
            <a:ext cx="4038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9880" y="4647960"/>
            <a:ext cx="518184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olean Algebra and Digital Log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8911-7E66-4790-B1FE-558B10158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C:\idraw20\3B.TIF"/>
          <p:cNvPicPr/>
          <p:nvPr/>
        </p:nvPicPr>
        <p:blipFill>
          <a:blip r:embed="rId1"/>
          <a:stretch/>
        </p:blipFill>
        <p:spPr>
          <a:xfrm>
            <a:off x="4826160" y="1676520"/>
            <a:ext cx="4012920" cy="3593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 with common arithmetic, Boolean operations have rules of precedenc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NOT operator has highest priority, followed by AND and then O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s is how we chose the (shaded) function subparts in our table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9534-D279-4DDA-8132-6E6C2955A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al computers contain circuits that implement Boolean func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impler that we can make a Boolean function, the smaller the circuit that will resul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r circuits are cheaper to build, consume less power, and run faster than complex circu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is in mind, we always want to reduce our Boolean functions to their simplest for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a number of Boolean identities that help us to do this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F31D-0E54-4481-B6CC-12EEF45AC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Boolean identities have an AND (product) form as well as an OR (sum) form.  We give our identities using both forms. Our first group is rather intuitiv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C:\idraw20\4B.TIF"/>
          <p:cNvPicPr/>
          <p:nvPr/>
        </p:nvPicPr>
        <p:blipFill>
          <a:blip r:embed="rId1"/>
          <a:stretch/>
        </p:blipFill>
        <p:spPr>
          <a:xfrm>
            <a:off x="1752480" y="3451320"/>
            <a:ext cx="55389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A7C6-CA14-461F-A447-BAE183237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C:\idraw20\6B.TIF"/>
          <p:cNvPicPr/>
          <p:nvPr/>
        </p:nvPicPr>
        <p:blipFill>
          <a:blip r:embed="rId1"/>
          <a:stretch/>
        </p:blipFill>
        <p:spPr>
          <a:xfrm>
            <a:off x="380880" y="3276720"/>
            <a:ext cx="8318520" cy="1920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second group of Boolean identities should be familiar to you from your study of algebr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E9BA-241A-42C8-B99A-F8D4F8356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7" descr="C:\idraw20\7B.TIF"/>
          <p:cNvPicPr/>
          <p:nvPr/>
        </p:nvPicPr>
        <p:blipFill>
          <a:blip r:embed="rId1"/>
          <a:stretch/>
        </p:blipFill>
        <p:spPr>
          <a:xfrm>
            <a:off x="990720" y="3505320"/>
            <a:ext cx="7011720" cy="2450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last group of Boolean identities are perhaps the most usefu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studied set theory or formal logic, these laws are also familiar to yo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BC7F-FD85-4BC0-A401-8451AFC4A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use Boolean identities to simplify the fun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follow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C:\idraw20\8.TIF"/>
          <p:cNvPicPr/>
          <p:nvPr/>
        </p:nvPicPr>
        <p:blipFill>
          <a:blip r:embed="rId1"/>
          <a:stretch/>
        </p:blipFill>
        <p:spPr>
          <a:xfrm>
            <a:off x="2514600" y="2239920"/>
            <a:ext cx="4964040" cy="503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idraw20\9.TIF"/>
          <p:cNvPicPr/>
          <p:nvPr/>
        </p:nvPicPr>
        <p:blipFill>
          <a:blip r:embed="rId2"/>
          <a:stretch/>
        </p:blipFill>
        <p:spPr>
          <a:xfrm>
            <a:off x="304920" y="3276720"/>
            <a:ext cx="85280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E302-E116-4C65-9E97-EC2696DD7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it is more economical to build a circuit using the complement of a function (and complementing its result) than it is to implement the function direct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rgan’s law provides an easy way of finding the complement of a Boolean fun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all DeMorgan’s law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C:\idraw20\0A.TIF"/>
          <p:cNvPicPr/>
          <p:nvPr/>
        </p:nvPicPr>
        <p:blipFill>
          <a:blip r:embed="rId1"/>
          <a:stretch/>
        </p:blipFill>
        <p:spPr>
          <a:xfrm>
            <a:off x="1587600" y="4800600"/>
            <a:ext cx="626112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0C45-96B1-43E4-9EE5-0C42D094C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Morgan’s law can be extended to any number of variab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place each variable by its complement and change all ANDs to ORs and all ORs to AND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us, we find the the complement 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C:\idraw20\0.TIF"/>
          <p:cNvPicPr/>
          <p:nvPr/>
        </p:nvPicPr>
        <p:blipFill>
          <a:blip r:embed="rId1"/>
          <a:stretch/>
        </p:blipFill>
        <p:spPr>
          <a:xfrm>
            <a:off x="1784520" y="3792600"/>
            <a:ext cx="4890960" cy="550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:\idraw20\10.TIF"/>
          <p:cNvPicPr/>
          <p:nvPr/>
        </p:nvPicPr>
        <p:blipFill>
          <a:blip r:embed="rId2"/>
          <a:stretch/>
        </p:blipFill>
        <p:spPr>
          <a:xfrm>
            <a:off x="1676520" y="4267080"/>
            <a:ext cx="500832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CD0F-F118-478F-AA66-1D952B2B4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ough our exercises in simplifying Boolean expressions, we see that there are numerous ways of stating the same Boolean express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“synonymous” forms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ically equival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ly equivalent expressions have identical truth t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order to eliminate as much confusion as possible, designers express Boolean functions 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andardiz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anonica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35EA-1833-4470-9D5A-F97FEA573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re are two canonical forms for Boolean expressions: sum-of-products and product-of-sum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the Boolean product is the AND operation and the Boolean sum is the OR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the sum-of-products form, ANDed variables are ORed togethe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the product-of-sums form, ORed variables are ANDed together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C:\idraw20\11.TIF"/>
          <p:cNvPicPr/>
          <p:nvPr/>
        </p:nvPicPr>
        <p:blipFill>
          <a:blip r:embed="rId1"/>
          <a:srcRect l="0" t="0" r="0" b="19199"/>
          <a:stretch/>
        </p:blipFill>
        <p:spPr>
          <a:xfrm>
            <a:off x="3124080" y="3930480"/>
            <a:ext cx="451656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:\idraw20\12.TIF"/>
          <p:cNvPicPr/>
          <p:nvPr/>
        </p:nvPicPr>
        <p:blipFill>
          <a:blip r:embed="rId2"/>
          <a:stretch/>
        </p:blipFill>
        <p:spPr>
          <a:xfrm>
            <a:off x="3129120" y="5146560"/>
            <a:ext cx="555768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D63A-EDCA-4F3C-83D8-96876BFA3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571500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3 Objecti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the relationship between Boolean logic and digital computer circu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 how to design simple logic circu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how digital circuits work together to form complex computer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35AA-6787-4C4E-A909-55654C4FC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 is easy to convert a function to sum-of-products form using its truth tabl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are interested in the values of the variables that make the function true (=1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ing the truth table, we list the values of the variables that result in a true function valu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ch group of variables is then ORed togethe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C:\idraw20\15.TIF"/>
          <p:cNvPicPr/>
          <p:nvPr/>
        </p:nvPicPr>
        <p:blipFill>
          <a:blip r:embed="rId1"/>
          <a:stretch/>
        </p:blipFill>
        <p:spPr>
          <a:xfrm>
            <a:off x="5545080" y="1600200"/>
            <a:ext cx="32180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A42B-74DF-4287-8C18-0D358C02C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7" descr="C:\idraw20\16.TIF"/>
          <p:cNvPicPr/>
          <p:nvPr/>
        </p:nvPicPr>
        <p:blipFill>
          <a:blip r:embed="rId1"/>
          <a:stretch/>
        </p:blipFill>
        <p:spPr>
          <a:xfrm>
            <a:off x="550800" y="2701800"/>
            <a:ext cx="4935600" cy="916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sum-of-products form for our function i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C:\idraw20\15.TIF"/>
          <p:cNvPicPr/>
          <p:nvPr/>
        </p:nvPicPr>
        <p:blipFill>
          <a:blip r:embed="rId2"/>
          <a:stretch/>
        </p:blipFill>
        <p:spPr>
          <a:xfrm>
            <a:off x="5545080" y="1600200"/>
            <a:ext cx="3218040" cy="39369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990720" y="4032720"/>
            <a:ext cx="4114800" cy="143460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We note that this function is not in simplest terms. Our aim is only to rewrite our function in canonical sum-of-products form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97D5-1B7E-4AA5-A84E-C87C6212F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have looked at Boolean functions in abstract term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this section, we see that Boolean functions are implemented in digital computer circuits called gat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gate is an electronic device that produces a result based on two or more input valu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gates consist of one to six transistors, but digital designers think of them as a single un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circuits contain collections of gates suited to a particular pur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3 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E6DF-DF5B-45E6-831C-05A76D266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three simplest gates are the AND, OR, and NOT gat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correspond directly to their respective Boolean operations, as you can see by their truth tab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3 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C:\idraw20\17.TIF"/>
          <p:cNvPicPr/>
          <p:nvPr/>
        </p:nvPicPr>
        <p:blipFill>
          <a:blip r:embed="rId1"/>
          <a:stretch/>
        </p:blipFill>
        <p:spPr>
          <a:xfrm>
            <a:off x="2209680" y="2200320"/>
            <a:ext cx="59058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6730-4E58-4BA0-AA39-782AE35C1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very useful gate is the exclusive OR (XOR) gate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utput of the XOR operation is true only when the values of the inputs diff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3 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C:\idraw20\18.TIF"/>
          <p:cNvPicPr/>
          <p:nvPr/>
        </p:nvPicPr>
        <p:blipFill>
          <a:blip r:embed="rId1"/>
          <a:stretch/>
        </p:blipFill>
        <p:spPr>
          <a:xfrm>
            <a:off x="1905120" y="3429000"/>
            <a:ext cx="4287600" cy="2085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5105520" y="5180400"/>
            <a:ext cx="342900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Note the special symbol </a:t>
            </a:r>
            <a:r>
              <a:rPr b="1" lang="en-US" sz="2200" spc="-1" strike="noStrike">
                <a:solidFill>
                  <a:srgbClr val="cc3300"/>
                </a:solidFill>
                <a:latin typeface="Symbol"/>
                <a:ea typeface="Symbol"/>
              </a:rPr>
              <a:t>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 for the XOR oper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CC49-9756-4DE4-879A-B3E55BBA8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3276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ND and NOR are two very important gates.  Their symbols and truth tables are shown at the right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3 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C:\idraw20\19V.TIF"/>
          <p:cNvPicPr/>
          <p:nvPr/>
        </p:nvPicPr>
        <p:blipFill>
          <a:blip r:embed="rId1"/>
          <a:stretch/>
        </p:blipFill>
        <p:spPr>
          <a:xfrm>
            <a:off x="3832200" y="1600200"/>
            <a:ext cx="508320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08BF-B19B-4F1F-BACF-1F5034234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3 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353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ND and NOR are known as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universal gate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because they are inexpensive to manufacture and any Boolean function can be constructed using only NAND or only NOR gat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C:\idraw20\21A.TIF"/>
          <p:cNvPicPr/>
          <p:nvPr/>
        </p:nvPicPr>
        <p:blipFill>
          <a:blip r:embed="rId1"/>
          <a:stretch/>
        </p:blipFill>
        <p:spPr>
          <a:xfrm>
            <a:off x="4199040" y="1608120"/>
            <a:ext cx="448776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1EED-82AB-4618-A338-F7B825679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3 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tes can have multiple inputs and more than one outpu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cond output can be provided for the complement of the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see more of this l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5" descr="C:\idraw20\22.TIF"/>
          <p:cNvPicPr/>
          <p:nvPr/>
        </p:nvPicPr>
        <p:blipFill>
          <a:blip r:embed="rId1"/>
          <a:stretch/>
        </p:blipFill>
        <p:spPr>
          <a:xfrm>
            <a:off x="947880" y="3962520"/>
            <a:ext cx="73580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1DDE-A99F-45EE-88E4-8DF6F838C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4 Digital Compon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in thing to remember is that combinations of gates implement Boolean func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ircuit below implements the Boolean fun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C:\idraw20\20.TIF"/>
          <p:cNvPicPr/>
          <p:nvPr/>
        </p:nvPicPr>
        <p:blipFill>
          <a:blip r:embed="rId1"/>
          <a:stretch/>
        </p:blipFill>
        <p:spPr>
          <a:xfrm>
            <a:off x="1270080" y="3654360"/>
            <a:ext cx="6197400" cy="1527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C:\idraw20\20A.TIF"/>
          <p:cNvPicPr/>
          <p:nvPr/>
        </p:nvPicPr>
        <p:blipFill>
          <a:blip r:embed="rId2"/>
          <a:stretch/>
        </p:blipFill>
        <p:spPr>
          <a:xfrm>
            <a:off x="2421000" y="3013200"/>
            <a:ext cx="3217680" cy="568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3429000" y="5333040"/>
            <a:ext cx="495288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We simplify our Boolean expressions so that we can create simpler circui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BF94-5A93-4258-A75E-C6E345EAC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designed a circuit that implements the Boolean fun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circuit is an example of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ircu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al logic circuits produce a specified output (almost) at the instant when input values are appli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later section, we will explore circuits where this is not the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C:\idraw20\20A.TIF"/>
          <p:cNvPicPr/>
          <p:nvPr/>
        </p:nvPicPr>
        <p:blipFill>
          <a:blip r:embed="rId1"/>
          <a:stretch/>
        </p:blipFill>
        <p:spPr>
          <a:xfrm>
            <a:off x="2362320" y="2479680"/>
            <a:ext cx="321768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9B7B-EA97-4697-BD8E-35A3D3595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latter part of the nineteenth century, George Boole incensed philosophers and mathematicians alike when he suggested that logical thought could be represented through mathematical equ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dare anyone suggest that human thought could be encapsulated and manipulated like an algebraic formu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s, as we know them today, are implementations of Boole’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aws of Thou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Atanasoff and Claude Shannon were among the first to see this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1824-31DD-4B55-B2A1-6604F92AD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binational logic circuits give us many useful devic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of the simplest is the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half adde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which finds the sum of two bit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can gain some insight as to the construction of a half adder by looking at its truth table, shown at the righ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6" descr="C:\idraw20\23.TIF"/>
          <p:cNvPicPr/>
          <p:nvPr/>
        </p:nvPicPr>
        <p:blipFill>
          <a:blip r:embed="rId1"/>
          <a:stretch/>
        </p:blipFill>
        <p:spPr>
          <a:xfrm>
            <a:off x="5127480" y="2286000"/>
            <a:ext cx="348300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188F-DAB7-45DB-B814-959F9D9F1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 we see, the sum can be found using the XOR operation and the carry using the AND opera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C:\idraw20\23.TIF"/>
          <p:cNvPicPr/>
          <p:nvPr/>
        </p:nvPicPr>
        <p:blipFill>
          <a:blip r:embed="rId1"/>
          <a:stretch/>
        </p:blipFill>
        <p:spPr>
          <a:xfrm>
            <a:off x="5127480" y="2286000"/>
            <a:ext cx="3483000" cy="2481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idraw20\24.TIF"/>
          <p:cNvPicPr/>
          <p:nvPr/>
        </p:nvPicPr>
        <p:blipFill>
          <a:blip r:embed="rId2"/>
          <a:stretch/>
        </p:blipFill>
        <p:spPr>
          <a:xfrm>
            <a:off x="1066680" y="3505320"/>
            <a:ext cx="3483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878D-ECDC-422D-BAC0-DD80183F9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change our half adder into to a full adder by including gates for processing the carry b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ruth table for a full adder is shown at the righ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9" descr="C:\idraw20\25.TIF"/>
          <p:cNvPicPr/>
          <p:nvPr/>
        </p:nvPicPr>
        <p:blipFill>
          <a:blip r:embed="rId1"/>
          <a:stretch/>
        </p:blipFill>
        <p:spPr>
          <a:xfrm>
            <a:off x="4564080" y="1905120"/>
            <a:ext cx="412272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38EC-52A6-4DD0-826A-65901F877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can we change the half adder shown below to make it a full adder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C:\idraw20\25.TIF"/>
          <p:cNvPicPr/>
          <p:nvPr/>
        </p:nvPicPr>
        <p:blipFill>
          <a:blip r:embed="rId1"/>
          <a:stretch/>
        </p:blipFill>
        <p:spPr>
          <a:xfrm>
            <a:off x="4564080" y="1905120"/>
            <a:ext cx="4122720" cy="3801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C:\idraw20\24.TIF"/>
          <p:cNvPicPr/>
          <p:nvPr/>
        </p:nvPicPr>
        <p:blipFill>
          <a:blip r:embed="rId2"/>
          <a:stretch/>
        </p:blipFill>
        <p:spPr>
          <a:xfrm>
            <a:off x="762120" y="3406680"/>
            <a:ext cx="3483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7B7F-E6F4-471B-A196-8EF7FA67C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7" descr="C:\idraw20\26.TIF"/>
          <p:cNvPicPr/>
          <p:nvPr/>
        </p:nvPicPr>
        <p:blipFill>
          <a:blip r:embed="rId1"/>
          <a:stretch/>
        </p:blipFill>
        <p:spPr>
          <a:xfrm>
            <a:off x="380880" y="2286000"/>
            <a:ext cx="4845240" cy="37400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’s our completed full ad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4" descr="C:\idraw20\25.TIF"/>
          <p:cNvPicPr/>
          <p:nvPr/>
        </p:nvPicPr>
        <p:blipFill>
          <a:blip r:embed="rId2"/>
          <a:stretch/>
        </p:blipFill>
        <p:spPr>
          <a:xfrm>
            <a:off x="5257800" y="2514600"/>
            <a:ext cx="3436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1914-3F63-4E92-91D1-F752C0B91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st as we combined half adders to make a full adder, full adders can connected in seri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arry bit “ripples” from one adder to the next; hence, this configuration is called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ipple-car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dd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2362320" y="5439240"/>
            <a:ext cx="601956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oday’s systems employ more efficient adders.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7" descr="C:\idraw20\31.TIF"/>
          <p:cNvPicPr/>
          <p:nvPr/>
        </p:nvPicPr>
        <p:blipFill>
          <a:blip r:embed="rId1"/>
          <a:stretch/>
        </p:blipFill>
        <p:spPr>
          <a:xfrm>
            <a:off x="609480" y="3884760"/>
            <a:ext cx="771552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49C6-E464-42D4-9867-7A5AF2E0E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oders are another important type of combinational circu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ong other things, they are useful in selecting a memory location according a binary value placed on the address lines of a memory bu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ress decoders wit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puts can select any of 2</a:t>
            </a:r>
            <a:r>
              <a:rPr b="0" i="1" lang="en-US" sz="2600" spc="-1" strike="noStrike" baseline="4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ocation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143000" y="4799520"/>
            <a:ext cx="1905120" cy="109944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is is a block diagram for a decoder.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C:\idraw20\28.TIF"/>
          <p:cNvPicPr/>
          <p:nvPr/>
        </p:nvPicPr>
        <p:blipFill>
          <a:blip r:embed="rId1"/>
          <a:stretch/>
        </p:blipFill>
        <p:spPr>
          <a:xfrm>
            <a:off x="3276720" y="4343400"/>
            <a:ext cx="5155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D432-1BCD-4FC0-8ED1-426A6AF52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what a 2-to-4 decoder looks like on the insi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6" descr="C:\idraw20\27.TIF"/>
          <p:cNvPicPr/>
          <p:nvPr/>
        </p:nvPicPr>
        <p:blipFill>
          <a:blip r:embed="rId1"/>
          <a:stretch/>
        </p:blipFill>
        <p:spPr>
          <a:xfrm>
            <a:off x="2370240" y="2362320"/>
            <a:ext cx="5173560" cy="33350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7"/>
          <p:cNvSpPr/>
          <p:nvPr/>
        </p:nvSpPr>
        <p:spPr>
          <a:xfrm>
            <a:off x="1066680" y="4617000"/>
            <a:ext cx="2286000" cy="109944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If x = 0 and y = 1, which output line is enabled?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FD8C-41CF-4D3F-94A9-192388CF2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6" descr="C:\idraw20\30.TIF"/>
          <p:cNvPicPr/>
          <p:nvPr/>
        </p:nvPicPr>
        <p:blipFill>
          <a:blip r:embed="rId1"/>
          <a:stretch/>
        </p:blipFill>
        <p:spPr>
          <a:xfrm>
            <a:off x="4971960" y="1752480"/>
            <a:ext cx="3867120" cy="2606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multiplexer does just the opposite of a decode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 selects a single output from several input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articular input chosen for output is determined by the value of the multiplexer’s control lin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be able to select among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nputs, lo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control lines are needed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943600" y="4647240"/>
            <a:ext cx="1905120" cy="109944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is is a block diagram for a multiplexer.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D2B7-F6DC-4E82-9958-A951576F0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8" descr="C:\idraw20\29.TIF"/>
          <p:cNvPicPr/>
          <p:nvPr/>
        </p:nvPicPr>
        <p:blipFill>
          <a:blip r:embed="rId1"/>
          <a:stretch/>
        </p:blipFill>
        <p:spPr>
          <a:xfrm>
            <a:off x="914400" y="2514600"/>
            <a:ext cx="7157880" cy="33004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what a 4-to-1 multiplexer looks like on the inside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6095880" y="4487400"/>
            <a:ext cx="2514600" cy="14806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If S</a:t>
            </a:r>
            <a:r>
              <a:rPr b="1" lang="en-US" sz="22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 = 1 and S</a:t>
            </a:r>
            <a:r>
              <a:rPr b="1" lang="en-US" sz="2200" spc="-1" strike="noStrike" baseline="-25000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 = 0, which input is transferred to the output?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25C6-00C8-4EF1-8D45-11CB43414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middle of the twentieth century, computers were commonly known as “thinking machines” and “electronic brains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eople were fearful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adays, we rarely ponder the relationship between electronic digital computers and human logic. Computers are accepted as part of our liv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eople, however, are still fearful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is chapter, you will learn the simplicity that constitutes the essence of the machi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F760-3E5A-4108-B3C9-18B262C77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7" descr="C:\wpdocs\Julie\ECOA 2e\Ch3\PPTs\Fig_3-16_ECOA2E.tif"/>
          <p:cNvPicPr/>
          <p:nvPr/>
        </p:nvPicPr>
        <p:blipFill>
          <a:blip r:embed="rId1"/>
          <a:srcRect l="7106" t="4594" r="6462" b="6194"/>
          <a:stretch/>
        </p:blipFill>
        <p:spPr>
          <a:xfrm>
            <a:off x="2895480" y="1373040"/>
            <a:ext cx="5257800" cy="5186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90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shifter moves the bits of a nibble one position to the left or righ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371600" y="5028120"/>
            <a:ext cx="2286000" cy="109944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If S = 0, in which direction do the input bits shift?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E6AC-2771-43F1-98FF-09C8CDFFB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al logic circuits are perfect for situations when we require the immediate application of a Boolean function to a set of input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other times, however, when we need a circuit to change its value with consideration to its current state as well as its inpu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circuits have to “remember” their current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quential logic circui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rovide this functionality for u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B7DA-4B49-4F5D-B3DA-0628A02D0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 the name implies, sequential logic circuits require a means by which events can be sequenced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ate changes are controlled by clock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“clock” is a special circuit that sends electrical pulses through a circ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ocks produce electrical waveforms such as the one shown below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5" descr="C:\idraw20\32.TIF"/>
          <p:cNvPicPr/>
          <p:nvPr/>
        </p:nvPicPr>
        <p:blipFill>
          <a:blip r:embed="rId1"/>
          <a:stretch/>
        </p:blipFill>
        <p:spPr>
          <a:xfrm>
            <a:off x="1523880" y="4591080"/>
            <a:ext cx="5521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1FB8-2B58-4798-B0D9-E391C7676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 changes occur in sequential circuits only when the clock tick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rcuits can change state on the rising edge, falling edge, or when the clock pulse reaches its highest volt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C:\idraw20\32.TIF"/>
          <p:cNvPicPr/>
          <p:nvPr/>
        </p:nvPicPr>
        <p:blipFill>
          <a:blip r:embed="rId1"/>
          <a:srcRect l="0" t="4749" r="0" b="10396"/>
          <a:stretch/>
        </p:blipFill>
        <p:spPr>
          <a:xfrm>
            <a:off x="762120" y="4059360"/>
            <a:ext cx="723096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4BDD-456F-4FD8-80A2-782745254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rcuits that change state on the rising edge, or  falling edge of the clock pulse are call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dge-trigger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evel-triggered circui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ange state when the clock voltage reaches its highest or lowest leve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C:\idraw20\32.TIF"/>
          <p:cNvPicPr/>
          <p:nvPr/>
        </p:nvPicPr>
        <p:blipFill>
          <a:blip r:embed="rId1"/>
          <a:srcRect l="0" t="4749" r="0" b="10396"/>
          <a:stretch/>
        </p:blipFill>
        <p:spPr>
          <a:xfrm>
            <a:off x="762120" y="4059360"/>
            <a:ext cx="723096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1D87-D193-44E0-B27C-E56059168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8483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retain their state values, sequential circuits rely o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eed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edback in digital circuits occurs when an output is looped back to the inpu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mple example of this concept is shown bel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Q is 0 it will always be 0, if it is 1, it will always be 1. 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5" descr="C:\idraw20\33.TIF"/>
          <p:cNvPicPr/>
          <p:nvPr/>
        </p:nvPicPr>
        <p:blipFill>
          <a:blip r:embed="rId1"/>
          <a:stretch/>
        </p:blipFill>
        <p:spPr>
          <a:xfrm>
            <a:off x="2438280" y="4689360"/>
            <a:ext cx="423252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72FF-6CD1-4076-AEB6-12BF8B844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see how feedback works by examining the most basic sequential logic components, the SR flip-flop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SR” stands for set/re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ternals of an SR flip-flop are shown below, along with its block diagra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5" descr="C:\idraw20\35.TIF"/>
          <p:cNvPicPr/>
          <p:nvPr/>
        </p:nvPicPr>
        <p:blipFill>
          <a:blip r:embed="rId1"/>
          <a:stretch/>
        </p:blipFill>
        <p:spPr>
          <a:xfrm>
            <a:off x="1143000" y="4267080"/>
            <a:ext cx="3427560" cy="1814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C:\idraw20\34.TIF"/>
          <p:cNvPicPr/>
          <p:nvPr/>
        </p:nvPicPr>
        <p:blipFill>
          <a:blip r:embed="rId2"/>
          <a:stretch/>
        </p:blipFill>
        <p:spPr>
          <a:xfrm>
            <a:off x="4795920" y="4314960"/>
            <a:ext cx="32814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5A8A-4C56-450F-B963-FA64F34E5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ehavior of an SR flip-flop is described by a characteristic 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(t) means the value of the output at time t.  Q(t+1) is the value of Q after the next clock pul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4" descr="C:\idraw20\35.TIF"/>
          <p:cNvPicPr/>
          <p:nvPr/>
        </p:nvPicPr>
        <p:blipFill>
          <a:blip r:embed="rId1"/>
          <a:stretch/>
        </p:blipFill>
        <p:spPr>
          <a:xfrm>
            <a:off x="685800" y="3984480"/>
            <a:ext cx="3427560" cy="1814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C:\idraw20\36.TIF"/>
          <p:cNvPicPr/>
          <p:nvPr/>
        </p:nvPicPr>
        <p:blipFill>
          <a:blip r:embed="rId2"/>
          <a:stretch/>
        </p:blipFill>
        <p:spPr>
          <a:xfrm>
            <a:off x="4267080" y="3733920"/>
            <a:ext cx="440532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038C-F2F8-4AA7-A612-4B832B9BD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SR flip-flop actually has three inputs: S, R, and its current output, Q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us, we can construct a truth table for this circuit, as shown at the righ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tice the two undefined values.  When both S and R are 1, the SR flip-flop is unstabl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6" descr="C:\idraw20\37.TIF"/>
          <p:cNvPicPr/>
          <p:nvPr/>
        </p:nvPicPr>
        <p:blipFill>
          <a:blip r:embed="rId1"/>
          <a:stretch/>
        </p:blipFill>
        <p:spPr>
          <a:xfrm>
            <a:off x="4572000" y="1676520"/>
            <a:ext cx="400356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6B9F-2B13-44F6-9300-20C92D99A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can be sure that the inputs to an SR flip-flop will never both be 1, we will never have an unstable circuit. This may not always be the c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R flip-flop can be modified to provide a stable state when both inputs are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6" descr="C:\idraw20\38.TIF"/>
          <p:cNvPicPr/>
          <p:nvPr/>
        </p:nvPicPr>
        <p:blipFill>
          <a:blip r:embed="rId1"/>
          <a:stretch/>
        </p:blipFill>
        <p:spPr>
          <a:xfrm>
            <a:off x="4724280" y="3886200"/>
            <a:ext cx="3648240" cy="18111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7"/>
          <p:cNvSpPr/>
          <p:nvPr/>
        </p:nvSpPr>
        <p:spPr>
          <a:xfrm>
            <a:off x="533520" y="3701880"/>
            <a:ext cx="426708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modified flip-flop is called a JK flip-flop, shown at the righ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JK” is in hono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 Kilb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C02A-8872-494C-AEA2-B0EFAB52F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lean algebra is a mathematical system for the manipulation of variables that can have one of two valu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ormal logic, these values are “true” and “fals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igital systems, these values are “on” and “off,” 1 and 0, or “high” and “low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lean expressions are created by performing operations on Boolean varia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Boolean operators include AND, OR, and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38F9-9102-4AA2-9AEE-AECCBCE96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657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the right, we see how an SR flip-flop can be modified to create a JK flip-flo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haracteristic table indicates that the flip-flop is stable for all inpu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6" descr="C:\idraw20\40.TIF"/>
          <p:cNvPicPr/>
          <p:nvPr/>
        </p:nvPicPr>
        <p:blipFill>
          <a:blip r:embed="rId1"/>
          <a:stretch/>
        </p:blipFill>
        <p:spPr>
          <a:xfrm>
            <a:off x="4267080" y="1523880"/>
            <a:ext cx="3838680" cy="1892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C:\idraw20\39.TIF"/>
          <p:cNvPicPr/>
          <p:nvPr/>
        </p:nvPicPr>
        <p:blipFill>
          <a:blip r:embed="rId2"/>
          <a:stretch/>
        </p:blipFill>
        <p:spPr>
          <a:xfrm>
            <a:off x="4311720" y="3656160"/>
            <a:ext cx="4222800" cy="1982520"/>
          </a:xfrm>
          <a:prstGeom prst="rect">
            <a:avLst/>
          </a:prstGeom>
          <a:ln w="0">
            <a:noFill/>
          </a:ln>
        </p:spPr>
      </p:pic>
      <p:sp>
        <p:nvSpPr>
          <p:cNvPr id="260" name="Ink 9"/>
          <p:cNvSpPr/>
          <p:nvPr/>
        </p:nvSpPr>
        <p:spPr>
          <a:xfrm>
            <a:off x="6745320" y="1623960"/>
            <a:ext cx="1619280" cy="642960"/>
          </a:xfrm>
          <a:custGeom>
            <a:avLst/>
            <a:gdLst/>
            <a:ahLst/>
            <a:rect l="l" t="t" r="r" b="b"/>
            <a:pathLst>
              <a:path w="4497" h="1787">
                <a:moveTo>
                  <a:pt x="18863" y="5655"/>
                </a:moveTo>
                <a:cubicBezTo>
                  <a:pt x="18845" y="5610"/>
                  <a:pt x="18834" y="5585"/>
                  <a:pt x="18845" y="5538"/>
                </a:cubicBezTo>
                <a:cubicBezTo>
                  <a:pt x="18855" y="5495"/>
                  <a:pt x="18865" y="5453"/>
                  <a:pt x="18894" y="5418"/>
                </a:cubicBezTo>
                <a:cubicBezTo>
                  <a:pt x="18925" y="5381"/>
                  <a:pt x="18971" y="5354"/>
                  <a:pt x="19019" y="5346"/>
                </a:cubicBezTo>
                <a:cubicBezTo>
                  <a:pt x="19102" y="5333"/>
                  <a:pt x="19186" y="5368"/>
                  <a:pt x="19245" y="5426"/>
                </a:cubicBezTo>
                <a:cubicBezTo>
                  <a:pt x="19331" y="5510"/>
                  <a:pt x="19372" y="5636"/>
                  <a:pt x="19381" y="5753"/>
                </a:cubicBezTo>
                <a:cubicBezTo>
                  <a:pt x="19389" y="5867"/>
                  <a:pt x="19365" y="5978"/>
                  <a:pt x="19312" y="6079"/>
                </a:cubicBezTo>
                <a:cubicBezTo>
                  <a:pt x="19267" y="6165"/>
                  <a:pt x="19195" y="6243"/>
                  <a:pt x="19102" y="6278"/>
                </a:cubicBezTo>
                <a:cubicBezTo>
                  <a:pt x="19033" y="6304"/>
                  <a:pt x="18935" y="6303"/>
                  <a:pt x="18868" y="6268"/>
                </a:cubicBezTo>
                <a:cubicBezTo>
                  <a:pt x="18753" y="6208"/>
                  <a:pt x="18730" y="6074"/>
                  <a:pt x="18749" y="5960"/>
                </a:cubicBezTo>
                <a:cubicBezTo>
                  <a:pt x="18764" y="5870"/>
                  <a:pt x="18803" y="5785"/>
                  <a:pt x="18870" y="5721"/>
                </a:cubicBezTo>
                <a:cubicBezTo>
                  <a:pt x="18888" y="5708"/>
                  <a:pt x="18906" y="5696"/>
                  <a:pt x="18924" y="5683"/>
                </a:cubicBezTo>
              </a:path>
              <a:path w="4497" h="1787">
                <a:moveTo>
                  <a:pt x="19317" y="5633"/>
                </a:moveTo>
                <a:cubicBezTo>
                  <a:pt x="19334" y="5599"/>
                  <a:pt x="19339" y="5596"/>
                  <a:pt x="19356" y="5562"/>
                </a:cubicBezTo>
                <a:cubicBezTo>
                  <a:pt x="19474" y="5321"/>
                  <a:pt x="19601" y="5062"/>
                  <a:pt x="19827" y="4903"/>
                </a:cubicBezTo>
                <a:cubicBezTo>
                  <a:pt x="20125" y="4693"/>
                  <a:pt x="20515" y="4754"/>
                  <a:pt x="20847" y="4825"/>
                </a:cubicBezTo>
                <a:cubicBezTo>
                  <a:pt x="21290" y="4919"/>
                  <a:pt x="21724" y="5088"/>
                  <a:pt x="22182" y="5080"/>
                </a:cubicBezTo>
                <a:cubicBezTo>
                  <a:pt x="22300" y="5078"/>
                  <a:pt x="22428" y="5068"/>
                  <a:pt x="22533" y="5009"/>
                </a:cubicBezTo>
                <a:cubicBezTo>
                  <a:pt x="22548" y="5001"/>
                  <a:pt x="22561" y="4983"/>
                  <a:pt x="22576" y="4974"/>
                </a:cubicBezTo>
              </a:path>
              <a:path w="4497" h="1787">
                <a:moveTo>
                  <a:pt x="22921" y="4509"/>
                </a:moveTo>
                <a:cubicBezTo>
                  <a:pt x="22927" y="4535"/>
                  <a:pt x="22921" y="4554"/>
                  <a:pt x="22902" y="4602"/>
                </a:cubicBezTo>
                <a:cubicBezTo>
                  <a:pt x="22868" y="4686"/>
                  <a:pt x="22833" y="4771"/>
                  <a:pt x="22807" y="4858"/>
                </a:cubicBezTo>
                <a:cubicBezTo>
                  <a:pt x="22783" y="4939"/>
                  <a:pt x="22741" y="5063"/>
                  <a:pt x="22788" y="5144"/>
                </a:cubicBezTo>
                <a:cubicBezTo>
                  <a:pt x="22831" y="5217"/>
                  <a:pt x="22929" y="5206"/>
                  <a:pt x="22995" y="5176"/>
                </a:cubicBezTo>
                <a:cubicBezTo>
                  <a:pt x="23074" y="5140"/>
                  <a:pt x="23140" y="5077"/>
                  <a:pt x="23179" y="4999"/>
                </a:cubicBezTo>
                <a:cubicBezTo>
                  <a:pt x="23216" y="4925"/>
                  <a:pt x="23231" y="4833"/>
                  <a:pt x="23216" y="4751"/>
                </a:cubicBezTo>
                <a:cubicBezTo>
                  <a:pt x="23204" y="4687"/>
                  <a:pt x="23176" y="4623"/>
                  <a:pt x="23120" y="4586"/>
                </a:cubicBezTo>
                <a:cubicBezTo>
                  <a:pt x="23085" y="4563"/>
                  <a:pt x="23005" y="4553"/>
                  <a:pt x="22966" y="4574"/>
                </a:cubicBezTo>
                <a:cubicBezTo>
                  <a:pt x="22927" y="4595"/>
                  <a:pt x="22908" y="4628"/>
                  <a:pt x="22889" y="4663"/>
                </a:cubicBezTo>
              </a:path>
              <a:path w="4497" h="1787">
                <a:moveTo>
                  <a:pt x="22932" y="4869"/>
                </a:moveTo>
                <a:cubicBezTo>
                  <a:pt x="22936" y="4920"/>
                  <a:pt x="22954" y="4946"/>
                  <a:pt x="22976" y="4993"/>
                </a:cubicBezTo>
                <a:cubicBezTo>
                  <a:pt x="23009" y="5064"/>
                  <a:pt x="23047" y="5130"/>
                  <a:pt x="23086" y="5198"/>
                </a:cubicBezTo>
                <a:cubicBezTo>
                  <a:pt x="23123" y="5261"/>
                  <a:pt x="23157" y="5314"/>
                  <a:pt x="23203" y="5370"/>
                </a:cubicBezTo>
                <a:cubicBezTo>
                  <a:pt x="23217" y="5387"/>
                  <a:pt x="23222" y="5393"/>
                  <a:pt x="23232" y="5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Ink 10"/>
          <p:cNvSpPr/>
          <p:nvPr/>
        </p:nvSpPr>
        <p:spPr>
          <a:xfrm>
            <a:off x="6821640" y="2406600"/>
            <a:ext cx="1633320" cy="606600"/>
          </a:xfrm>
          <a:custGeom>
            <a:avLst/>
            <a:gdLst/>
            <a:ahLst/>
            <a:rect l="l" t="t" r="r" b="b"/>
            <a:pathLst>
              <a:path w="4540" h="1685">
                <a:moveTo>
                  <a:pt x="19051" y="7019"/>
                </a:moveTo>
                <a:cubicBezTo>
                  <a:pt x="19035" y="6974"/>
                  <a:pt x="19024" y="6931"/>
                  <a:pt x="19014" y="6884"/>
                </a:cubicBezTo>
                <a:cubicBezTo>
                  <a:pt x="19006" y="6846"/>
                  <a:pt x="18996" y="6793"/>
                  <a:pt x="19014" y="6756"/>
                </a:cubicBezTo>
                <a:cubicBezTo>
                  <a:pt x="19032" y="6717"/>
                  <a:pt x="19078" y="6694"/>
                  <a:pt x="19118" y="6687"/>
                </a:cubicBezTo>
                <a:cubicBezTo>
                  <a:pt x="19213" y="6670"/>
                  <a:pt x="19303" y="6721"/>
                  <a:pt x="19365" y="6789"/>
                </a:cubicBezTo>
                <a:cubicBezTo>
                  <a:pt x="19444" y="6876"/>
                  <a:pt x="19475" y="6993"/>
                  <a:pt x="19490" y="7107"/>
                </a:cubicBezTo>
                <a:cubicBezTo>
                  <a:pt x="19506" y="7231"/>
                  <a:pt x="19496" y="7362"/>
                  <a:pt x="19437" y="7474"/>
                </a:cubicBezTo>
                <a:cubicBezTo>
                  <a:pt x="19393" y="7558"/>
                  <a:pt x="19319" y="7624"/>
                  <a:pt x="19219" y="7604"/>
                </a:cubicBezTo>
                <a:cubicBezTo>
                  <a:pt x="19115" y="7583"/>
                  <a:pt x="19049" y="7477"/>
                  <a:pt x="19009" y="7388"/>
                </a:cubicBezTo>
                <a:cubicBezTo>
                  <a:pt x="18963" y="7287"/>
                  <a:pt x="18941" y="7171"/>
                  <a:pt x="18947" y="7060"/>
                </a:cubicBezTo>
                <a:cubicBezTo>
                  <a:pt x="18950" y="6999"/>
                  <a:pt x="18957" y="6938"/>
                  <a:pt x="19012" y="6905"/>
                </a:cubicBezTo>
                <a:cubicBezTo>
                  <a:pt x="19043" y="6887"/>
                  <a:pt x="19061" y="6908"/>
                  <a:pt x="19089" y="6923"/>
                </a:cubicBezTo>
              </a:path>
              <a:path w="4540" h="1685">
                <a:moveTo>
                  <a:pt x="19227" y="7372"/>
                </a:moveTo>
                <a:cubicBezTo>
                  <a:pt x="19234" y="7335"/>
                  <a:pt x="19212" y="7313"/>
                  <a:pt x="19240" y="7274"/>
                </a:cubicBezTo>
                <a:cubicBezTo>
                  <a:pt x="19269" y="7233"/>
                  <a:pt x="19312" y="7203"/>
                  <a:pt x="19360" y="7186"/>
                </a:cubicBezTo>
                <a:cubicBezTo>
                  <a:pt x="19664" y="7082"/>
                  <a:pt x="20025" y="7269"/>
                  <a:pt x="20287" y="7402"/>
                </a:cubicBezTo>
                <a:cubicBezTo>
                  <a:pt x="20823" y="7674"/>
                  <a:pt x="21332" y="8023"/>
                  <a:pt x="21930" y="8143"/>
                </a:cubicBezTo>
                <a:cubicBezTo>
                  <a:pt x="22114" y="8180"/>
                  <a:pt x="22301" y="8177"/>
                  <a:pt x="22486" y="8151"/>
                </a:cubicBezTo>
                <a:cubicBezTo>
                  <a:pt x="22560" y="8141"/>
                  <a:pt x="22625" y="8127"/>
                  <a:pt x="22693" y="8103"/>
                </a:cubicBezTo>
                <a:cubicBezTo>
                  <a:pt x="22724" y="8092"/>
                  <a:pt x="22728" y="8087"/>
                  <a:pt x="22756" y="8076"/>
                </a:cubicBezTo>
              </a:path>
              <a:path w="4540" h="1685">
                <a:moveTo>
                  <a:pt x="23120" y="7771"/>
                </a:moveTo>
                <a:cubicBezTo>
                  <a:pt x="23131" y="7718"/>
                  <a:pt x="23119" y="7758"/>
                  <a:pt x="23101" y="7790"/>
                </a:cubicBezTo>
                <a:cubicBezTo>
                  <a:pt x="23069" y="7847"/>
                  <a:pt x="23041" y="7909"/>
                  <a:pt x="23025" y="7972"/>
                </a:cubicBezTo>
                <a:cubicBezTo>
                  <a:pt x="23002" y="8065"/>
                  <a:pt x="23000" y="8159"/>
                  <a:pt x="23056" y="8241"/>
                </a:cubicBezTo>
                <a:cubicBezTo>
                  <a:pt x="23093" y="8296"/>
                  <a:pt x="23165" y="8323"/>
                  <a:pt x="23231" y="8316"/>
                </a:cubicBezTo>
                <a:cubicBezTo>
                  <a:pt x="23310" y="8307"/>
                  <a:pt x="23374" y="8247"/>
                  <a:pt x="23415" y="8183"/>
                </a:cubicBezTo>
                <a:cubicBezTo>
                  <a:pt x="23457" y="8117"/>
                  <a:pt x="23472" y="8036"/>
                  <a:pt x="23463" y="7960"/>
                </a:cubicBezTo>
                <a:cubicBezTo>
                  <a:pt x="23456" y="7906"/>
                  <a:pt x="23427" y="7869"/>
                  <a:pt x="23372" y="7862"/>
                </a:cubicBezTo>
                <a:cubicBezTo>
                  <a:pt x="23331" y="7857"/>
                  <a:pt x="23299" y="7882"/>
                  <a:pt x="23263" y="7899"/>
                </a:cubicBezTo>
              </a:path>
              <a:path w="4540" h="1685">
                <a:moveTo>
                  <a:pt x="23183" y="8085"/>
                </a:moveTo>
                <a:cubicBezTo>
                  <a:pt x="23205" y="8115"/>
                  <a:pt x="23214" y="8147"/>
                  <a:pt x="23234" y="8178"/>
                </a:cubicBezTo>
                <a:cubicBezTo>
                  <a:pt x="23266" y="8227"/>
                  <a:pt x="23305" y="8273"/>
                  <a:pt x="23348" y="8312"/>
                </a:cubicBezTo>
                <a:cubicBezTo>
                  <a:pt x="23379" y="8339"/>
                  <a:pt x="23422" y="8368"/>
                  <a:pt x="23463" y="8365"/>
                </a:cubicBezTo>
                <a:cubicBezTo>
                  <a:pt x="23471" y="8364"/>
                  <a:pt x="23478" y="8362"/>
                  <a:pt x="23486" y="8361"/>
                </a:cubicBezTo>
              </a:path>
              <a:path w="4540" h="1685">
                <a:moveTo>
                  <a:pt x="22844" y="7455"/>
                </a:moveTo>
                <a:cubicBezTo>
                  <a:pt x="22878" y="7429"/>
                  <a:pt x="22909" y="7430"/>
                  <a:pt x="22953" y="7420"/>
                </a:cubicBezTo>
                <a:cubicBezTo>
                  <a:pt x="23021" y="7405"/>
                  <a:pt x="23090" y="7395"/>
                  <a:pt x="23160" y="7386"/>
                </a:cubicBezTo>
                <a:cubicBezTo>
                  <a:pt x="23227" y="7378"/>
                  <a:pt x="23295" y="7381"/>
                  <a:pt x="23361" y="7388"/>
                </a:cubicBezTo>
              </a:path>
              <a:path w="4540" h="1685">
                <a:moveTo>
                  <a:pt x="23093" y="7779"/>
                </a:moveTo>
                <a:cubicBezTo>
                  <a:pt x="23097" y="7750"/>
                  <a:pt x="23113" y="7740"/>
                  <a:pt x="23147" y="7741"/>
                </a:cubicBezTo>
                <a:cubicBezTo>
                  <a:pt x="23170" y="7742"/>
                  <a:pt x="23201" y="7756"/>
                  <a:pt x="23219" y="7769"/>
                </a:cubicBezTo>
                <a:cubicBezTo>
                  <a:pt x="23250" y="7790"/>
                  <a:pt x="23275" y="7816"/>
                  <a:pt x="23301" y="7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ECC2-3A21-4036-B2ED-A9106DFA0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modification of the SR flip-flop is the D flip-flop, shown below with its characteristic 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will notice that the output of the flip-flop remains the same during subsequent clock pulses. The output changes only when the value of D chang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5" descr="C:\idraw20\42.TIF"/>
          <p:cNvPicPr/>
          <p:nvPr/>
        </p:nvPicPr>
        <p:blipFill>
          <a:blip r:embed="rId1"/>
          <a:stretch/>
        </p:blipFill>
        <p:spPr>
          <a:xfrm>
            <a:off x="914400" y="4327560"/>
            <a:ext cx="4076640" cy="1463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C:\idraw20\43.TIF"/>
          <p:cNvPicPr/>
          <p:nvPr/>
        </p:nvPicPr>
        <p:blipFill>
          <a:blip r:embed="rId2"/>
          <a:stretch/>
        </p:blipFill>
        <p:spPr>
          <a:xfrm>
            <a:off x="5334120" y="4251240"/>
            <a:ext cx="204768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173F-8404-489F-AC83-89FA4AFC5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 flip-flop is the fundamental circuit of computer memor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flip-flops are usually illustrated using the block diagram show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haracteristic table for the D flip-flop is shown at the righ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6" descr="C:\idraw20\41.TIF"/>
          <p:cNvPicPr/>
          <p:nvPr/>
        </p:nvPicPr>
        <p:blipFill>
          <a:blip r:embed="rId1"/>
          <a:stretch/>
        </p:blipFill>
        <p:spPr>
          <a:xfrm>
            <a:off x="1371600" y="4267080"/>
            <a:ext cx="2668680" cy="1629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C:\idraw20\43.TIF"/>
          <p:cNvPicPr/>
          <p:nvPr/>
        </p:nvPicPr>
        <p:blipFill>
          <a:blip r:embed="rId2"/>
          <a:stretch/>
        </p:blipFill>
        <p:spPr>
          <a:xfrm>
            <a:off x="5334120" y="4251240"/>
            <a:ext cx="204768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4395-4BD6-4CD6-9368-A0CE6F8B8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ehavior of sequential circuits can be expressed using characteristic tables or finite state machines (FSM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Ms consist of a set of nodes that hold the states of the machine and a set of arcs that connect the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ore and Mealy machines are two types of FSMs that are equival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differ only in how they express the outputs of the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ore machines place outputs on each node, while Mealy machines present their outputs on the transition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5143-9333-46FA-AA61-45E074778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9" descr="C:\wpdocs\Julie\ECOA 2e\Ch3\Fig_3-25_ECOA2E_ppt.tif"/>
          <p:cNvPicPr/>
          <p:nvPr/>
        </p:nvPicPr>
        <p:blipFill>
          <a:blip r:embed="rId1"/>
          <a:srcRect l="0" t="0" r="5539" b="0"/>
          <a:stretch/>
        </p:blipFill>
        <p:spPr>
          <a:xfrm>
            <a:off x="609480" y="3287880"/>
            <a:ext cx="3429000" cy="24318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ehavior of a JK flop-flop is depicted below by a Moore machine (left) and a Mealy machine (right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7" descr="C:\wpdocs\Julie\ECOA 2e\Ch3\Fig_3-26_ECOA2e_ppt.tif"/>
          <p:cNvPicPr/>
          <p:nvPr/>
        </p:nvPicPr>
        <p:blipFill>
          <a:blip r:embed="rId2"/>
          <a:srcRect l="3275" t="0" r="3377" b="0"/>
          <a:stretch/>
        </p:blipFill>
        <p:spPr>
          <a:xfrm>
            <a:off x="3962520" y="2895480"/>
            <a:ext cx="48765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7BB3-612E-45D0-BA01-92B31AFE9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hough the behavior of Moore and Mealy machines is identical, their implementations diff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7" descr="C:\wpdocs\Julie\ECOA 2e\Ch3\Fig_3-25_ECOA2E_ppt.tif"/>
          <p:cNvPicPr/>
          <p:nvPr/>
        </p:nvPicPr>
        <p:blipFill>
          <a:blip r:embed="rId1"/>
          <a:srcRect l="0" t="9397" r="5539" b="12274"/>
          <a:stretch/>
        </p:blipFill>
        <p:spPr>
          <a:xfrm>
            <a:off x="4572000" y="2666880"/>
            <a:ext cx="3429000" cy="1905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C:\wpdocs\Julie\ECOA 2e\Ch3\Fig_3-27_ECOA2E_ppt.tif"/>
          <p:cNvPicPr/>
          <p:nvPr/>
        </p:nvPicPr>
        <p:blipFill>
          <a:blip r:embed="rId2"/>
          <a:srcRect l="2208" t="9284" r="0" b="54646"/>
          <a:stretch/>
        </p:blipFill>
        <p:spPr>
          <a:xfrm>
            <a:off x="533520" y="4191120"/>
            <a:ext cx="7696080" cy="209556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9"/>
          <p:cNvSpPr/>
          <p:nvPr/>
        </p:nvSpPr>
        <p:spPr>
          <a:xfrm>
            <a:off x="684360" y="2585880"/>
            <a:ext cx="2895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our Moore machi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8A5B-9303-4AD8-8BC0-76D1FEE65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hough the behavior of Moore and Mealy machines is identical, their implementations diff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7" descr="C:\wpdocs\Julie\ECOA 2e\Ch3\Fig_3-27_ECOA2E_ppt.tif"/>
          <p:cNvPicPr/>
          <p:nvPr/>
        </p:nvPicPr>
        <p:blipFill>
          <a:blip r:embed="rId1"/>
          <a:srcRect l="7716" t="46911" r="8860" b="2032"/>
          <a:stretch/>
        </p:blipFill>
        <p:spPr>
          <a:xfrm>
            <a:off x="2057400" y="2438280"/>
            <a:ext cx="6934320" cy="31338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685800" y="2514600"/>
            <a:ext cx="2895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our Mealy machi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8" descr="C:\wpdocs\Julie\ECOA 2e\Ch3\Fig_3-26_ECOA2e_ppt.tif"/>
          <p:cNvPicPr/>
          <p:nvPr/>
        </p:nvPicPr>
        <p:blipFill>
          <a:blip r:embed="rId2"/>
          <a:srcRect l="3275" t="0" r="3377" b="0"/>
          <a:stretch/>
        </p:blipFill>
        <p:spPr>
          <a:xfrm>
            <a:off x="380880" y="4282920"/>
            <a:ext cx="457200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C867-C773-4F63-9DDA-116BC7FBB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difficult to express the complexities of actual implementations using only Moore and Mealy machi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one thing, they do not address the intricacies of timing very we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ly, it is often the case that an interaction of numerous signals is required to advance a machine from one state to the nex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hese reasons, Christopher Clare invented the algorithmic state machine (ASM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838080" y="5713920"/>
            <a:ext cx="678204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e next slide illustrates the components of an ASM.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349C-AB70-45AE-AE4C-2F2DC9FB1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1031" descr="C:\wpdocs\Julie\ECOA 2e\Ch3\PPTs\Fig_3-28_ECOA2E_ppt.tif"/>
          <p:cNvPicPr/>
          <p:nvPr/>
        </p:nvPicPr>
        <p:blipFill>
          <a:blip r:embed="rId1"/>
          <a:srcRect l="0" t="3560" r="0" b="0"/>
          <a:stretch/>
        </p:blipFill>
        <p:spPr>
          <a:xfrm>
            <a:off x="1066680" y="1447920"/>
            <a:ext cx="6448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4CF3-DBB1-4004-B5E5-CE3140AE3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1029" descr="C:\wpdocs\Julie\ECOA 2e\Ch3\PPTs\Fig_3-29_ECOA2E_ppt.tif"/>
          <p:cNvPicPr/>
          <p:nvPr/>
        </p:nvPicPr>
        <p:blipFill>
          <a:blip r:embed="rId1"/>
          <a:srcRect l="0" t="2678" r="0" b="1695"/>
          <a:stretch/>
        </p:blipFill>
        <p:spPr>
          <a:xfrm>
            <a:off x="533520" y="2057400"/>
            <a:ext cx="7543800" cy="44226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an ASM for a microwave ov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71A7-A8FD-4BF7-8F6A-A5E493EFC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C:\idraw20\1.TIF"/>
          <p:cNvPicPr/>
          <p:nvPr/>
        </p:nvPicPr>
        <p:blipFill>
          <a:blip r:embed="rId1"/>
          <a:srcRect l="0" t="0" r="0" b="2260"/>
          <a:stretch/>
        </p:blipFill>
        <p:spPr>
          <a:xfrm>
            <a:off x="6323040" y="1371600"/>
            <a:ext cx="2211480" cy="4876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oolean operator can be completely described using a truth 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ruth table for the Boolean operators AND and OR are shown at the righ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ND operator is also known as a Boolean product.  The OR operator is the Boolean su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2169-878B-4C0A-80CF-2EB31791F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1598760"/>
            <a:ext cx="792468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quential circuits are used anytime that we have a “stateful” applic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ateful application is one where the next state of the machine depends on the current state of the machine and the inpu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tateful application requires both combinational and sequential logi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llowing slides provide several examples of circuits that fall into this catego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2438280" y="5790240"/>
            <a:ext cx="3429000" cy="4597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an you think of others?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E2BB-D13E-42D1-9430-E3B58A92D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38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llustration shows a 4-bit register consisting of D flip-flops. You will usually see its block diagram (below)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6" descr="C:\idraw20\44.TIF"/>
          <p:cNvPicPr/>
          <p:nvPr/>
        </p:nvPicPr>
        <p:blipFill>
          <a:blip r:embed="rId1"/>
          <a:stretch/>
        </p:blipFill>
        <p:spPr>
          <a:xfrm>
            <a:off x="4746600" y="1487520"/>
            <a:ext cx="3483000" cy="4608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C:\idraw20\46.TIF"/>
          <p:cNvPicPr/>
          <p:nvPr/>
        </p:nvPicPr>
        <p:blipFill>
          <a:blip r:embed="rId2"/>
          <a:stretch/>
        </p:blipFill>
        <p:spPr>
          <a:xfrm>
            <a:off x="990720" y="3657600"/>
            <a:ext cx="3227400" cy="1473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8"/>
          <p:cNvSpPr/>
          <p:nvPr/>
        </p:nvSpPr>
        <p:spPr>
          <a:xfrm>
            <a:off x="609480" y="5561640"/>
            <a:ext cx="3733920" cy="70380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A larger memory configuration is shown on the next sl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773D-C6D5-4B20-A8E8-84A232297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12" descr="C:\IDRAW20\Julie\Org&amp;Arch\Ch3\EX3_35.TIF"/>
          <p:cNvPicPr/>
          <p:nvPr/>
        </p:nvPicPr>
        <p:blipFill>
          <a:blip r:embed="rId1"/>
          <a:srcRect l="0" t="1537" r="2768" b="1455"/>
          <a:stretch/>
        </p:blipFill>
        <p:spPr>
          <a:xfrm>
            <a:off x="228600" y="990720"/>
            <a:ext cx="792468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4653-39CF-4444-9F22-E56D58CD5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6" descr="C:\idraw20\45.TIF"/>
          <p:cNvPicPr/>
          <p:nvPr/>
        </p:nvPicPr>
        <p:blipFill>
          <a:blip r:embed="rId1"/>
          <a:srcRect l="0" t="0" r="37" b="5791"/>
          <a:stretch/>
        </p:blipFill>
        <p:spPr>
          <a:xfrm>
            <a:off x="4038480" y="1523880"/>
            <a:ext cx="4267440" cy="4724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657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inary counter is another example of a sequential circ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w-order bit is complemented at each clock pul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ever it changes from 0 to 1, the next bit is complemented, and so on through the other flip-flo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9247-F52A-4EF0-B093-54EEB1944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olutional coding and decoding requires sequential circu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important convolutional code is the (2,1) convolutional code that underlies the PRML code that is briefly described at the end of Chapter 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(2, 1) convolutional code is so named because two symbols are output for every one symbol inpu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nvolutional encoder for PRML with its characteristic table is shown on the next sli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2A0E-394D-4172-95E8-FA21D8C11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7" descr="C:\wpdocs\Julie\ECOA 2e\Ch3\PPTs\CCS1.TIF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19112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C:\wpdocs\Julie\ECOA 2e\Ch3\PPTs\Fig_3-33_ECOA2E_ppt.tif"/>
          <p:cNvPicPr/>
          <p:nvPr/>
        </p:nvPicPr>
        <p:blipFill>
          <a:blip r:embed="rId2"/>
          <a:srcRect l="0" t="2264" r="1257" b="4176"/>
          <a:stretch/>
        </p:blipFill>
        <p:spPr>
          <a:xfrm>
            <a:off x="380880" y="3276720"/>
            <a:ext cx="784872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84A9-81B6-4274-B376-A84330975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6" descr="C:\wpdocs\Julie\ECOA 2e\Ch3\PPTs\Fig_3-35_ECOA2E.tif"/>
          <p:cNvPicPr/>
          <p:nvPr/>
        </p:nvPicPr>
        <p:blipFill>
          <a:blip r:embed="rId1"/>
          <a:stretch/>
        </p:blipFill>
        <p:spPr>
          <a:xfrm>
            <a:off x="380880" y="2525760"/>
            <a:ext cx="4419720" cy="37987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C:\wpdocs\Julie\ECOA 2e\Ch3\PPTs\CCS.TIF"/>
          <p:cNvPicPr/>
          <p:nvPr/>
        </p:nvPicPr>
        <p:blipFill>
          <a:blip r:embed="rId2"/>
          <a:stretch/>
        </p:blipFill>
        <p:spPr>
          <a:xfrm>
            <a:off x="4800600" y="1676520"/>
            <a:ext cx="3971880" cy="301788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7"/>
          <p:cNvSpPr/>
          <p:nvPr/>
        </p:nvSpPr>
        <p:spPr>
          <a:xfrm>
            <a:off x="685800" y="1523880"/>
            <a:ext cx="396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Mealy machine for our enco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46FC-C889-42D1-B13D-D6499FACA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C:\wpdocs\Julie\ECOA 2e\Ch3\PPTs\Fig_3-35_ECOA2E.tif"/>
          <p:cNvPicPr/>
          <p:nvPr/>
        </p:nvPicPr>
        <p:blipFill>
          <a:blip r:embed="rId1"/>
          <a:stretch/>
        </p:blipFill>
        <p:spPr>
          <a:xfrm>
            <a:off x="4191120" y="1347840"/>
            <a:ext cx="4724280" cy="40622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447920" y="5325120"/>
            <a:ext cx="70102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F(1101 0010) = 11 01 01 00 10 11 11 10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3962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ct that there is a limited set of possible state transitions in the encoding process is crucial to the error correcting capabilities of PRM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see by our Mealy machine for encoding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11FD-28EE-4FF3-840B-6874A3C76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6" descr="C:\wpdocs\Julie\ECOA 2e\Ch3\PPTs\Fig_3-35-d_ECOA2E_ppt.tif"/>
          <p:cNvPicPr/>
          <p:nvPr/>
        </p:nvPicPr>
        <p:blipFill>
          <a:blip r:embed="rId1"/>
          <a:srcRect l="0" t="2184" r="0" b="0"/>
          <a:stretch/>
        </p:blipFill>
        <p:spPr>
          <a:xfrm>
            <a:off x="4186080" y="1447920"/>
            <a:ext cx="4743720" cy="39877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914400" y="5500080"/>
            <a:ext cx="7010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F(11 01 01 00 10 11 11 10) = 1101 00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3886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oding of our code is provided by inverting the inputs and outputs of the Mealy machine for the encoding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see by our Mealy machine for decoding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EA12-0B52-44FD-908C-1476F7074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3657600" y="5638320"/>
            <a:ext cx="4114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F(00 10 11 11) = 100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6" descr="C:\wpdocs\Julie\ECOA 2e\Ch3\PPTs\Fig_3-37_ECOA2E_ppt.tif"/>
          <p:cNvPicPr/>
          <p:nvPr/>
        </p:nvPicPr>
        <p:blipFill>
          <a:blip r:embed="rId1"/>
          <a:srcRect l="3123" t="9291" r="6056" b="1509"/>
          <a:stretch/>
        </p:blipFill>
        <p:spPr>
          <a:xfrm>
            <a:off x="3962520" y="1447920"/>
            <a:ext cx="4952880" cy="39621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t another way of looking at the decoding process is through a lattice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e have plotted the state transitions based on the input (top) and showing the output at the bottom for the string 00 10 11 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6F58-FC49-48D0-B401-DB264F5EB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31" descr="C:\idraw20\2A.TIF"/>
          <p:cNvPicPr/>
          <p:nvPr/>
        </p:nvPicPr>
        <p:blipFill>
          <a:blip r:embed="rId1"/>
          <a:stretch/>
        </p:blipFill>
        <p:spPr>
          <a:xfrm>
            <a:off x="6095880" y="2133720"/>
            <a:ext cx="1809720" cy="2073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496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ruth table for the Boolean NOT operator is shown at the righ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OT operation is most often designated by an overbar. It is sometimes indicated by a prime mark ( ‘ ) or an “elbow” (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8D16-2CED-4F88-A837-EAAECDDE6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9" descr="C:\wpdocs\Julie\ECOA 2e\Ch3\PPTs\Fig_3-38_ECOA2E_ppt.tif"/>
          <p:cNvPicPr/>
          <p:nvPr/>
        </p:nvPicPr>
        <p:blipFill>
          <a:blip r:embed="rId1"/>
          <a:stretch/>
        </p:blipFill>
        <p:spPr>
          <a:xfrm>
            <a:off x="3733920" y="1447920"/>
            <a:ext cx="5110200" cy="419076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4267080" y="5714280"/>
            <a:ext cx="4114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F(00 10 11 11) = 100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receive the erroneous string: 10 10 11 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e have plotted the accumulated errors  based on the allowable trans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th of least error outputs 1001, thus 1001 is the string of        maximum likelih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C38C-7EE9-478E-965E-222AD8375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7 Designing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seen digital circuits from two points of view: digital analysis and digital synthes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gital ana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lores the relationship between a circuits inputs and its out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gital synthe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ates logic diagrams using the values specified in a truth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al systems designers must also be mindful of the physical behaviors of circuits to include minute propagation delays that occur between the time when a circuit’s inputs are energized and when the output is accurate and s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0D80-90A9-450F-A2C5-88342EE0B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7 Designing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al designers rely on specialized software to create efficient circu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software is an enabler for the construction of better hard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ourse, software is in reality a collection of algorithms that could just as well be implemented in hardwa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the Principle of Equivalence of Hardware and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A673-B94C-4D67-AB4C-7BDCD3CB8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7 Designing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en we need to implement a simple, specialized algorithm and its execution speed must be as fast as possible, a hardware solution is often preferr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s is the idea behind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embedded system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which are small special-purpose computers that we find in many everyday thing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mbedded systems require special programming that demands an understanding of the operation of digital circuits, the basics of which you have learned in this chapte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B324-DF8C-4FDD-A898-C00A091D5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2670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s are implementations of Boolean logi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lean functions are completely described by truth ta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ic gates are small circuits that implement Boolean operator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asic gates are AND, OR, and NO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OR gate is very useful in parity checkers and ad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“universal gates” are NOR, and NA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3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DCF9-9F4E-4FC7-A71D-571516B86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62012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circuits consist of combinational logic circuits and sequential logic circu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al circuits produce outputs (almost) immediately when their inputs chan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quential circuits require clocks to control their changes of sta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asic sequential circuit unit is the flip-flop: The behaviors of the SR, JK, and D flip-flops are the most important to kn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3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C340-B5C8-4C8E-88F3-EA6E21D2C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62012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ehavior of sequential circuits can be expressed using characteristic tables or through various finite state machi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ore and Mealy machines are two finite state machines that model high-level circuit behavi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hmic state machines are better than Moore and Mealy machines at expressing timing and complex signal interac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 of sequential circuits include memory, counters, and Viterbi encoders and decod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3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7ED8-31BC-472E-9C11-A06B224EB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99"/>
                </a:solidFill>
                <a:latin typeface="Arial"/>
              </a:rPr>
              <a:t>End of Chapter 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98F0-EAB1-466D-B160-C10C00B89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oolean function h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one Boolean variab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one Boolean operator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one input from the set {0,1}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produces an output that is also a member of the set {0,1}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438280" y="4723200"/>
            <a:ext cx="556272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Now you know why the binary numbering system is so handy in digital system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A707-2811-4EBA-9B0B-3E9239334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103" descr="C:\idraw20\3B.TIF"/>
          <p:cNvPicPr/>
          <p:nvPr/>
        </p:nvPicPr>
        <p:blipFill>
          <a:blip r:embed="rId1"/>
          <a:stretch/>
        </p:blipFill>
        <p:spPr>
          <a:xfrm>
            <a:off x="4826160" y="1676520"/>
            <a:ext cx="4012920" cy="3593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2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truth table for the Boolean func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shown at the righ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make evaluation of the Boolean function easier, the truth table contains extra (shaded) columns to hold evaluations of subparts of the func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102" descr="C:\idraw20\3A.TIF"/>
          <p:cNvPicPr/>
          <p:nvPr/>
        </p:nvPicPr>
        <p:blipFill>
          <a:blip r:embed="rId2"/>
          <a:stretch/>
        </p:blipFill>
        <p:spPr>
          <a:xfrm>
            <a:off x="1143000" y="2554200"/>
            <a:ext cx="322740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3:57:00Z</dcterms:created>
  <dc:creator>Null &amp; Lobur</dc:creator>
  <dc:description/>
  <dc:language>en-US</dc:language>
  <cp:lastModifiedBy>John MacCormick</cp:lastModifiedBy>
  <dcterms:modified xsi:type="dcterms:W3CDTF">2008-10-02T14:23:52Z</dcterms:modified>
  <cp:revision>273</cp:revision>
  <dc:subject/>
  <dc:title>Chapter 2</dc:title>
</cp:coreProperties>
</file>