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E97-32BE-4E4D-9E7D-9DAD34BF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EE4-94D2-4CE3-AA9B-EF7D8D6C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836-9C02-4D55-93E6-3BC9054A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98E-B4D7-45A3-B522-325B597B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A10-4728-44F3-BBA9-D26D958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7AB-7495-4EFC-A6F9-598895FB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AA2-1467-44ED-B144-CBCE1FC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C8D-AA5C-486B-9E77-FB39206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806-0E6E-4EA5-B9A7-FEC9A4CE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D67-E74B-4F93-BFC5-531CA59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E8B-EDAC-47C6-ACD4-644CC50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AED-F24D-4CCF-84D8-23F224B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5D5F-316C-4757-AB9B-56CAD699E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3124080"/>
            <a:ext cx="6553080" cy="2895840"/>
          </a:xfrm>
          <a:prstGeom prst="rect">
            <a:avLst/>
          </a:prstGeom>
          <a:solidFill>
            <a:srgbClr val="d1df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920" y="3429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pics in Embedded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2712-D8B9-47D3-B1D4-00CC508FF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i-custom systems-on-a-chip can be fabricated whenever a suitable off-the-shelf SOC is un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ip mask is created using blocks of pre-designed, pre-tested intellectual property (IP)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mi-custom approach is costly. To save money, off-the-shelf SOCs are preferred, even when their functionality is not an exact fit for the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7C1F-632A-4BCC-9456-FC4D1989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able logic devices (PLDs) are configurable devices in which the behavior of the circuits can be changed to suit the needs of an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 chips consist of programmable AND gates connected to a set of fixed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 chips consist of programmable AND gates connected through programmable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2C87-5D5D-4243-B3B0-906AFECB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grammed PAL and a programmed PL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ig10-3-4_ppt" descr=""/>
          <p:cNvPicPr/>
          <p:nvPr/>
        </p:nvPicPr>
        <p:blipFill>
          <a:blip r:embed="rId2"/>
          <a:srcRect l="5512" t="5492" r="2628" b="5492"/>
          <a:stretch/>
        </p:blipFill>
        <p:spPr>
          <a:xfrm>
            <a:off x="685800" y="1981080"/>
            <a:ext cx="7924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8EDA-153E-46E9-8326-F6D47642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field programmable gate arrays (FPGAs) is controlled through values stored in memory lookup tables rather than by changing connections between logic el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Fig10-5_ppt" descr=""/>
          <p:cNvPicPr/>
          <p:nvPr/>
        </p:nvPicPr>
        <p:blipFill>
          <a:blip r:embed="rId2"/>
          <a:srcRect l="5527" t="4554" r="7426" b="13514"/>
          <a:stretch/>
        </p:blipFill>
        <p:spPr>
          <a:xfrm>
            <a:off x="1676520" y="3135240"/>
            <a:ext cx="56386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CB43-C9CF-4C65-815B-1BDBF7683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2514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s are entered directly into FPGA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ig10-6_ppt" descr=""/>
          <p:cNvPicPr/>
          <p:nvPr/>
        </p:nvPicPr>
        <p:blipFill>
          <a:blip r:embed="rId2"/>
          <a:srcRect l="13263" t="5574" r="13793" b="5225"/>
          <a:stretch/>
        </p:blipFill>
        <p:spPr>
          <a:xfrm>
            <a:off x="2971800" y="1447920"/>
            <a:ext cx="586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3C5E-B512-42BD-8D76-EA384BC5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GAs typically consist of blocks of logic elements interconnected by switches and multiplexers in an “island”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ig10-7_ppt" descr=""/>
          <p:cNvPicPr/>
          <p:nvPr/>
        </p:nvPicPr>
        <p:blipFill>
          <a:blip r:embed="rId2"/>
          <a:srcRect l="2791" t="30197" r="6959" b="13961"/>
          <a:stretch/>
        </p:blipFill>
        <p:spPr>
          <a:xfrm>
            <a:off x="533520" y="2819520"/>
            <a:ext cx="7391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A0B-D428-4B9B-93B1-35BCA6C52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-the-shelf microcontrollers and SOCs do not have sufficient functionality for the task at hand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off-the-shelf microcontrollers and SOCs have too much functionality, with the excess consuming resources needlessly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 semi-custom chip cannot be economically fabricated from commercially available IP design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Ds are too expensive or too slow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ly option left is to design an application-specific integrated circuit (ASIC) from scrat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3D22-6885-46BB-843F-4FAFB1D4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ign a chip from scratch we need to think about it from three points of 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we need the chip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logic components can provide the behavior we ne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best way to position the components on the silicon die in order to reduce cost and provide the best performan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BE8A-D2EA-4D03-AEA4-2F058528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ig10-8_ppt" descr=""/>
          <p:cNvPicPr/>
          <p:nvPr/>
        </p:nvPicPr>
        <p:blipFill>
          <a:blip r:embed="rId2"/>
          <a:srcRect l="9413" t="20125" r="7666" b="18058"/>
          <a:stretch/>
        </p:blipFill>
        <p:spPr>
          <a:xfrm>
            <a:off x="762120" y="2392200"/>
            <a:ext cx="7391160" cy="4008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jski’s Logic Synthesis Y-Chart depicts the relationship of these three dimensions of circuit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F782-80ED-47B3-B0C8-E68BD1EE7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ng circuit designs along all three dimensions is an enormously complex task that is nearly impossible to do--with any amount of accuracy or effectiveness-- without a good tools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definition languages (HDLs) were invented in the latter part of the twentieth century. HDLs help designers manage circuit complexity by expressing circuit logic in algorithmic te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ways in which embedded systems differ from general purpos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describe the processes and practices of embedded hardware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key concepts and tools for embedded software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D2B-A94F-42A8-A19E-FDE47D6839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8AA-4F06-4A3B-9393-006077122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f the most popular HDLs are Verilog and VHD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log is a C-like language invented in 1983. It is now IEEE 1364-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DL is an ADA-like HDL released in 1985. It is now IEEE 1097-200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from the compilation of both of these languages is a netlist, which is suitable for use as input to electronic design automation machines that produce integrated circuit ma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7F61-8B06-455B-A675-9BEFC119F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HDLs manipulate circuit definitions in terms of RTL and discrete signal patt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se languages, engineers are strained to keep up with the complexity of today’s SO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ake design activities more accurate and  cost efficient, the level of abstraction must be raised above the RTL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and SpecC are two recent HDLs that were invented to help solve this proble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FCF9-90A6-46A6-B67F-85ED4BFB4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is an extension of C++ that includes classes and libraries specifically created for embedded systems design, to include modeling events, timing specifications, and concurre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C is a C-like language, created from the outset as a system design languag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pecC development package includes a methodology that guides engineers through four phases of system develop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, architecture, communication channels, and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627-A189-4BA7-862A-DA6457A7D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have been traditionally  developed by specialized teams that collaborativel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detailed specification derived from a functional descrip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suitable processor or decide to build 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hardware-software par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he circuit and write the program(s) that will run on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type and test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637960"/>
            <a:ext cx="6324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system design cycle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7E1-A19D-45F0-809E-23A192A45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ig10-9_ppt" descr=""/>
          <p:cNvPicPr/>
          <p:nvPr/>
        </p:nvPicPr>
        <p:blipFill>
          <a:blip r:embed="rId2"/>
          <a:srcRect l="5064" t="3103" r="2614" b="11655"/>
          <a:stretch/>
        </p:blipFill>
        <p:spPr>
          <a:xfrm>
            <a:off x="304920" y="1600200"/>
            <a:ext cx="8610480" cy="446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484240"/>
            <a:ext cx="2666880" cy="642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Notice the back arrows. These steps are cos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139D-5E96-4F79-B19D-C48E44CCA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and SpecC facilitate changes to the traditional design lifecyc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velopers and software developers can speak the same langu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velopment teams work side-by-side simultaneously creating hardware designs and writing progra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velopment shortens the development lifecycle and improves product qua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180400"/>
            <a:ext cx="50292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embedded system codesign lifecycle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2CA-1A5A-419F-8CB2-F29CB2CA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Fig10-10_ppt" descr=""/>
          <p:cNvPicPr/>
          <p:nvPr/>
        </p:nvPicPr>
        <p:blipFill>
          <a:blip r:embed="rId2"/>
          <a:srcRect l="3820" t="3099" r="3287" b="11235"/>
          <a:stretch/>
        </p:blipFill>
        <p:spPr>
          <a:xfrm>
            <a:off x="228600" y="160020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5484240"/>
            <a:ext cx="2209680" cy="642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Rework takes place on a virtual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56D-4058-4D57-832B-4F102CF49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development for embedded systems presents a distinct set of challe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se challenges are related to the uniqueness of the hardware, such as its particular memory organ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imitations are almost always a software development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 is not suitable for most embedded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9C13-AEFF-4A93-AF48-FE2C3082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 memory can consist of several different kinds, including RAM, ROM, and flash, all sharing the same address spa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Fig10-11_ppt" descr=""/>
          <p:cNvPicPr/>
          <p:nvPr/>
        </p:nvPicPr>
        <p:blipFill>
          <a:blip r:embed="rId2"/>
          <a:srcRect l="3888" t="18228" r="5286" b="8114"/>
          <a:stretch/>
        </p:blipFill>
        <p:spPr>
          <a:xfrm>
            <a:off x="152280" y="3063960"/>
            <a:ext cx="8610840" cy="2422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5256720"/>
            <a:ext cx="495324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Memory leaks in embedded systems are especially problema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B274-133C-42D4-8A5E-A5C7E0620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operating systems differ from general-purpose operating systems in a number of w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veness is one of the major distinguishing fea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embedded operating systems are real-time operating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 requirements may differ little from a desktop compu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 real-time systems have strict timing constra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ft real-time systems, timing is important but not critic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897-F714-4FBB-A1B7-42BCA46C3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are real computer systems that support the operation of a device (or machine) that usually is not a compu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ser of the embedded system is rarely aware of its existence within the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systems are all around us. They are in watches, automobiles, coffeepots, TVs, telephones, aircraft, and just about any “intelligent” device that reacts to people or its environ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D21C-D139-4C53-81BE-28D830A2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elapsed time between the occurrence of an interrupt and the execution of the first instruction of the interrupt service routine (IS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rupt latency is indirectly related to system responsiveness. The smaller the latency, the faster the respo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s can happen at any time and in any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R for one interrupt possibly may not be completed before another interrupt occu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quality systems support suc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rupt nes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7F61-4767-44CF-B188-5E3E2D51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footprint is another critical concern with embedded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 operating system takes up too much memory, additional memory may be requi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ory consumes pow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the smaller the operating system, the bet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embedded operating systems are modular, allowing only the most necessary features to be install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7620-EC03-4900-AD20-52927D15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003.1-2001, POSIX, is the specification for standardized Unix, to which Embedded Linux adh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opular embedded operating systems include Windows CE, Windows XP Embedded, QNX, and MS-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hundreds of others, each having its distinctive behavior and target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ing costs for the operating system are as great a concern as hardware cos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4441-10CE-4D29-A1B2-E1A869D8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-purpose software development is usually iterative and increm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a little, test a litt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development requires a much more rigorous and linear pat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requirements must be clear, complete, and accurate when work beg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languages, such as Z, are helpful in providing accuracy and correctn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AD32-26B8-4ACF-B68D-91CA0327A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software projects are usually partitioned into chunks so that the chunks can be assigned to different tea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oftware doesn’t partition so easily, making team assignments diffic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mprove performance, some embedded programmers advocate the use of global variables and unstructured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ail against this idea, saying that it is not good engineering practice regardless of the platform for which the software is writ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A990-6AB5-45CD-8BA1-6F8BFBAD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handling is a major challenge to the embedded programm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lies at the heart of embedded systems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s can happen asynchronously and in any ord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virtually impossible to test all possible sequences of even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must be rigorous and thoroug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BFA-F340-46FC-97EB-9ABF8D2B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programming is essentially a matter of raising and responding to signal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support may be designed into a chip to facilitate the tracing and debugging of signal patt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 are ICE, Motorola’s BDM, IEEE 1149.1 JTAG, and IEEE 5001 Nex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tforms offer no tool support in the way of debuggers or even compil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ing software for these systems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re metal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292D-0B35-405D-95A8-7B42FFFBC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differ from general-purpose systems becau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resource constrain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equires deep awareness of the underlying hardw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 timing and event handling are critic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ardware-software partition is move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hardware can be off-the-shelf, semi-customized, fully-customized, or configu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7D2B-6664-4F16-ACD1-A46D72C21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able logic devic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s: Programmable AND gates connected to a set of fixed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: Programmable AND gates connected through programmable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GA: Logic functions provided through lookup t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Ds tend to be slow and expensive as compared to off-the-shelf 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2EC-39FE-420E-A959-5D2805C9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definition languages Verilog, VHDL specify the functions and layout of full-custom c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C and SystemC raise the level of abstraction in chip desig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-software codesign and cosimulation reduces errors and brings products to market fa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F78A-2147-419F-95E0-A5D7FA89B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are different from general-purpose systems in several important ways. Some key differenc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mbedded systems are resource constrained. Utilization of memory and power are critical. The economy of hardware and software is often paramount, and can affect design decisio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tioning of hardware and software is fluid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mbedded systems programmers must understand every detail about the hardwar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gnal timing and event handling are crucia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420-61F5-4200-A288-05C02F25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operating systems differ from general purpose operating systems in their timing and memory footprint requir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003.1-2001, POSIX, is the specification for standardized Unix, to which Embedded Linux adh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opular embedded operating systems include Windows CE, Windows XP Embedded, QNX, and MS-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4D6C-8A99-4745-9141-FEA83BB47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oftware requires accurate specifications and rigorous development pract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languages hel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processing requires careful specification and tes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 debugging can be supported by hardware interfaces to include ICE, BDM, JTAG, and Nex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15CD-FA57-4016-BD80-E32A8CDEF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A21-200C-4F3A-8C11-D19F8BE0D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classify embedded hardware according to the extent to which it is adapted or adaptable by the people who program and install the system into the device that it suppor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ly, we say that embedded hardware falls into categories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f-the-shel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lly-Customiz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119840"/>
            <a:ext cx="243828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There are many other taxonomies. This one is convenient for our purpo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F64D-0098-4A1A-A12D-DFD07629E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ff-the-shelf hardware, minimal hardware customization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haps add memory or peripherals. The internal wiring stays the sam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common off-the-shelf hardware is the microcontroll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crocontrollers are often derivatives of “old” PC technology. They are inexpensive because development costs were recouped long ag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thousands of different microcontroll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B0AD-6DEA-4D0A-AAD4-CEF456D2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microcontrollers are Motorola's 68HC12, Intel’s 8051, Microchip's 16F84A, and the PIC fami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mplified block diagram of a microcontroller is shown at the righ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ig10-1_ppt" descr=""/>
          <p:cNvPicPr/>
          <p:nvPr/>
        </p:nvPicPr>
        <p:blipFill>
          <a:blip r:embed="rId2"/>
          <a:srcRect l="8675" t="8442" r="18212" b="13062"/>
          <a:stretch/>
        </p:blipFill>
        <p:spPr>
          <a:xfrm>
            <a:off x="4038480" y="1441440"/>
            <a:ext cx="4800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05D-4C6A-408E-97B0-6556046D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have seen all of these components before except for the watchdog time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watchdog timer helps guard against system hangs by continually checking for livenes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tchdog timers are not used in all microcontroll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Fig10-1_ppt" descr=""/>
          <p:cNvPicPr/>
          <p:nvPr/>
        </p:nvPicPr>
        <p:blipFill>
          <a:blip r:embed="rId2"/>
          <a:srcRect l="8675" t="8442" r="18212" b="13062"/>
          <a:stretch/>
        </p:blipFill>
        <p:spPr>
          <a:xfrm>
            <a:off x="4038480" y="1441440"/>
            <a:ext cx="4800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2635-8D6B-4A8D-9F86-7ECCF2FE9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applications, microcontrollers are too limited in their functiona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-on-a-chip (SOCs) are full blown computer systems-- including all supporting circuits-- that are etched on a single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ternatively, separate chips are needed to provide the same service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dditional chips are costly and consume power and spa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7:25Z</dcterms:modified>
  <cp:revision>387</cp:revision>
  <dc:subject/>
  <dc:title>Chapter 10</dc:title>
</cp:coreProperties>
</file>