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E71-8DD7-46E4-96CE-7FB4141F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D90-8330-49D2-BCDA-42E1383A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EA6-E09B-4C21-8109-1C2E5F72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687-9AB4-4205-834C-756BEB9E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0B5-C93E-4B28-B204-1B9670A6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B10-242F-48E3-BF35-237E9DEF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858-5422-43EC-A495-16C31066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B82-F3A9-41EE-8F6A-7BAFE154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BD4-7F86-45AD-AE32-A785986A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A61-26DF-4B6E-BA5C-BB70DCF3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D35-67F6-4F16-B9DB-8610E88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658-1C9C-4379-AC56-451440D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3F16-05CA-453C-BAB9-1236E3088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3809880"/>
            <a:ext cx="1447560" cy="3048120"/>
          </a:xfrm>
          <a:prstGeom prst="rect">
            <a:avLst/>
          </a:prstGeom>
          <a:solidFill>
            <a:srgbClr val="c7c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123720" y="4647960"/>
            <a:ext cx="5867640" cy="1447560"/>
          </a:xfrm>
          <a:prstGeom prst="rect">
            <a:avLst/>
          </a:prstGeom>
          <a:solidFill>
            <a:srgbClr val="c7c3d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Representation in Compute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800600" y="36576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923E-8013-4D37-BF8B-394AFB8C3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9876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 earlier slide, we said that every integer value can be represented exactly using any radix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use either of two methods for radix conversion: the subtraction method and the division remainder meth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traction method is more intuitive, but cumbersome.  It does, however reinforce the ideas behind radix mathemati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924A-DA7A-459E-A1CE-1D0ECDA0B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648320" cy="4647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no bits are lost or corrupted, dividing the received information string by the agreed upon pattern will give a remainder of z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ee this is so in the calculation at the righ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al applications use longer polynomials to cover larger information string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of the standard poly-nomials are listed in the t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36" descr=""/>
          <p:cNvPicPr/>
          <p:nvPr/>
        </p:nvPicPr>
        <p:blipFill>
          <a:blip r:embed="rId2"/>
          <a:stretch/>
        </p:blipFill>
        <p:spPr>
          <a:xfrm>
            <a:off x="5438880" y="1589040"/>
            <a:ext cx="33271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015B-1F82-4F96-88A5-E54BA5EA1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mission errors are easy to fix once an error is detect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sk the sender to transmit the data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omputer memory and data storage, however, this cannot be do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often the only copy of something important is in memory or on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o provide data integrity over the long term, err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rrec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des are requi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6993-AEA6-42B9-B51B-91609841B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ming codes and Reed-Soloman codes are two important error correcting cod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ed-Soloman codes are particularly useful in correct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urst erro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occur when a series of adjacent bits are damag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D-ROMs are easily scratched, they employ a type of Reed-Soloman error cor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he mathematics of Hamming codes is much simpler than Reed-Soloman, we discuss Hamming codes in det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A272-DAFD-4EAD-826A-01717D739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8382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ming codes are code words formed by adding redundant check bits, or parity bits, to a data wo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amming d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wo code words is the number of bits in which two code word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imum Hamming distance for a code is the smallest Hamming distance betwe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irs of words in the cod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3316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air of bytes has a Hamming distance of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37" descr=""/>
          <p:cNvPicPr/>
          <p:nvPr/>
        </p:nvPicPr>
        <p:blipFill>
          <a:blip r:embed="rId2"/>
          <a:stretch/>
        </p:blipFill>
        <p:spPr>
          <a:xfrm>
            <a:off x="4495680" y="3317760"/>
            <a:ext cx="22860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C1F5-9187-47AF-8ABC-F80BFF2AC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784872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imum Hamming distance for a code, D(min), determines its error detecting and error correcting capabilit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ny code word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be interpreted as a different valid code word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t least D(min) single-bit errors must occur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o detec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or fewer) single-bit errors, the code must have a Hamming distance of        D(min)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B61F-DE2E-451E-91AE-6CDD2F7A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72392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ming codes ca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t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(min) -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rs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rr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err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a Hamming distance of 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 is required to be able to correc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rs in any data wo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ming distance is provided by adding a suitable number of parity bits to a data wo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38" descr=""/>
          <p:cNvPicPr/>
          <p:nvPr/>
        </p:nvPicPr>
        <p:blipFill>
          <a:blip r:embed="rId2"/>
          <a:stretch/>
        </p:blipFill>
        <p:spPr>
          <a:xfrm>
            <a:off x="2590920" y="2122560"/>
            <a:ext cx="183816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05D-2BC6-42E8-A8E3-B15AD85CD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a set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bit code words consisting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ata bits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redundant) parity bi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rror could occur in any of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its, so each code word can be associated 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neous words at a Hamming distance of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fore,we hav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 bit patterns for each code word: one valid code word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neous wor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6EC4-B5FC-4FE8-915E-8D8E06D3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8001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bit code words, we have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code words consisting of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ata bits (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ives us the inequality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e can rewrite the inequality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or  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equality gives us a lower limit on the number of check bits that we need in our cod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B50E-CB6F-469F-A0B0-AE8431763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800100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data word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4. 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es that r must be greater than or equal to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o build a code with 4-bit data words that will correct single-bit errors, we must add 3 check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the number of check bits is the hard part.  The rest is eas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F4B3-0470-4345-A790-C6F244822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762012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data word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8. 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8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es that r must be greater than or equal to 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o build a code with 8-bit data words that will correct single-bit errors, we must add 4 check bits, creating code words of length 1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how do we assign values to these check bi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031-B815-481E-9FB4-24C3A3867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1A" descr=""/>
          <p:cNvPicPr/>
          <p:nvPr/>
        </p:nvPicPr>
        <p:blipFill>
          <a:blip r:embed="rId2"/>
          <a:stretch/>
        </p:blipFill>
        <p:spPr>
          <a:xfrm>
            <a:off x="5356080" y="1676520"/>
            <a:ext cx="3181320" cy="4403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343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we want to convert the decimal number 190 to base 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know that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= 243 so our result will be less than six digits wide.  The largest power of 3 that we need is therefore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81, and          8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2 = 16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down the 2 and subtract 162 from 190, giving 2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C90-1C35-4C1A-8982-6DA9B2D0D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8382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code words of length 12, we observe that each of the digits, 1 though 12, can be expressed in powers of 2.  Thu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ributes to all of the odd-numbered dig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(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ributes to the digits, 2, 3, 6, 7, 10, and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And so forth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use this idea in the creation of our check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6AF2-ABD7-4B2A-AE18-D2F067A62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769644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ur code words of length 12, number each bit position starting with 1 in the low-order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bit position corresponding to an even power of 2 will be occupied by a check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check bits contain the parity of each bit position for which it participates in the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39" descr=""/>
          <p:cNvPicPr/>
          <p:nvPr/>
        </p:nvPicPr>
        <p:blipFill>
          <a:blip r:embed="rId2"/>
          <a:srcRect l="0" t="13239" r="870" b="0"/>
          <a:stretch/>
        </p:blipFill>
        <p:spPr>
          <a:xfrm>
            <a:off x="838080" y="4419720"/>
            <a:ext cx="670572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C9B-8A15-4B94-96DC-F7537705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8229600" cy="32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ce 2 (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ontributes to the digits, 2, 3, 6, 7, 10, and 11.  Position 2 will contain the parity for bits 3, 6, 7, 10, and 1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use even parity, this is the modulo 2 sum of the participating bit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bit values shown, we have a parity value of 0 in the second bit pos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40" descr=""/>
          <p:cNvPicPr/>
          <p:nvPr/>
        </p:nvPicPr>
        <p:blipFill>
          <a:blip r:embed="rId2"/>
          <a:srcRect l="0" t="0" r="760" b="0"/>
          <a:stretch/>
        </p:blipFill>
        <p:spPr>
          <a:xfrm>
            <a:off x="838080" y="4467240"/>
            <a:ext cx="6858000" cy="9428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2286000" y="5562720"/>
            <a:ext cx="5791320" cy="53316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What are the values for the other parity bit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6C71-E78C-43D4-9A8D-588B257EC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41" descr=""/>
          <p:cNvPicPr/>
          <p:nvPr/>
        </p:nvPicPr>
        <p:blipFill>
          <a:blip r:embed="rId2"/>
          <a:srcRect l="0" t="0" r="2415" b="0"/>
          <a:stretch/>
        </p:blipFill>
        <p:spPr>
          <a:xfrm>
            <a:off x="914400" y="1525680"/>
            <a:ext cx="6627960" cy="9475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380880" y="2514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mpleted code word is shown abo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1checks the digits, 3, 5, 7, 9, and 11, so its value is 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4 checks the digits, 5, 6, 7, and 12, so its value is 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8 checks the digits, 9, 10, 11, and 12, so its value is also 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Hamming algorithm, we can not only detect single bit errors in this code word, but also correct them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C715-266D-423F-8CD6-03C56171D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42" descr=""/>
          <p:cNvPicPr/>
          <p:nvPr/>
        </p:nvPicPr>
        <p:blipFill>
          <a:blip r:embed="rId2"/>
          <a:srcRect l="0" t="0" r="2415" b="0"/>
          <a:stretch/>
        </p:blipFill>
        <p:spPr>
          <a:xfrm>
            <a:off x="914400" y="1523880"/>
            <a:ext cx="6627960" cy="9478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2509560"/>
            <a:ext cx="800100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an error occurs in bit 5, as shown above.  Our parity bit values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1 checks digits, 3, 5, 7, 9, and 11.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Its value is 1, but should be zer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2 checks digits 2, 3, 6, 7, 10, and 11. The zero is correc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4 checks digits, 5, 6, 7, and 12.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Its value is 1, but should be zer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8 checks digits, 9, 10, 11, and 12. This bit is correc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6"/>
              </a:spcBef>
              <a:buNone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61F9-BB19-46EE-B9B7-3564069E4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42" descr=""/>
          <p:cNvPicPr/>
          <p:nvPr/>
        </p:nvPicPr>
        <p:blipFill>
          <a:blip r:embed="rId2"/>
          <a:srcRect l="0" t="0" r="2415" b="0"/>
          <a:stretch/>
        </p:blipFill>
        <p:spPr>
          <a:xfrm>
            <a:off x="914400" y="1490760"/>
            <a:ext cx="6627960" cy="947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erroneous bits in positions 1 and 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ity bits that don’t check, we know that the error is in the data, and not in a parity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data bits are in error?  We find out by adding the bit positions of the erroneous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y, 1 + 4 = 5.  This tells us that the error is in bit 5. If we change bit 5 to a 1, all parity bits check and our data is resto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D8B-9A69-47A2-8172-548A2E335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store data in the form of bits, bytes, and words using the binary numbering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xadecimal numbers are formed using four-bit groups called nibbles (or nybbl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ed integers can be stored in one’s complement, two’s complement, or signed magnitude repres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numbers are usually coded using the IEEE 754 floating-point standa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2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5224-0E92-45E4-858F-231BA87C5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operations are not necessarily commutative or distribu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acter data is stored using ASCII, EBCDIC, or Uni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detecting and correcting codes are necessary because we can expect no transmission or storage medium to be perfe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C, Reed-Soloman, and Hamming codes are three important error control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2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7940-FCA7-4D99-988B-2172FCEF3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CB3-CD59-438A-9F6F-EC22C4113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1A" descr=""/>
          <p:cNvPicPr/>
          <p:nvPr/>
        </p:nvPicPr>
        <p:blipFill>
          <a:blip r:embed="rId2"/>
          <a:stretch/>
        </p:blipFill>
        <p:spPr>
          <a:xfrm>
            <a:off x="5353200" y="1676520"/>
            <a:ext cx="3181320" cy="4403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343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ext power of 3 is          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= 27.  We’ll need one of these, so we subtract 27 and write down the numeral 1 in our resul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ext power of 3,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9, is too large, but we have to assign a placeholder of zero and carry down the 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1676520"/>
            <a:ext cx="3200400" cy="12952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A7F6-41CF-4C4C-8E99-3F9315EC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1A" descr=""/>
          <p:cNvPicPr/>
          <p:nvPr/>
        </p:nvPicPr>
        <p:blipFill>
          <a:blip r:embed="rId2"/>
          <a:stretch/>
        </p:blipFill>
        <p:spPr>
          <a:xfrm>
            <a:off x="5356080" y="1676520"/>
            <a:ext cx="3181320" cy="4403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343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= 3  is again too large, so we assign a zero placehold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last power of 3, 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1, is our last choice, and it gives us a difference of z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r result, reading from top to bottom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2100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1676520"/>
            <a:ext cx="2514600" cy="259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1676520"/>
            <a:ext cx="381240" cy="259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1676520"/>
            <a:ext cx="380880" cy="6094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A968-CF51-42BD-8AC9-FB28C5E7A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method of converting integers from decimal to some other radix uses divi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thod is mechanical and eas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employs the idea that successive division by a base is equivalent to successive subtraction by powers of the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’s use the division remainder method to again convert 190 in decimal to base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425A-7775-4952-A738-713D2E31E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2A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195360" cy="4419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4197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take the number that we wish to convert and divide it by the radix in which we want to express our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3 divides 190   63 times, with a remaind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the quotient and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F651-7944-4E06-9A14-DB1BFAB1B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B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198600" cy="4424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343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 is evenly divisible b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remainder is zero, and the quotient is 2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497B-6C49-4602-A341-8127FD41A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2C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198600" cy="442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4960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in this way until the quotient is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inal calculation, we note that 3 divides 2 zero times with a remainder of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result, reading from bottom to top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1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E462-8D71-4619-BA3E-4EAA7390E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ctional values can be approximated in all base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ike integer values, fractions do not necessarily have exact representations under all radi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quantit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is exactly representable in the binary and decimal systems, but is not in the ternary (base 3) numbering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D4AF-DD64-43CA-BA75-CFA92DF03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ctional decimal values have nonzero digits to the right of the decimal poi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ctional values of other radix systems have nonzero digits to the right of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dix poi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als to the right of a radix point represent negative powers of the radix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267800"/>
            <a:ext cx="541008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½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0.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0.25 = 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2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39625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fundamentals of numerical data representation and manipulation in digital compu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the skill of converting between various radix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errors can occur in computations because of overflow and trun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4C7-8A21-4EB8-8FF4-4147525701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C50-A306-41E2-BDE1-780893801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with whole-number conversions, you can use either of two methods: a subtraction method and an easy multiplication meth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traction method for fractions is identical to the subtraction method for whole numbers. Instead of subtracting positive powers of the target radix, we subtract negative powers of the radix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lways start with the largest value first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our radix, and work our way along using larger negative ex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32C4-F320-4A65-AD2B-CAC64D960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39625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alculation to the right is an example of using the subtraction method to convert the decimal 0.8125 to bina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result, reading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 to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8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ourse, this method works with any base, not just bi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" descr=""/>
          <p:cNvPicPr/>
          <p:nvPr/>
        </p:nvPicPr>
        <p:blipFill>
          <a:blip r:embed="rId2"/>
          <a:stretch/>
        </p:blipFill>
        <p:spPr>
          <a:xfrm>
            <a:off x="4876920" y="1677960"/>
            <a:ext cx="382104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781A-8508-44BB-8B3E-4E35DC6DF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41911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multiplication method to convert the decimal 0.8125 to binary, we multiply by the radix 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product carries into the units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5A" descr=""/>
          <p:cNvPicPr/>
          <p:nvPr/>
        </p:nvPicPr>
        <p:blipFill>
          <a:blip r:embed="rId2"/>
          <a:stretch/>
        </p:blipFill>
        <p:spPr>
          <a:xfrm>
            <a:off x="5257800" y="1569960"/>
            <a:ext cx="31449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AFE2-272E-4310-8541-95E27ACEB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5B" descr=""/>
          <p:cNvPicPr/>
          <p:nvPr/>
        </p:nvPicPr>
        <p:blipFill>
          <a:blip r:embed="rId2"/>
          <a:stretch/>
        </p:blipFill>
        <p:spPr>
          <a:xfrm>
            <a:off x="5257800" y="1571760"/>
            <a:ext cx="3135240" cy="4589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47246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0.8125 to binary . .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 the value in the units place at each step, continue multiplying each fractional part by the rad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6BD3-A183-4929-AB34-6CD7FF89D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5C" descr=""/>
          <p:cNvPicPr/>
          <p:nvPr/>
        </p:nvPicPr>
        <p:blipFill>
          <a:blip r:embed="rId2"/>
          <a:stretch/>
        </p:blipFill>
        <p:spPr>
          <a:xfrm>
            <a:off x="5254560" y="1571760"/>
            <a:ext cx="3135240" cy="4589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72464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0.8125 to binary . .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finished when the product is zero, or until you have reached the desired number of binary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result, reading from top to bottom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8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also works with any base. Just use the target radix as the multipl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E7EC-8155-41C7-827B-2266EF88E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nary numbering system is the most important radix system for digital compu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it is difficult to read long strings of binary numbers-- and even a modestly-sized decimal number becomes a very long binary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    110101000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359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compactness and ease of reading, binary values are usually expressed using the hexadecimal, or base-16, numbering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5FAB-D3DB-455E-AC46-B54E0D2B4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exadecimal numbering system uses the numerals 0 through 9 and the letters A through 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mal number 12 i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mal number 26 is 1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easy to convert between base 16 and base 2, because 16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o convert from binary to hexadecimal, all we need to do is group the binary digits into groups of fo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5485320"/>
            <a:ext cx="6248520" cy="459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group of four binary digits is called a hex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8CA9-7506-46E5-B528-83F9A63A8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groups of hextets, the binary numbe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1010100011011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= 13595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in hexadecimal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al (base 8) values are derived from binary by using groups of three bits (8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531040"/>
            <a:ext cx="7696080" cy="8254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ctal was very useful when computers used six-bi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6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3665520" cy="911520"/>
          </a:xfrm>
          <a:prstGeom prst="rect">
            <a:avLst/>
          </a:prstGeom>
          <a:ln w="0">
            <a:noFill/>
          </a:ln>
        </p:spPr>
      </p:pic>
      <p:pic>
        <p:nvPicPr>
          <p:cNvPr id="141" name="7" descr=""/>
          <p:cNvPicPr/>
          <p:nvPr/>
        </p:nvPicPr>
        <p:blipFill>
          <a:blip r:embed="rId3"/>
          <a:stretch/>
        </p:blipFill>
        <p:spPr>
          <a:xfrm>
            <a:off x="2228760" y="4665600"/>
            <a:ext cx="363852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82CE-21C6-4A72-8A58-CD927C108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versions we have so far presented have involved only positiv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present negative values, computer systems allocate the high-order bit to indicate the sign of a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-order bit is the leftmost bit in a byte.  It is also called the most significant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maining bits contain the value of the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7D25-F3FD-4758-9CF2-A4320FFCA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2392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hree ways in which signed binary numbers may be expressed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ed magnitu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’s complement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’s comple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 8-bit word, signed magnitude representation places the absolute value of the number in the 7 bits to the right of the sign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2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fundamental concepts of floating-point repres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in familiarity with the most popular character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concepts of error detecting and correcting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329-2B19-43B7-B0BA-366190E43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AF08-9277-47B9-A11C-B7F80534D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2392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8-bit signed magnitude, positive 3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0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ative 3 i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0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perform arithmetic operations on signed magnitude numbers in much the same way as humans carry out pencil and paper arithme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s often ignore the signs of the operands while performing a calculation, applying the appropriate sign after the calculation is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1DFE-FCC9-4364-9C8E-AA186E1DC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201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addition is as easy as it gets. You need to know only four ru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 + 0 = 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0 + 1 = 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0 = 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1 + 1 =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mplicity of this system makes it possible for digital circuits to carry out arithmetic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scribe these circuits in Chapte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5134320"/>
            <a:ext cx="624852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Let’s see how the addition rules work with signed magnitude numbers . .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CC7B-710B-44E0-A392-8788FFA3B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6483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convert 75 and 46 to binary, and arrange as a sum, but separate the (positive) sign bits from the magnitude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8D" descr=""/>
          <p:cNvPicPr/>
          <p:nvPr/>
        </p:nvPicPr>
        <p:blipFill>
          <a:blip r:embed="rId2"/>
          <a:stretch/>
        </p:blipFill>
        <p:spPr>
          <a:xfrm>
            <a:off x="5578560" y="2284560"/>
            <a:ext cx="28796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D76F-D2E8-4EAE-ABEA-B2691C8FF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8A" descr=""/>
          <p:cNvPicPr/>
          <p:nvPr/>
        </p:nvPicPr>
        <p:blipFill>
          <a:blip r:embed="rId2"/>
          <a:stretch/>
        </p:blipFill>
        <p:spPr>
          <a:xfrm>
            <a:off x="5575320" y="2284560"/>
            <a:ext cx="2879640" cy="1879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6483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in decimal arithmetic, we find the sum starting with the rightmost bit and work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45E-F03D-4FE3-A1D9-568B1685F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8B" descr=""/>
          <p:cNvPicPr/>
          <p:nvPr/>
        </p:nvPicPr>
        <p:blipFill>
          <a:blip r:embed="rId2"/>
          <a:stretch/>
        </p:blipFill>
        <p:spPr>
          <a:xfrm>
            <a:off x="5575320" y="2284560"/>
            <a:ext cx="2879640" cy="1879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6483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bit, we have a carry, so we note it above the third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81A3-64F3-4C47-B291-D16AD6695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8C" descr=""/>
          <p:cNvPicPr/>
          <p:nvPr/>
        </p:nvPicPr>
        <p:blipFill>
          <a:blip r:embed="rId2"/>
          <a:stretch/>
        </p:blipFill>
        <p:spPr>
          <a:xfrm>
            <a:off x="5575320" y="2284560"/>
            <a:ext cx="2879640" cy="1879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6483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ird and fourth bits also give us car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7E80-6281-4B25-BBF8-36C999DB1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8" descr=""/>
          <p:cNvPicPr/>
          <p:nvPr/>
        </p:nvPicPr>
        <p:blipFill>
          <a:blip r:embed="rId2"/>
          <a:stretch/>
        </p:blipFill>
        <p:spPr>
          <a:xfrm>
            <a:off x="5575320" y="2286000"/>
            <a:ext cx="2879640" cy="1879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8769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we have worked our way through all eight bits, we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724280"/>
            <a:ext cx="7467480" cy="12193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n this example, we were careful careful to pick two values whose sum would fit into seven bits.  If that is not the case, we have a probl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F648-6419-4544-8726-F5D315453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9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235320" cy="22827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8769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107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at the carry from the seventh b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fl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discarded, giving us the erroneous result: 107 + 46 = 2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2474-1EAE-49CA-B378-6319B31BC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800600" cy="28954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gns in signed magnitude representation work just like the signs in pencil and paper arithme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signed magnitude binary arithmetic, find the sum of - 46 and -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572000"/>
            <a:ext cx="7467840" cy="1295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he signs are the same, all we do is add the numbers and supply the negative sign when we are do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10" descr=""/>
          <p:cNvPicPr/>
          <p:nvPr/>
        </p:nvPicPr>
        <p:blipFill>
          <a:blip r:embed="rId2"/>
          <a:stretch/>
        </p:blipFill>
        <p:spPr>
          <a:xfrm>
            <a:off x="5575320" y="2286000"/>
            <a:ext cx="28796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2A2-B32E-4F49-B6B2-B0DB50B3C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11" descr=""/>
          <p:cNvPicPr/>
          <p:nvPr/>
        </p:nvPicPr>
        <p:blipFill>
          <a:blip r:embed="rId2"/>
          <a:stretch/>
        </p:blipFill>
        <p:spPr>
          <a:xfrm>
            <a:off x="5575320" y="2286000"/>
            <a:ext cx="2852640" cy="17352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800600" cy="27432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xed sign addition  (or subtraction) is done the same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signed magnitude binary arithmetic, find the sum of  46 and -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4343400"/>
            <a:ext cx="7925040" cy="16002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gn of the result gets the sign of the number that is larg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“borrows” from the second and sixth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4823-81BA-4C71-B555-FA1229098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most basic unit of information in a compu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state of “on” or “off” in a digital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se states are “high” or “low” voltage instead of “on” or “off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group of eight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yte is the smallest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it of computer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rm, “addressable,” means that a particular byte can be retrieved according to its location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B3E1-D4F6-4525-B8B4-743232F09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3152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ed magnitude representation is easy for people to understand, but it requires complicated computer hard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disadvantage of signed magnitude is that it allows two different representations for zero: positive zero and negative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se reasons (among others) computers systems emplo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plement syst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numeric value repres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0DBC-94DB-44BA-B459-38FCCBB4E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1907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omplement systems, negative values are represented by some difference between a number and its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minished radix comp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ems, a negative value is given by the difference between the absolute value of a number and one less than its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binary system, this gives u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ne’s comp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It amounts to little more than flipping the bits of a binary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CF34-FA01-4027-9A53-AC4D5C8B2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8-bit one’s complement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3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0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ative 3 i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1111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ne’s complement, as with signed magnitude, negative values are indicated by a 1 in the high order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systems are useful because they eliminate the need for subtraction. The difference of two values is found by adding the minuend to the complement of the subtrahe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66F3-AB8A-4465-85DF-10AFEFC4D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483000" cy="2766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800600" cy="28954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one’s complement addition, the carry bit is “carried around” and added to the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one’s complement binary arithmetic, find the sum of 48 and -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4723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We note that 19 in one’s complement is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00010011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so -19 in one’s complement is: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  111011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1249-BF0F-45A4-834E-769F604CA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23924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hough the “end carry around” adds some complexity, one’s complement is simpler to implement than signed magnitu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it still has the disadvantage of having two different representations for zero: positive zero and negative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’s complement solves this probl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’s complement is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dix comp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binary numbering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1A14-5494-4640-A1D0-25224C29E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xpress a value in two’s compleme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is positive, just convert it to binary and you’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is negative, find the one’s complement of the number and then ad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8-bit one’s complement, positive 3 i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0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gative 3 in one’s complement 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ng 1 gives us -3 in two’s complement for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1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76A4-DC6F-4A88-B382-E253C0D0C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28954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wo’s complement arithmetic, all we do is add our two binary numbers. Just discard any carries emitting from the high order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88052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We note that 19 in one’s complement is: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00010011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so -19 in one’s complement is: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  11101100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and -19 in two’s complement is: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  11101101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1240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one’s complement binary arithmetic, find the sum of 48 and - 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14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035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633-92D4-4A08-9BA6-56929AF8C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2012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use any finite number of bits to represent a number, we always run the risk of the result of our calculations becoming too large to be stored in the compu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we can’t always prevent overflow, we can alway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t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f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omplement arithmetic, an overflow condition is easy to dete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E225-A502-4E67-9F0D-083EBCBC3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15" descr=""/>
          <p:cNvPicPr/>
          <p:nvPr/>
        </p:nvPicPr>
        <p:blipFill>
          <a:blip r:embed="rId2"/>
          <a:srcRect l="0" t="0" r="7118" b="0"/>
          <a:stretch/>
        </p:blipFill>
        <p:spPr>
          <a:xfrm>
            <a:off x="5943600" y="2133720"/>
            <a:ext cx="2819520" cy="2425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181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wo’s complement binary arithmetic, find the sum of 107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at the nonzero carry from the seventh b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flow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the sign bit, giving us the erroneous result: 107 + 46 = -10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029200"/>
            <a:ext cx="8001000" cy="10666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Times New Roman"/>
              </a:rPr>
              <a:t>Rule for detecting signed two’s complement overflow: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When the “carry in” and the “carry out” of the sign bit differ, overflow has occur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FCAD-E86C-49E6-BC8B-588ACE872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ed and unsigned numbers are both usefu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memory addresses are always un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same number of bits, unsigned integers can express twice as many values as signed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uble arises if an unsigned value “wraps around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our bits: 1111 + 1 = 0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programmers stay alert for this kind of probl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F6FC-F94C-4845-A642-2A5E947D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contiguous group of by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 can be any number of bits or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sizes of 16, 32, or 64 bits are most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word-addressable system, a word is the smallest addressable unit of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oup of four bits is called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ib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yb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s, therefore, consist of two nibbles: a “high-order nibble,” and a “low-order” nib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431C-BF4A-4047-809C-0FCF56CB4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into finding better arithmetic algorithms has continued apace for over 50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 the many interesting products of this work is Booth’s algorith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st cases, Booth’s algorithm carries out multiplication faster and more accurately than naïve pencil-and-paper metho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eneral idea is to replace arithmetic operations with bit shifting to the extent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FA37-0D8F-4B94-8AB7-EF865F53D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Booth’s algorithm, the first 1 in a string of 1s in the multiplier is replaced with a subtraction of the multiplic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ft the partial sums until the last 1 of the string is detec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add the multiplic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942480"/>
            <a:ext cx="2743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0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Courier New"/>
              </a:rPr>
              <a:t>x 0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- 0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Courier New"/>
              </a:rPr>
              <a:t>+ 0011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00010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E2B-89B5-438B-9E4D-8ECE53A66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5715000"/>
            <a:ext cx="685800" cy="457200"/>
          </a:xfrm>
          <a:prstGeom prst="ellipse">
            <a:avLst/>
          </a:prstGeom>
          <a:solidFill>
            <a:srgbClr val="e2fed2"/>
          </a:solidFill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larger examp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-797760"/>
            <a:ext cx="4648320" cy="70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b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0011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Courier New"/>
              </a:rPr>
              <a:t>x       01111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111111111001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Courier New"/>
              </a:rPr>
              <a:t>+ 000110101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10001101000010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343400"/>
            <a:ext cx="3048120" cy="4572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gnore all bits over 2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4876920"/>
            <a:ext cx="1447560" cy="914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E269-A0C2-45C0-80A0-C9F4BA08F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flow and carry are tricky ide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ed number overflow means nothing in the context of unsigned numbers, which set a carry flag instead of an overflow fla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carry out of the leftmost bit occurs with an unsigned number, overflow has occur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y and overflow occur independently of each o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5562720"/>
            <a:ext cx="6400800" cy="4572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table on the next slide summarizes these ide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6AAE-3075-4480-BAAE-E6E2A5E11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Co" descr=""/>
          <p:cNvPicPr/>
          <p:nvPr/>
        </p:nvPicPr>
        <p:blipFill>
          <a:blip r:embed="rId2"/>
          <a:stretch/>
        </p:blipFill>
        <p:spPr>
          <a:xfrm>
            <a:off x="480960" y="1976400"/>
            <a:ext cx="81820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58A5-B18E-4DF8-B2CD-ADDBF9A5C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315200" cy="41907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gned magnitude, one’s complement, and two’s complement representation that we have just presented deal with integer values on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modification, these formats are not useful in scientific or business applications that deal with real number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representation solves this probl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7B3A-A35A-459E-AE89-42393FE21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are clever programmers, we can perform floating-point calculations using any integer forma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loating-point em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ecause floating point values aren’t stored as such, we just create programs that make it seem as if floating-point values are being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oday’s computers are equipped with specialized hardware that performs floating-point arithmetic with no special programming requi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453A-1114-49F2-8ACB-957BF5172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numbers allow an arbitrary number of decimal places to the right of the decimal poi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0.5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0.25 = 0.1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often expressed in scientific notatio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25 = 1.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000,000 = 5.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1FC-B542-4EB6-A381-F1126EC76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use a form of scientific notation for floating-point represent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s written in scientific notation have three component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16A" descr=""/>
          <p:cNvPicPr/>
          <p:nvPr/>
        </p:nvPicPr>
        <p:blipFill>
          <a:blip r:embed="rId2"/>
          <a:stretch/>
        </p:blipFill>
        <p:spPr>
          <a:xfrm>
            <a:off x="1828800" y="3505320"/>
            <a:ext cx="5173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3587-B1A3-4D18-A514-250736801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representation of a floating-point number consists of three fixed-size fiel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standard arrangement of these fiel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066680" y="2665440"/>
            <a:ext cx="67183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CEFD-E47B-4E27-9B9D-264A449DD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2 Positional Numbering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tes store numbers using the position of each bit to represent a power of 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nary system is also called the base-2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decimal system is the base-10 system.  It uses powers of 10 for each position in a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teger quantity can be represented exactly using any base (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d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546F-46F6-4DC0-B58E-C105F8C30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09120" y="31240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ne-bit sign field is the sign of the stored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ze of the exponent field, determines the range of values that can be represen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ze of the significand determines the precision of the repres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187280" y="1370160"/>
            <a:ext cx="6143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9859-21FA-420B-ABCF-20BC1DBAD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187280" y="1370160"/>
            <a:ext cx="61437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480" y="3048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EEE-754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ngle preci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loating point standard uses an 8-bit exponent and a 23-bit signific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EEE-754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ouble preci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andard uses an 11-bit exponent and a 52-bit signific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5334120"/>
            <a:ext cx="6782040" cy="9144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For illustrative purposes, we will use a 14-bit model with a 5-bit exponent and an 8-bit significa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1D96-A5AC-485B-A929-F515365FD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187280" y="1370160"/>
            <a:ext cx="6143760" cy="16668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gnificand of a floating-point number is always preceded by an implied binary poi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he significand always contains a fractional binary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xponent indicates the power of 2 to which the significand is rai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B470-E308-44F0-9D7C-E7C79DE1F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1128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3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implified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at 32 i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So in (binary) scientific notation 32 = 1.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is information, we put 110 (= 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 the exponent field and 1 in the significand as sh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18" descr=""/>
          <p:cNvPicPr/>
          <p:nvPr/>
        </p:nvPicPr>
        <p:blipFill>
          <a:blip r:embed="rId2"/>
          <a:stretch/>
        </p:blipFill>
        <p:spPr>
          <a:xfrm>
            <a:off x="1143000" y="4876920"/>
            <a:ext cx="61866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AAB6-11E4-4F21-88B9-BDDD41300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3962520" cy="41907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llustrations shown at the right a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quivalent representations for 32 using our simplified mod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only do these synonymous representations waste space, but they can also cause confus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19" descr=""/>
          <p:cNvPicPr/>
          <p:nvPr/>
        </p:nvPicPr>
        <p:blipFill>
          <a:blip r:embed="rId2"/>
          <a:stretch/>
        </p:blipFill>
        <p:spPr>
          <a:xfrm>
            <a:off x="4186080" y="1752480"/>
            <a:ext cx="46530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A39A-2F0B-422C-8476-AC270CB38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09480" y="3200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problem with our system is that we have made no allowances for negative exponents.  We have no way to express 0.5 (=2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!  (Notice that there is no sign in the exponent field!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219320" y="1371600"/>
            <a:ext cx="6134040" cy="1663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447920" y="5105520"/>
            <a:ext cx="5638680" cy="8380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ll of these problems can be fixed with no changes to our basic mod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E5D1-1E40-49C6-81CC-B7284A69A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769644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solve the problem of synonymous forms, we will establish a rule that the first digit of the significand must be 1.  This results in a unique pattern for each floating-point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IEEE-754 standard, this 1 is implied meaning that a 1 is assumed after the binary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using an implied 1, we increase the precision of the representation by a power of two.  (Wh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4952880"/>
            <a:ext cx="4496040" cy="838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In our simple instructional model, we will use no implied b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D61-4ECA-4D73-A705-B90509752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vide for negative exponents, we will use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iased expon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ias is a number that is approximately midway in the range of values expressible by the exponent.  We subtract the bias from the value in the exponent to determine its true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case, we have a 5-bit exponent.  We will use 16 for our bias.  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cess-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ur model, exponent values less than 16 are negative, representing fractional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855-AD50-46D0-A548-400DBA199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20" descr=""/>
          <p:cNvPicPr/>
          <p:nvPr/>
        </p:nvPicPr>
        <p:blipFill>
          <a:blip r:embed="rId2"/>
          <a:stretch/>
        </p:blipFill>
        <p:spPr>
          <a:xfrm>
            <a:off x="1104840" y="4879800"/>
            <a:ext cx="6207120" cy="1258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1128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3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evised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at 32 = 1.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ur excess 16 biased exponent, we add 16 to 6, giving 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=101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B6E8-5D76-4A9B-9E65-0AE22B3AC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21" descr=""/>
          <p:cNvPicPr/>
          <p:nvPr/>
        </p:nvPicPr>
        <p:blipFill>
          <a:blip r:embed="rId2"/>
          <a:stretch/>
        </p:blipFill>
        <p:spPr>
          <a:xfrm>
            <a:off x="1104840" y="4879800"/>
            <a:ext cx="6207120" cy="12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0.06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evised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at 0.0625 i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So in (binary) scientific notation 0.0625 = 1.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ur excess 16 biased exponent, we add 16 to -3, giving 1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=01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89F2-B88E-4E6D-B1F4-95AE9B0BC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2 Positional Numbering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cimal number 947 in powers of 10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cimal number 5836.47 in powers of 10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3934440"/>
            <a:ext cx="541008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23612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C5C1-3D7E-46A4-A957-D9A457A42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22" descr=""/>
          <p:cNvPicPr/>
          <p:nvPr/>
        </p:nvPicPr>
        <p:blipFill>
          <a:blip r:embed="rId2"/>
          <a:stretch/>
        </p:blipFill>
        <p:spPr>
          <a:xfrm>
            <a:off x="1104840" y="4879800"/>
            <a:ext cx="6207120" cy="12589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923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-26.6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evised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ind 26.6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010.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Normalizing, we have: 26.6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1010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ur excess 16 biased exponent, we add 16 to 5, giving 2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=1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We also need a 1 in the sign b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6764-6402-4591-B6B2-F283A6C63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8304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EEE-754 single precision floating point standard uses bias of 127 over its 8-bit exponen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onent of 255 indicates a special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ignificand is zero, the value i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i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ignificand is nonzero, the value is NaN, “not a number,” often used to flag an error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ouble precision standard has a bias of 1023 over its 11-bit expon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pecial” exponent value for a double precision number is 2047, instead of the 255 used by the single precision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B44-BC91-4841-92DE-3E14F60C2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0412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the 14-bit model that we have presented and the IEEE-754 floating point standard allow two representations for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is indicated by all zeros in the exponent and the significand, but the sign bit can be either 0 o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why programmers should avoid testing a floating-point value for equality to zer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zero does not equal positive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77A3-4364-4095-9822-A631DB360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7846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addition and subtraction are done using methods analogous to how we perform calculations using pencil and pap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thing that we do is express both operands in the same exponential power, then add the numbers, preserving the exponent in the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xponent requires adjustment, we do so at the end of the calcul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A817-F19B-4796-91F4-D6C9C13AA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10920" y="1447560"/>
            <a:ext cx="7923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sum of 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.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ind 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10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nd 1.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000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23" descr=""/>
          <p:cNvPicPr/>
          <p:nvPr/>
        </p:nvPicPr>
        <p:blipFill>
          <a:blip r:embed="rId2"/>
          <a:stretch/>
        </p:blipFill>
        <p:spPr>
          <a:xfrm>
            <a:off x="3352680" y="3200400"/>
            <a:ext cx="5100840" cy="2593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09480" y="3505320"/>
            <a:ext cx="3276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our sum is 0.110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FEEF-55B6-4420-9C26-A8D328A60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761832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multiplication is also carried out in a manner akin to how we perform multiplication using pencil and pap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multiply the two operands and add their ex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xponent requires adjustment, we do so at the end of the calcul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E9E6-2113-4F35-A8E4-ED5FE0449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24" descr=""/>
          <p:cNvPicPr/>
          <p:nvPr/>
        </p:nvPicPr>
        <p:blipFill>
          <a:blip r:embed="rId2"/>
          <a:stretch/>
        </p:blipFill>
        <p:spPr>
          <a:xfrm>
            <a:off x="3657600" y="3429000"/>
            <a:ext cx="5100480" cy="25938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0920" y="1447560"/>
            <a:ext cx="777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product of 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.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ind 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10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nd 1.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3200400"/>
            <a:ext cx="32767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our product is 0.011110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5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1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malized product requires an exponent of 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1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AFC-D169-4C70-8D59-1D7E10753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830412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matter how many bits we use in a floating-point representation, our model must be fini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al number system is, of course, infinite, so our models can give nothing more than an approximation of a real valu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some point, every model breaks down, introducing errors into our calcul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using a greater number of bits in our model, we can reduce these errors, but we can never totally eliminate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7507-32A7-45D2-A9D9-118280F9E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830412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job becomes one of reducing error, or at least being aware of the possible magnitude of error in our calcul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must also be aware that errors can compound through repetitive arithmetic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our 14-bit model cannot exactly represent the decimal value 128.5.  In binary, it is 9 bits wi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00000.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128.5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782-FA18-4D60-AFEC-28F389127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try to express 128.5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our 14-bit model, we lose the low-order bit, giving a relative error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had a procedure that repetitively added 0.5 to 128.5, we would have an error of nearly 2% after only four it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57400" y="2527200"/>
            <a:ext cx="3809880" cy="1408320"/>
            <a:chOff x="2057400" y="2527200"/>
            <a:chExt cx="3809880" cy="1408320"/>
          </a:xfrm>
        </p:grpSpPr>
        <p:sp>
          <p:nvSpPr>
            <p:cNvPr id="342" name=""/>
            <p:cNvSpPr/>
            <p:nvPr/>
          </p:nvSpPr>
          <p:spPr>
            <a:xfrm>
              <a:off x="2057400" y="2527200"/>
              <a:ext cx="2133720" cy="14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 baseline="30000">
                  <a:solidFill>
                    <a:srgbClr val="000000"/>
                  </a:solidFill>
                  <a:uFillTx/>
                  <a:latin typeface="Arial"/>
                </a:rPr>
                <a:t>128.5 - 12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000000"/>
                  </a:solidFill>
                  <a:latin typeface="Arial"/>
                </a:rPr>
                <a:t>128.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33920" y="2725560"/>
              <a:ext cx="213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Arial"/>
                </a:rPr>
                <a:t>0.39%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8FD6-97B4-477B-98DD-608B990A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2 Positional Numbering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nary number 11001 in powers of 2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 radix of a number is something other than 10, the base is denoted by a subscrip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, the subscript 10 is added for empha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05000"/>
            <a:ext cx="7086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+    8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 0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   0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  1    =  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A887-0999-4735-91CC-3C394CB01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errors can be reduced when we use operands that are similar in magnitu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were repetitively adding 0.5 to 128.5, it would have been better to iteratively add 0.5 to itself and then add 128.5 to this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example, the error was caused by loss of the low-order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of the high-order bit is more problema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82D6-75CA-4257-A086-92D26DDF2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792324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overflow and underflow can cause programs to cra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flow occurs when there is no room to store the high-order bits resulting from a calcul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flow occurs when a value is too small to store, possibly resulting in division by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4724280"/>
            <a:ext cx="7391520" cy="12193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Experienced programmers know that it’s better for  a program to crash than to have it produce incorrect, but plausible, resul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7BF8-CBEB-4CAA-9156-C542DCBBE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81518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discussing floating-point numbers, it is important to understand the term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nge, precision, and accura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ange of a numeric integer format is the difference between the largest and smallest values that is can expre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racy refers to how closely a numeric representation approximates a true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ecision of a number indicates how much information we have about a val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D725-AE7E-4730-9230-557BA3F0D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time, greater precision leads to better accuracy, but this is not always tr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3.1333 is a value of pi that is accurate to two digits, but has 5 digits of pr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other problems with floating point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truncated bits, you cannot always assume that a particular floating point operation is commutative or distribu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0AA0-20AE-4704-803A-968E99E2E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hat we cannot assum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+ b) + c = a + (b + c)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(b + c) = ab +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over, to test a floating point value for equality to some other number, first figure out how close one number can be to be considered equal. Call this valu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psil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use the stateme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abs(x) &lt; epsilon) the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0363-CD4F-41B3-933C-D5CD9B73E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763560" y="1442880"/>
            <a:ext cx="7770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ons aren’t useful until their results can be displayed in a manner that is meaningful to peo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lso need to store the results of calculations, and provide a means for data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human-understandable characters must be converted to computer-understandable bit patterns using some sort of character encoding sche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8B7F-57A2-4588-BAD5-59B2E3403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766800" y="1442880"/>
            <a:ext cx="7462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computers have evolved, character codes have evolv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computer memories and storage devices permit richer character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arliest computer coding systems used six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-coded decimal (BCD) was one of these early codes. It was used by IBM mainframes in the 1950s and 1960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2EAD-A8D9-4FE9-ADDA-FF726FD86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66800" y="1442880"/>
            <a:ext cx="7843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64, BCD was extended to an 8-bit code, Extended Binary-Coded Decimal Interchange Code (EBCDIC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BCDIC was one of the first widely-used computer codes that supported upp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wercase alphabetic characters, in addition to special characters, such as punctuation and control charac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BCDIC and BCD are still in use by IBM mainframes toda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6167-3883-4F3F-840E-2A4D18689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66800" y="1442880"/>
            <a:ext cx="753912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computer manufacturers chose the 7-bit ASCII (American Standard Code for Information Interchange) as a replacement for 6-bit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BCD and EBCDIC were based upon punched card codes, ASCII was based upon telecommunications (Telex)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til recently, ASCII was the dominant character code outside the IBM mainfram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F46F-7B7C-49CB-B980-5487637F7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766800" y="1442520"/>
            <a:ext cx="78436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of today’s systems embrace Unicode, a 16-bit system that can encode the characters of every language in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va programming language, and some operating systems now use Unicode as their default character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code codespace is divided into six parts.  The first part is for Western alphabet codes, including English, Greek, and Russi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F8CC-E88E-4569-8174-783BBFC9C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binary numbers are the basis for all data representation in digital computer systems, it is important that you become proficient with this radix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knowledge of the binary numbering system will enable you to understand the operation of all computer components as well as the design of instruction set architec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F77F-D05C-4139-B0D2-BE41AD27C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381024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code codes- pace allocation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owest-numbered Unicode characters comprise the ASCII 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ighest provide for user-defined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25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4626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729D-0BC6-44AA-B083-8B206460A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838044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physically impossible for any data recording or transmission medium to be 100% perfect 100% of the time over its entire expected useful lif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more bits are packed onto a square centimeter of disk storage, as communications transmission speeds increase, the likelihood of error increases-- sometimes geometric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error detection and correction is critical to accurate data transmission, storage and retriev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837E-AC72-427A-80A6-8208E1575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digits, appended to the end of a long number can provide some protection against data input err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character of UPC barcodes and ISBNs are check dig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er data streams require more economical and sophisticated error detection mechanis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clic redundancy checking (CRC) codes provide error detection for large blocks of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06BF-9CE5-48B2-BAF8-7ABF240C3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s and CRCs are example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ystematic error det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ystematic error det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group of error control bits is appended to the end of the block of transmitted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group of bit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dr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Cs are polynomials over the modulo 2 arithmetic fie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5029200"/>
            <a:ext cx="6858000" cy="10666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The mathematical theory behind modulo 2 polynomials is beyond our scope. However, we can easily work with it without knowing its theoretical underpinn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D994-F4B2-40F0-8311-47F8D423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79232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ulo 2 arithmetic works like clock arithme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lock arithmetic, if we add 2 hours to 11:00, we get 1: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dulo 2 arithmetic if we add 1 to 1, we get 0. The addition rules couldn’t be simpl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5257800"/>
            <a:ext cx="7010280" cy="8380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You will fully understand why modulo 2 arithmetic is so handy after you study digital circuits in Chapter 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14600" y="3788280"/>
            <a:ext cx="33526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7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0 + 0 = 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0 + 1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7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 + 0 =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 + 1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D11D-8E69-4E24-A75A-C611274B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72464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the quotient and remainder when 1111101 is divided by 1101 in modulo 2 arithme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traditional division, we note that the dividend is divisible once by the di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lace the divisor under the dividend and perform modulo 2 subt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34a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7878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9A10-A143-48DF-8C01-7B9F4369C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34b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797200" cy="3170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72464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the quotient and remainder when 1111101 is divided by 1101 in modulo 2 arithmet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bring down the next bit of the divid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ee that 00101 is not divisible by 1101. So we place a zero in the quot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11F7-972D-48D4-8342-ADECE48F7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34c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797200" cy="3170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72464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the quotient and remainder when 1111101 is divided by 1101 in modulo 2 arithmet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 is divisible by 1101 in modulo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erform the modulo 2 subt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7A4F-5ABD-4204-B80F-7C614D92E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34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797200" cy="31701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4724640" cy="3581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the quotient and remainder when 1111101 is divided by 1101 in modulo 2 arithmet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nd the quotient is 1011, and the remainder is 0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ocedure is very useful to us in calculating CRC syndro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1080" y="5257800"/>
            <a:ext cx="5791320" cy="8380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Note: The divisor in this example corresponds to a modulo 2 polynomial:  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en-US" sz="2200" spc="-1" strike="noStrike" baseline="30000">
                <a:solidFill>
                  <a:srgbClr val="cc3300"/>
                </a:solidFill>
                <a:latin typeface="Arial"/>
              </a:rPr>
              <a:t> 3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 + X</a:t>
            </a:r>
            <a:r>
              <a:rPr b="1" lang="en-US" sz="2200" spc="-1" strike="noStrike" baseline="30000">
                <a:solidFill>
                  <a:srgbClr val="cc3300"/>
                </a:solidFill>
                <a:latin typeface="Arial"/>
              </a:rPr>
              <a:t> 2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 + 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CAEC-F62D-4758-8A77-ACEE1EC46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51800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we want to transmit the information string: 111110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ceiver and sender decide to use the (arbitrary) polynomial pattern, 110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nformation string is shifted left by one position less than the number of positions in the divis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mainder is found through modulo 2 division (at right) and added to the information string: 1111101000 + 111 = 111110111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35" descr=""/>
          <p:cNvPicPr/>
          <p:nvPr/>
        </p:nvPicPr>
        <p:blipFill>
          <a:blip r:embed="rId2"/>
          <a:stretch/>
        </p:blipFill>
        <p:spPr>
          <a:xfrm>
            <a:off x="5435640" y="1589040"/>
            <a:ext cx="3327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8:20Z</dcterms:modified>
  <cp:revision>186</cp:revision>
  <dc:subject/>
  <dc:title>Chapter 2</dc:title>
</cp:coreProperties>
</file>