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BFC3-94D9-4B5E-AFEB-A1B886BCD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1AC3-40B6-4E36-A6FC-AE96FED6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1818-406C-417C-BD52-97707AFA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595B-1E97-4717-92ED-FEEFBBF3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C6F1-A2AC-4583-A07A-F90E58BF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3A1-781D-4987-8061-526CB528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0E62-4352-48CA-8BF5-2CE2E344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63FC-C5F6-4165-840E-FBB4BC4B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FC1D-7710-4A60-A677-FC0EF801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75E5-08EB-4D11-BB31-200FDD70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DF42-41B1-4303-805E-D8C2DC1C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FCA9-E955-4B1E-A92F-DC0D78FB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72E8-FBCD-42D4-99C2-7D5E5F9D7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3124080"/>
            <a:ext cx="6553080" cy="2895840"/>
          </a:xfrm>
          <a:prstGeom prst="rect">
            <a:avLst/>
          </a:prstGeom>
          <a:solidFill>
            <a:srgbClr val="d1dff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733920" y="34290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Chapter 10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666520" y="4343400"/>
            <a:ext cx="61722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opics in Embedded System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45E2-04B7-4AA1-A1B1-47219D40C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mi-custom systems-on-a-chip can be fabricated whenever a suitable off-the-shelf SOC is unavail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hip mask is created using blocks of pre-designed, pre-tested intellectual property (IP) circui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emi-custom approach is costly. To save money, off-the-shelf SOCs are preferred, even when their functionality is not an exact fit for the applic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4AC8-AF58-47FF-B549-131930D95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mable logic devices (PLDs) are configurable devices in which the behavior of the circuits can be changed to suit the needs of an applic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array logic (PAL) chips consist of programmable AND gates connected to a set of fixed OR ga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able logic array (PLA) chips consist of programmable AND gates connected through programmable OR ga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5C99-C35A-4FB3-9795-8E3CB6645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rogrammed PAL and a programmed PL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Fig10-3-4_ppt" descr=""/>
          <p:cNvPicPr/>
          <p:nvPr/>
        </p:nvPicPr>
        <p:blipFill>
          <a:blip r:embed="rId2"/>
          <a:srcRect l="5512" t="5492" r="2628" b="5492"/>
          <a:stretch/>
        </p:blipFill>
        <p:spPr>
          <a:xfrm>
            <a:off x="685800" y="1981080"/>
            <a:ext cx="792468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325B-4423-4EB1-BF5B-3C1464910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ehavior of field programmable gate arrays (FPGAs) is controlled through values stored in memory lookup tables rather than by changing connections between logic elem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Fig10-5_ppt" descr=""/>
          <p:cNvPicPr/>
          <p:nvPr/>
        </p:nvPicPr>
        <p:blipFill>
          <a:blip r:embed="rId2"/>
          <a:srcRect l="5527" t="4554" r="7426" b="13514"/>
          <a:stretch/>
        </p:blipFill>
        <p:spPr>
          <a:xfrm>
            <a:off x="1676520" y="3135240"/>
            <a:ext cx="563868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5120-5157-4C97-81C5-75536918E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2133360"/>
            <a:ext cx="2514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th tables are entered directly into FPGA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Fig10-6_ppt" descr=""/>
          <p:cNvPicPr/>
          <p:nvPr/>
        </p:nvPicPr>
        <p:blipFill>
          <a:blip r:embed="rId2"/>
          <a:srcRect l="13263" t="5574" r="13793" b="5225"/>
          <a:stretch/>
        </p:blipFill>
        <p:spPr>
          <a:xfrm>
            <a:off x="2971800" y="1447920"/>
            <a:ext cx="58672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70E3-1034-49ED-A997-74F566506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PGAs typically consist of blocks of logic elements interconnected by switches and multiplexers in an “island” configur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Fig10-7_ppt" descr=""/>
          <p:cNvPicPr/>
          <p:nvPr/>
        </p:nvPicPr>
        <p:blipFill>
          <a:blip r:embed="rId2"/>
          <a:srcRect l="2791" t="30197" r="6959" b="13961"/>
          <a:stretch/>
        </p:blipFill>
        <p:spPr>
          <a:xfrm>
            <a:off x="533520" y="2819520"/>
            <a:ext cx="73911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1B3E-EBD9-4A0A-AC5D-A7B06190F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f-the-shelf microcontrollers and SOCs do not have sufficient functionality for the task at hand..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 off-the-shelf microcontrollers and SOCs have too much functionality, with the excess consuming resources needlessly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a semi-custom chip cannot be economically fabricated from commercially available IP design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96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PLDs are too expensive or too slow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nly option left is to design an application-specific integrated circuit (ASIC) from scratc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C989-87C4-4833-AF72-1B6C8F01A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design a chip from scratch we need to think about it from three points of view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do we need the chip to do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ch logic components can provide the behavior we need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is the best way to position the components on the silicon die in order to reduce cost and provide the best performanc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02DC-28B7-4339-8C6D-C390B775F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Fig10-8_ppt" descr=""/>
          <p:cNvPicPr/>
          <p:nvPr/>
        </p:nvPicPr>
        <p:blipFill>
          <a:blip r:embed="rId2"/>
          <a:srcRect l="9413" t="20125" r="7666" b="18058"/>
          <a:stretch/>
        </p:blipFill>
        <p:spPr>
          <a:xfrm>
            <a:off x="762120" y="2392200"/>
            <a:ext cx="7391160" cy="4008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jski’s Logic Synthesis Y-Chart depicts the relationship of these three dimensions of circuit de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316D-9A83-49AF-B966-31D1FE923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ing circuit designs along all three dimensions is an enormously complex task that is nearly impossible to do--with any amount of accuracy or effectiveness-- without a good toolse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rdware definition languages (HDLs) were invented in the latter part of the twentieth century. HDLs help designers manage circuit complexity by expressing circuit logic in algorithmic ter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571500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10 Objectiv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ways in which embedded systems differ from general purpose syste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describe the processes and practices of embedded hardware desi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key concepts and tools for embedded software develop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2BAB-CE93-4376-B195-CEC1AC7173D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4BDD-9685-425A-8578-D7A718176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of the most popular HDLs are Verilog and VHD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rilog is a C-like language invented in 1983. It is now IEEE 1364-200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HDL is an ADA-like HDL released in 1985. It is now IEEE 1097-200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utput from the compilation of both of these languages is a netlist, which is suitable for use as input to electronic design automation machines that produce integrated circuit mask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A6B2-1780-46E4-B056-091E45750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ditional HDLs manipulate circuit definitions in terms of RTL and discrete signal patter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these languages, engineers are strained to keep up with the complexity of today’s SOC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make design activities more accurate and  cost efficient, the level of abstraction must be raised above the RTL leve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C and SpecC are two recent HDLs that were invented to help solve this problem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4C82-1FEF-421A-868A-54CC9F00B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C is an extension of C++ that includes classes and libraries specifically created for embedded systems design, to include modeling events, timing specifications, and concurrenc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C is a C-like language, created from the outset as a system design languag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pecC development package includes a methodology that guides engineers through four phases of system developmen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ification, architecture, communication channels, and implement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EF8E-3470-4B47-8236-4DE3E5315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edded systems have been traditionally  developed by specialized teams that collaboratively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a detailed specification derived from a functional descrip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 a suitable processor or decide to build 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 the hardware-software parti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the circuit and write the program(s) that will run on the syst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otype and test the syst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19320" y="5637960"/>
            <a:ext cx="632448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This system design cycle is shown on the next slid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A666-FBBF-4436-B360-7F9A5DFF03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Fig10-9_ppt" descr=""/>
          <p:cNvPicPr/>
          <p:nvPr/>
        </p:nvPicPr>
        <p:blipFill>
          <a:blip r:embed="rId2"/>
          <a:srcRect l="5064" t="3103" r="2614" b="11655"/>
          <a:stretch/>
        </p:blipFill>
        <p:spPr>
          <a:xfrm>
            <a:off x="304920" y="1600200"/>
            <a:ext cx="8610480" cy="44672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3520" y="5484240"/>
            <a:ext cx="2666880" cy="64260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Notice the back arrows. These steps are cost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3782-D608-428C-B30B-BE5B5AABD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C and SpecC facilitate changes to the traditional design lifecyc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ware developers and software developers can speak the same languag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velopment teams work side-by-side simultaneously creating hardware designs and writing program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velopment shortens the development lifecycle and improves product qualit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5180400"/>
            <a:ext cx="5029200" cy="7642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The embedded system codesign lifecycle is shown on the next slid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AB45-3191-46A3-A89D-839ABE058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Fig10-10_ppt" descr=""/>
          <p:cNvPicPr/>
          <p:nvPr/>
        </p:nvPicPr>
        <p:blipFill>
          <a:blip r:embed="rId2"/>
          <a:srcRect l="3820" t="3099" r="3287" b="11235"/>
          <a:stretch/>
        </p:blipFill>
        <p:spPr>
          <a:xfrm>
            <a:off x="228600" y="1600200"/>
            <a:ext cx="8610480" cy="46483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5484240"/>
            <a:ext cx="2209680" cy="64260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Rework takes place on a virtual sys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4BB5-4F43-4A8B-8AAF-502D2EB4B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3 Embedded Soft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ftware development for embedded systems presents a distinct set of challeng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of these challenges are related to the uniqueness of the hardware, such as its particular memory organiz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limitations are almost always a software development constr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memory is not suitable for most embedded appl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E74B-3F91-4336-8AFA-18431F7E1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3 Embedded Soft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edded system memory can consist of several different kinds, including RAM, ROM, and flash, all sharing the same address spa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Fig10-11_ppt" descr=""/>
          <p:cNvPicPr/>
          <p:nvPr/>
        </p:nvPicPr>
        <p:blipFill>
          <a:blip r:embed="rId2"/>
          <a:srcRect l="3888" t="18228" r="5286" b="8114"/>
          <a:stretch/>
        </p:blipFill>
        <p:spPr>
          <a:xfrm>
            <a:off x="152280" y="3063960"/>
            <a:ext cx="8610840" cy="24224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752480" y="5256720"/>
            <a:ext cx="4953240" cy="7642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Memory leaks in embedded systems are especially problemati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995B-82A7-49C6-B98A-5024D1F78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3 Embedded Soft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edded operating systems differ from general-purpose operating systems in a number of way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ponsiveness is one of the major distinguishing featu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all embedded operating systems are real-time operating system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ing requirements may differ little from a desktop comput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rd real-time systems have strict timing constrai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soft real-time systems, timing is important but not critic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705B-7355-4C50-9D8C-64D5CEA20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1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edded systems are real computer systems that support the operation of a device (or machine) that usually is not a compute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user of the embedded system is rarely aware of its existence within the devi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systems are all around us. They are in watches, automobiles, coffeepots, TVs, telephones, aircraft, and just about any “intelligent” device that reacts to people or its environm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A161-C2D1-4883-A5F8-5AA42CC83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3 Embedded Soft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nterrupt latenc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elapsed time between the occurrence of an interrupt and the execution of the first instruction of the interrupt service routine (ISR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rupt latency is indirectly related to system responsiveness. The smaller the latency, the faster the respon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rupts can happen at any time and in any ord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SR for one interrupt possibly may not be completed before another interrupt occu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-quality systems support such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terrupt nest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24EF-29A6-42B5-A205-8261E4DED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3 Embedded Soft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ory footprint is another critical concern with embedded syste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 operating system takes up too much memory, additional memory may be requir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ory consumes pow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us, the smaller the operating system, the bett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embedded operating systems are modular, allowing only the most necessary features to be install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E70D-11CB-450B-994A-2FC4983B5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3 Embedded Soft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EEE 1003.1-2001, POSIX, is the specification for standardized Unix, to which Embedded Linux adher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popular embedded operating systems include Windows CE, Windows XP Embedded, QNX, and MS-D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hundreds of others, each having its distinctive behavior and target hardwa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censing costs for the operating system are as great a concern as hardware cos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1735-82EF-46CC-BD08-BB0CBA08B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3 Embedded Soft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l-purpose software development is usually iterative and increment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de a little, test a litt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edded systems development requires a much more rigorous and linear path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nctional requirements must be clear, complete, and accurate when work begi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al languages, such as Z, are helpful in providing accuracy and correctnes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7FE4-E1AB-42EE-89B1-A470413119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3 Embedded Soft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software projects are usually partitioned into chunks so that the chunks can be assigned to different tea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edded software doesn’t partition so easily, making team assignments difficul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improve performance, some embedded programmers advocate the use of global variables and unstructured co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s rail against this idea, saying that it is not good engineering practice regardless of the platform for which the software is writt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6007-3D57-4EAF-A3CE-F95206229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3 Embedded Soft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t handling is a major challenge to the embedded programme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lies at the heart of embedded systems functiona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ts can happen asynchronously and in any orde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virtually impossible to test all possible sequences of event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sting must be rigorous and thorough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A1C5-C09E-4A00-BCE6-6E3349440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3 Embedded Soft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edded programming is essentially a matter of raising and responding to signal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rdware support may be designed into a chip to facilitate the tracing and debugging of signal patter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s are ICE, Motorola’s BDM, IEEE 1149.1 JTAG, and IEEE 5001 Nexu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platforms offer no tool support in the way of debuggers or even compil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riting software for these systems is calle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bare metal programm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1EEB-8E00-4C0B-94E1-838C15C2A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1911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edded systems differ from general-purpose systems becaus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are resource constrain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gramming requires deep awareness of the underlying hardwa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nal timing and event handling are critica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hardware-software partition is move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edded hardware can be off-the-shelf, semi-customized, fully-customized, or configur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10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4773-57DA-47C0-A5E0-71D2EE76E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1911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mable logic devices inclu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Ls: Programmable AND gates connected to a set of fixed OR ga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: Programmable AND gates connected through programmable OR gat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PGA: Logic functions provided through lookup tab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Ds tend to be slow and expensive as compared to off-the-shelf IC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10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8500-8210-40FB-8904-8BEA331AA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1911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rdware definition languages Verilog, VHDL specify the functions and layout of full-custom chip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C and SystemC raise the level of abstraction in chip desig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rdware-software codesign and cosimulation reduces errors and brings products to market fas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10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721A-CA69-4F5A-A363-78F91C523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1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edded systems are different from general-purpose systems in several important ways. Some key differences ar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mbedded systems are resource constrained. Utilization of memory and power are critical. The economy of hardware and software is often paramount, and can affect design decision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tioning of hardware and software is fluid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mbedded systems programmers must understand every detail about the hardwar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gnal timing and event handling are crucial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3E72-35DA-48E2-9505-ABBC1D55D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1911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edded operating systems differ from general purpose operating systems in their timing and memory footprint requirem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EEE 1003.1-2001, POSIX, is the specification for standardized Unix, to which Embedded Linux adher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popular embedded operating systems include Windows CE, Windows XP Embedded, QNX, and MS-D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10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B7D4-7D47-4390-966D-97775AC0C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1911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edded software requires accurate specifications and rigorous development practi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mal languages hel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t processing requires careful specification and test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bedded system debugging can be supported by hardware interfaces to include ICE, BDM, JTAG, and Nexu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10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9BAD9-452A-4216-8EAD-0A0514F59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99"/>
                </a:solidFill>
                <a:latin typeface="Arial"/>
              </a:rPr>
              <a:t>End of Chapter 10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25A4-7A7D-4AB3-BD35-84D132512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will classify embedded hardware according to the extent to which it is adapted or adaptable by the people who program and install the system into the device that it suppor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ordingly, we say that embedded hardware falls into categories 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ff-the-shelf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nfigurabl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ully-Customiz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62720" y="4119840"/>
            <a:ext cx="2438280" cy="176976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Note: There are many other taxonomies. This one is convenient for our purpos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1DA7-13A7-4F75-AC3F-0FFA300D2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off-the-shelf hardware, minimal hardware customization poss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erhaps add memory or peripherals. The internal wiring stays the sam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ost common off-the-shelf hardware is the microcontroll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icrocontrollers are often derivatives of “old” PC technology. They are inexpensive because development costs were recouped long ag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re are thousands of different microcontroller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E755-7FF0-43EB-B934-FB78CC548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ample microcontrollers are Motorola's 68HC12, Intel’s 8051, Microchip's 16F84A, and the PIC family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simplified block diagram of a microcontroller is shown at the righ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Fig10-1_ppt" descr=""/>
          <p:cNvPicPr/>
          <p:nvPr/>
        </p:nvPicPr>
        <p:blipFill>
          <a:blip r:embed="rId2"/>
          <a:srcRect l="8675" t="8442" r="18212" b="13062"/>
          <a:stretch/>
        </p:blipFill>
        <p:spPr>
          <a:xfrm>
            <a:off x="4038480" y="1441440"/>
            <a:ext cx="48006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DE39-FEB5-43B7-959F-AE00EF675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3810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e have seen all of these components before except for the watchdog timer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watchdog timer helps guard against system hangs by continually checking for livenes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atchdog timers are not used in all microcontroller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Fig10-1_ppt" descr=""/>
          <p:cNvPicPr/>
          <p:nvPr/>
        </p:nvPicPr>
        <p:blipFill>
          <a:blip r:embed="rId2"/>
          <a:srcRect l="8675" t="8442" r="18212" b="13062"/>
          <a:stretch/>
        </p:blipFill>
        <p:spPr>
          <a:xfrm>
            <a:off x="4038480" y="1441440"/>
            <a:ext cx="480060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F8B9-82C3-4A06-BA07-4EC88D486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162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0.2 Embedded Hardware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some applications, microcontrollers are too limited in their functional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s-on-a-chip (SOCs) are full blown computer systems-- including all supporting circuits-- that are etched on a single di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lternatively, separate chips are needed to provide the same services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additional chips are costly and consume power and space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23:57:00Z</dcterms:created>
  <dc:creator>Null &amp; Lobur</dc:creator>
  <dc:description/>
  <dc:language>en-US</dc:language>
  <cp:lastModifiedBy>User</cp:lastModifiedBy>
  <dcterms:modified xsi:type="dcterms:W3CDTF">2006-01-10T02:47:25Z</dcterms:modified>
  <cp:revision>387</cp:revision>
  <dc:subject/>
  <dc:title>Chapter 10</dc:title>
</cp:coreProperties>
</file>