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963-7A91-402C-A186-2AF84B9C5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B0A-22D7-4393-8F34-67FA1F3E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2E3-E82A-4264-8CB4-E72F11DD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47A-F13A-41BC-ACC7-114FEE0E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B67-3FAB-4BAA-8C01-95F565D7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083-2A34-4424-BE92-6A0C5624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5F5D-CA68-474D-8163-82A2AC0B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A89-0A5E-4E10-9FE6-C88672B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353-EFEC-4D87-86B0-F8632442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C6C-1BBB-4E3D-955A-143F89EC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7276-8BDE-4710-84A0-8DD26EC8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FC25-145D-4224-A09B-509413D0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C384-9E8C-457E-8322-3BD27EF15B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0" y="3504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3 Special S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419720" y="48006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cus o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rnaug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2859-3BF1-45F2-9228-E29310B85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K132E" descr=""/>
          <p:cNvPicPr/>
          <p:nvPr/>
        </p:nvPicPr>
        <p:blipFill>
          <a:blip r:embed="rId2"/>
          <a:stretch/>
        </p:blipFill>
        <p:spPr>
          <a:xfrm>
            <a:off x="5940360" y="4414680"/>
            <a:ext cx="1965240" cy="16066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010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best way of selecting two groups of 1s form our simple Kmap is shown below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ee that both groups are powers of two and that the groups overl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ext slide gives guidance for selecting Kmap group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A62-704C-44A9-8FF4-AB532C8C1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ules of Kmap simplification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ings can contain only 1s; no 0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be formed only at right angles; diagonal groups are not allow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umber of 1s in a group must be a power of 2 – even if it contains a single 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groups must be made as large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overlap and wrap around the sides of the Kma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2403-15E0-4780-827A-AF2682FEF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for three variables is constructed as shown in the diagram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placed each minterm in the cell that will hold its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ce that the values for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ation at the top of the matrix form a pattern that is not a normal binary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K134" descr=""/>
          <p:cNvPicPr/>
          <p:nvPr/>
        </p:nvPicPr>
        <p:blipFill>
          <a:blip r:embed="rId2"/>
          <a:stretch/>
        </p:blipFill>
        <p:spPr>
          <a:xfrm>
            <a:off x="2971800" y="4329000"/>
            <a:ext cx="44877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251C-F22E-4CC7-8EE7-C593C88A7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he first row of the Kmap contains all minterms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s a value of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column contains all minterms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 have a value of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K134" descr=""/>
          <p:cNvPicPr/>
          <p:nvPr/>
        </p:nvPicPr>
        <p:blipFill>
          <a:blip r:embed="rId2"/>
          <a:stretch/>
        </p:blipFill>
        <p:spPr>
          <a:xfrm>
            <a:off x="2971800" y="4329000"/>
            <a:ext cx="44877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0D26-4784-4F31-941E-AE162B08F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2388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Kmap is give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largest group of 1s that is a power of 2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K135C" descr=""/>
          <p:cNvPicPr/>
          <p:nvPr/>
        </p:nvPicPr>
        <p:blipFill>
          <a:blip r:embed="rId2"/>
          <a:stretch/>
        </p:blipFill>
        <p:spPr>
          <a:xfrm>
            <a:off x="1828800" y="2057400"/>
            <a:ext cx="6253200" cy="595440"/>
          </a:xfrm>
          <a:prstGeom prst="rect">
            <a:avLst/>
          </a:prstGeom>
          <a:ln w="0">
            <a:noFill/>
          </a:ln>
        </p:spPr>
      </p:pic>
      <p:pic>
        <p:nvPicPr>
          <p:cNvPr id="97" name="K135A" descr=""/>
          <p:cNvPicPr/>
          <p:nvPr/>
        </p:nvPicPr>
        <p:blipFill>
          <a:blip r:embed="rId3"/>
          <a:stretch/>
        </p:blipFill>
        <p:spPr>
          <a:xfrm>
            <a:off x="3276720" y="4257720"/>
            <a:ext cx="38750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EE78-E7BE-481D-8D86-B4B93830B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K135B" descr=""/>
          <p:cNvPicPr/>
          <p:nvPr/>
        </p:nvPicPr>
        <p:blipFill>
          <a:blip r:embed="rId2"/>
          <a:stretch/>
        </p:blipFill>
        <p:spPr>
          <a:xfrm>
            <a:off x="3276720" y="4295880"/>
            <a:ext cx="3848040" cy="1884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ing tells us that changes in the variabl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ave no influence upon the value of the function: They are irreleva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the func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duces to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) = z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K135C" descr=""/>
          <p:cNvPicPr/>
          <p:nvPr/>
        </p:nvPicPr>
        <p:blipFill>
          <a:blip r:embed="rId3"/>
          <a:srcRect l="0" t="13349" r="0" b="23110"/>
          <a:stretch/>
        </p:blipFill>
        <p:spPr>
          <a:xfrm>
            <a:off x="1600200" y="3381480"/>
            <a:ext cx="6253200" cy="37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4494600"/>
            <a:ext cx="2209680" cy="1434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You could verify this reduction with identities or a truth tab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F13A-550E-46A1-B8C7-E7FCC8FB2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K136A" descr=""/>
          <p:cNvPicPr/>
          <p:nvPr/>
        </p:nvPicPr>
        <p:blipFill>
          <a:blip r:embed="rId2"/>
          <a:stretch/>
        </p:blipFill>
        <p:spPr>
          <a:xfrm>
            <a:off x="3352680" y="4343400"/>
            <a:ext cx="3784680" cy="18525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for a more complicated Kmap.  Consider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Kmap is shown below. There are (only) two groupings of 1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K136C" descr=""/>
          <p:cNvPicPr/>
          <p:nvPr/>
        </p:nvPicPr>
        <p:blipFill>
          <a:blip r:embed="rId3"/>
          <a:stretch/>
        </p:blipFill>
        <p:spPr>
          <a:xfrm>
            <a:off x="1066680" y="2438280"/>
            <a:ext cx="7496280" cy="5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A34A-AA1D-4C39-997B-2CCC81DA6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K136B" descr=""/>
          <p:cNvPicPr/>
          <p:nvPr/>
        </p:nvPicPr>
        <p:blipFill>
          <a:blip r:embed="rId2"/>
          <a:stretch/>
        </p:blipFill>
        <p:spPr>
          <a:xfrm>
            <a:off x="3352680" y="4322880"/>
            <a:ext cx="3848400" cy="18954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Kmap, we see an example of a group that wraps around the sides of a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oup tells us that the value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 not relevant to the term of the function that is encompassed by the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this tell us about this term of the func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4663080"/>
            <a:ext cx="21337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hat about the green group in the top row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1C20-A73B-4FBE-ABE2-0165DE226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K136B" descr=""/>
          <p:cNvPicPr/>
          <p:nvPr/>
        </p:nvPicPr>
        <p:blipFill>
          <a:blip r:embed="rId2"/>
          <a:stretch/>
        </p:blipFill>
        <p:spPr>
          <a:xfrm>
            <a:off x="3352680" y="4322880"/>
            <a:ext cx="3848400" cy="18954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4 Kmap Simplification for Three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reen group in the top row tells us that only the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ignificant in that grou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see that it is complemented in that row, so the other term of the reduced function is   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reduced function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K136E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2962440" cy="423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4664520"/>
            <a:ext cx="266688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call that we had six minterms in our original function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X" descr=""/>
          <p:cNvPicPr/>
          <p:nvPr/>
        </p:nvPicPr>
        <p:blipFill>
          <a:blip r:embed="rId4"/>
          <a:stretch/>
        </p:blipFill>
        <p:spPr>
          <a:xfrm>
            <a:off x="6315120" y="2971800"/>
            <a:ext cx="237960" cy="3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FE13-3502-4904-BA34-1DE601F5C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model can be extended to accommodate the 16 minterms that are produced by a four-input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format for a 16-minterm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K137" descr=""/>
          <p:cNvPicPr/>
          <p:nvPr/>
        </p:nvPicPr>
        <p:blipFill>
          <a:blip r:embed="rId2"/>
          <a:stretch/>
        </p:blipFill>
        <p:spPr>
          <a:xfrm>
            <a:off x="1828800" y="3530520"/>
            <a:ext cx="526572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E69C-A95F-4B86-ABF7-ABAEC43DF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ication of Boolean functions leads to simpler (and usually faster) digital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ing Boolean functions using identities is time-consuming and error-pr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pecial section presents an easy, systematic method for reduc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E553-C97B-44D0-BFAF-9FF3AB8FC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3A-6-MIN" descr=""/>
          <p:cNvPicPr/>
          <p:nvPr/>
        </p:nvPicPr>
        <p:blipFill>
          <a:blip r:embed="rId2"/>
          <a:stretch/>
        </p:blipFill>
        <p:spPr>
          <a:xfrm>
            <a:off x="1273320" y="2500200"/>
            <a:ext cx="6727680" cy="7765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populated the Kmap shown below with the nonzero minterms from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identify (only)  three groups in this Kma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K137A" descr=""/>
          <p:cNvPicPr/>
          <p:nvPr/>
        </p:nvPicPr>
        <p:blipFill>
          <a:blip r:embed="rId3"/>
          <a:stretch/>
        </p:blipFill>
        <p:spPr>
          <a:xfrm>
            <a:off x="3394080" y="3884760"/>
            <a:ext cx="3794040" cy="2439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4312080"/>
            <a:ext cx="152424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Recall that groups can overlap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BF3F-590F-4C00-AC3B-DC8F1394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three groups consist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urple group entirely within the Kmap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ink group that wraps the top and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een group that spans the cor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 we have three terms in our final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K137A" descr=""/>
          <p:cNvPicPr/>
          <p:nvPr/>
        </p:nvPicPr>
        <p:blipFill>
          <a:blip r:embed="rId2"/>
          <a:stretch/>
        </p:blipFill>
        <p:spPr>
          <a:xfrm>
            <a:off x="3394080" y="3884760"/>
            <a:ext cx="3794040" cy="2439720"/>
          </a:xfrm>
          <a:prstGeom prst="rect">
            <a:avLst/>
          </a:prstGeom>
          <a:ln w="0">
            <a:noFill/>
          </a:ln>
        </p:spPr>
      </p:pic>
      <p:pic>
        <p:nvPicPr>
          <p:cNvPr id="135" name="K137B" descr=""/>
          <p:cNvPicPr/>
          <p:nvPr/>
        </p:nvPicPr>
        <p:blipFill>
          <a:blip r:embed="rId3"/>
          <a:stretch/>
        </p:blipFill>
        <p:spPr>
          <a:xfrm>
            <a:off x="3381480" y="3811680"/>
            <a:ext cx="3967200" cy="2593800"/>
          </a:xfrm>
          <a:prstGeom prst="rect">
            <a:avLst/>
          </a:prstGeom>
          <a:ln w="0">
            <a:noFill/>
          </a:ln>
        </p:spPr>
      </p:pic>
      <p:pic>
        <p:nvPicPr>
          <p:cNvPr id="136" name="K137D" descr=""/>
          <p:cNvPicPr/>
          <p:nvPr/>
        </p:nvPicPr>
        <p:blipFill>
          <a:blip r:embed="rId4"/>
          <a:stretch/>
        </p:blipFill>
        <p:spPr>
          <a:xfrm>
            <a:off x="609480" y="4317840"/>
            <a:ext cx="2403720" cy="6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48E7-8D1E-4968-A40B-0880A4990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5 Kmap Simplification for Four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possible to have a choice as to how to pick groups within a Kmap, while keeping the groups as large as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(different) functions that result from the groupings below are logically equival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K138B" descr=""/>
          <p:cNvPicPr/>
          <p:nvPr/>
        </p:nvPicPr>
        <p:blipFill>
          <a:blip r:embed="rId2"/>
          <a:srcRect l="6582" t="0" r="6582" b="17560"/>
          <a:stretch/>
        </p:blipFill>
        <p:spPr>
          <a:xfrm>
            <a:off x="4508640" y="3994200"/>
            <a:ext cx="3492360" cy="2330280"/>
          </a:xfrm>
          <a:prstGeom prst="rect">
            <a:avLst/>
          </a:prstGeom>
          <a:ln w="0">
            <a:noFill/>
          </a:ln>
        </p:spPr>
      </p:pic>
      <p:pic>
        <p:nvPicPr>
          <p:cNvPr id="141" name="K138C" descr=""/>
          <p:cNvPicPr/>
          <p:nvPr/>
        </p:nvPicPr>
        <p:blipFill>
          <a:blip r:embed="rId3"/>
          <a:srcRect l="5486" t="0" r="5486" b="17560"/>
          <a:stretch/>
        </p:blipFill>
        <p:spPr>
          <a:xfrm>
            <a:off x="777960" y="3994200"/>
            <a:ext cx="356544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9140-CB45-45E1-A3E6-2CC9FFCF9D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l circuits don’t always need to have an output defined for every possibl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some calculator displays consist of 7-segment LEDs.  These LEDs can displa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1 patterns, but only ten of them ar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circuit is designed so that a particular set of inputs can never happen, we call this set of inputs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n’t car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d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very helpful to us in Kmap circuit simplif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BD1E-F067-4CD0-B1FA-73E93DF71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Kmap, a don’t care condition is identified by 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cell of the minterm(s) for the don’t care inputs, a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performing the simplification, we are free to include or ignore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’s when creating our grou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K140E" descr=""/>
          <p:cNvPicPr/>
          <p:nvPr/>
        </p:nvPicPr>
        <p:blipFill>
          <a:blip r:embed="rId2"/>
          <a:stretch/>
        </p:blipFill>
        <p:spPr>
          <a:xfrm>
            <a:off x="2438280" y="3983040"/>
            <a:ext cx="381168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70B9-A2A8-4BAC-A38D-CCB76D478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K140A" descr=""/>
          <p:cNvPicPr/>
          <p:nvPr/>
        </p:nvPicPr>
        <p:blipFill>
          <a:blip r:embed="rId2"/>
          <a:stretch/>
        </p:blipFill>
        <p:spPr>
          <a:xfrm>
            <a:off x="2438280" y="3962520"/>
            <a:ext cx="3811680" cy="24350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ne grouping in the Kmap below, we have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K140B" descr=""/>
          <p:cNvPicPr/>
          <p:nvPr/>
        </p:nvPicPr>
        <p:blipFill>
          <a:blip r:embed="rId3"/>
          <a:stretch/>
        </p:blipFill>
        <p:spPr>
          <a:xfrm>
            <a:off x="1752480" y="2490840"/>
            <a:ext cx="40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75F4-FFB5-4CA5-B9C4-0E1899945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K140C" descr=""/>
          <p:cNvPicPr/>
          <p:nvPr/>
        </p:nvPicPr>
        <p:blipFill>
          <a:blip r:embed="rId2"/>
          <a:stretch/>
        </p:blipFill>
        <p:spPr>
          <a:xfrm>
            <a:off x="2454120" y="3962520"/>
            <a:ext cx="3794400" cy="24080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fferent grouping gives us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K140D" descr=""/>
          <p:cNvPicPr/>
          <p:nvPr/>
        </p:nvPicPr>
        <p:blipFill>
          <a:blip r:embed="rId3"/>
          <a:stretch/>
        </p:blipFill>
        <p:spPr>
          <a:xfrm>
            <a:off x="1752480" y="2133720"/>
            <a:ext cx="40402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865E-183A-44E4-9748-50F5D4169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6 Don’t Care Condition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fferent from the truth table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3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values for which they differ, are the inputs for which we have don’t care condi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K140D" descr=""/>
          <p:cNvPicPr/>
          <p:nvPr/>
        </p:nvPicPr>
        <p:blipFill>
          <a:blip r:embed="rId2"/>
          <a:stretch/>
        </p:blipFill>
        <p:spPr>
          <a:xfrm>
            <a:off x="3122640" y="2971800"/>
            <a:ext cx="4040280" cy="633240"/>
          </a:xfrm>
          <a:prstGeom prst="rect">
            <a:avLst/>
          </a:prstGeom>
          <a:ln w="0">
            <a:noFill/>
          </a:ln>
        </p:spPr>
      </p:pic>
      <p:pic>
        <p:nvPicPr>
          <p:cNvPr id="163" name="K140B" descr=""/>
          <p:cNvPicPr/>
          <p:nvPr/>
        </p:nvPicPr>
        <p:blipFill>
          <a:blip r:embed="rId3"/>
          <a:stretch/>
        </p:blipFill>
        <p:spPr>
          <a:xfrm>
            <a:off x="3152880" y="1981080"/>
            <a:ext cx="4039920" cy="633600"/>
          </a:xfrm>
          <a:prstGeom prst="rect">
            <a:avLst/>
          </a:prstGeom>
          <a:ln w="0">
            <a:noFill/>
          </a:ln>
        </p:spPr>
      </p:pic>
      <p:pic>
        <p:nvPicPr>
          <p:cNvPr id="164" name="K140C" descr=""/>
          <p:cNvPicPr/>
          <p:nvPr/>
        </p:nvPicPr>
        <p:blipFill>
          <a:blip r:embed="rId4"/>
          <a:stretch/>
        </p:blipFill>
        <p:spPr>
          <a:xfrm>
            <a:off x="4648320" y="4495680"/>
            <a:ext cx="2916000" cy="1851120"/>
          </a:xfrm>
          <a:prstGeom prst="rect">
            <a:avLst/>
          </a:prstGeom>
          <a:ln w="0">
            <a:noFill/>
          </a:ln>
        </p:spPr>
      </p:pic>
      <p:pic>
        <p:nvPicPr>
          <p:cNvPr id="165" name="K140A" descr=""/>
          <p:cNvPicPr/>
          <p:nvPr/>
        </p:nvPicPr>
        <p:blipFill>
          <a:blip r:embed="rId5"/>
          <a:stretch/>
        </p:blipFill>
        <p:spPr>
          <a:xfrm>
            <a:off x="1181160" y="4449600"/>
            <a:ext cx="293364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7D7-2F0B-4626-8679-E0B05B23D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39625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maps provide an easy graphical method of simplify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is a matrix consisting of the outputs of the minterms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section, we have discussed 2- 3- and 4-input Kmaps.  This method can be extended to any number of inputs through the use of multiple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E0C1-935B-49A7-97E8-A2B422CA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pping the rules of Kmap simplifica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ings can contain only 1s; no 0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be formed only at right angles; diagonal groups are not allow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umber of 1s in a group must be a power of 2 – even if it contains a single 1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groups must be made as large as possi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oups can overlap and wrap around the sides of the Kmap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12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don’t care conditions when you ca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1378-163F-462E-B289-DB7268886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A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53, Maurice Karnaugh was a telecommunications engineer at Bell Lab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exploring the new field of digital logic and its application to the design of telephone circuits, he invented a graphical way of visualizing and then simplifying Boolean expr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513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raphical representation, now known as a Karnaugh map, or Kmap, is named in his hon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E8F6-B13D-4CDA-9AB1-51392E29A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3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97D0-98DD-476D-A812-C40DDE97A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is a matrix consisting of rows and columns that represent the output values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values placed in each cell are derived from the minterms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inter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product term that contains all of the function’s variables exactly once, either complemented or not compleme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2A6-F0A8-4952-810E-CB7F1150A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the minterms for a function having the input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der the Boolean function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s minterm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K131A" descr=""/>
          <p:cNvPicPr/>
          <p:nvPr/>
        </p:nvPicPr>
        <p:blipFill>
          <a:blip r:embed="rId2"/>
          <a:stretch/>
        </p:blipFill>
        <p:spPr>
          <a:xfrm>
            <a:off x="4343400" y="2062080"/>
            <a:ext cx="2943360" cy="376200"/>
          </a:xfrm>
          <a:prstGeom prst="rect">
            <a:avLst/>
          </a:prstGeom>
          <a:ln w="0">
            <a:noFill/>
          </a:ln>
        </p:spPr>
      </p:pic>
      <p:pic>
        <p:nvPicPr>
          <p:cNvPr id="56" name="K131B" descr=""/>
          <p:cNvPicPr/>
          <p:nvPr/>
        </p:nvPicPr>
        <p:blipFill>
          <a:blip r:embed="rId3"/>
          <a:stretch/>
        </p:blipFill>
        <p:spPr>
          <a:xfrm>
            <a:off x="5527800" y="2590920"/>
            <a:ext cx="3006720" cy="433440"/>
          </a:xfrm>
          <a:prstGeom prst="rect">
            <a:avLst/>
          </a:prstGeom>
          <a:ln w="0">
            <a:noFill/>
          </a:ln>
        </p:spPr>
      </p:pic>
      <p:pic>
        <p:nvPicPr>
          <p:cNvPr id="57" name="K130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2806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1402-3AC0-4B6C-B3EF-3EE26B8BE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3581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ilarly, a function having three inputs, has the minterms that are shown in this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K131" descr=""/>
          <p:cNvPicPr/>
          <p:nvPr/>
        </p:nvPicPr>
        <p:blipFill>
          <a:blip r:embed="rId2"/>
          <a:stretch/>
        </p:blipFill>
        <p:spPr>
          <a:xfrm>
            <a:off x="4267080" y="1676520"/>
            <a:ext cx="35100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4E12-652F-4059-91D3-408EE3936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Kmap has a cell for each minte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it has a cell for each line for the truth table of a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functi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,y) = x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hown at the right along with its corresponding Kma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K132A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733840" cy="2298600"/>
          </a:xfrm>
          <a:prstGeom prst="rect">
            <a:avLst/>
          </a:prstGeom>
          <a:ln w="0">
            <a:noFill/>
          </a:ln>
        </p:spPr>
      </p:pic>
      <p:pic>
        <p:nvPicPr>
          <p:cNvPr id="66" name="K132B" descr=""/>
          <p:cNvPicPr/>
          <p:nvPr/>
        </p:nvPicPr>
        <p:blipFill>
          <a:blip r:embed="rId3"/>
          <a:stretch/>
        </p:blipFill>
        <p:spPr>
          <a:xfrm>
            <a:off x="6102360" y="4191120"/>
            <a:ext cx="1974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39E-A9B8-4186-9EA2-16F60AB56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K133B" descr=""/>
          <p:cNvPicPr/>
          <p:nvPr/>
        </p:nvPicPr>
        <p:blipFill>
          <a:blip r:embed="rId2"/>
          <a:stretch/>
        </p:blipFill>
        <p:spPr>
          <a:xfrm>
            <a:off x="6095880" y="4191120"/>
            <a:ext cx="1965600" cy="1606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792468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2 Description of Kmaps and Terminology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nother example, we give the truth table and KMap for the function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(x,y) = x + 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function is equivalent to the OR of all of the minterms that have a value of 1.  Thu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K133A" descr=""/>
          <p:cNvPicPr/>
          <p:nvPr/>
        </p:nvPicPr>
        <p:blipFill>
          <a:blip r:embed="rId3"/>
          <a:stretch/>
        </p:blipFill>
        <p:spPr>
          <a:xfrm>
            <a:off x="5711760" y="1671480"/>
            <a:ext cx="2741760" cy="2308320"/>
          </a:xfrm>
          <a:prstGeom prst="rect">
            <a:avLst/>
          </a:prstGeom>
          <a:ln w="0">
            <a:noFill/>
          </a:ln>
        </p:spPr>
      </p:pic>
      <p:pic>
        <p:nvPicPr>
          <p:cNvPr id="72" name="K132D" descr=""/>
          <p:cNvPicPr/>
          <p:nvPr/>
        </p:nvPicPr>
        <p:blipFill>
          <a:blip r:embed="rId4"/>
          <a:stretch/>
        </p:blipFill>
        <p:spPr>
          <a:xfrm>
            <a:off x="1143000" y="4952880"/>
            <a:ext cx="4643280" cy="5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8C12-01D4-4B2C-B43C-BE1DDAE4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K133B" descr=""/>
          <p:cNvPicPr/>
          <p:nvPr/>
        </p:nvPicPr>
        <p:blipFill>
          <a:blip r:embed="rId2"/>
          <a:stretch/>
        </p:blipFill>
        <p:spPr>
          <a:xfrm>
            <a:off x="5943600" y="4413240"/>
            <a:ext cx="1965240" cy="16066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59436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A.3 Kmap Simplification for Two Variables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f course, the minterm function that we derived from our Kmap was not in simplest term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’s what we started with in this 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, however, reduce our complicated expression to its simplest terms by finding adjacent 1s in the Kmap that can be collected into groups that are powers of tw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33560"/>
            <a:ext cx="4724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ct val="100000"/>
              </a:lnSpc>
              <a:spcBef>
                <a:spcPts val="312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our example, we have two such group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>
              <a:lnSpc>
                <a:spcPct val="100000"/>
              </a:lnSpc>
              <a:spcBef>
                <a:spcPts val="3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43Z</dcterms:modified>
  <cp:revision>264</cp:revision>
  <dc:subject/>
  <dc:title>Chapter 2</dc:title>
</cp:coreProperties>
</file>