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5DE1-C17D-4F2D-8EF8-6F8C922E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5A56-FFDA-4849-8E2D-79D07459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965-521A-473F-8F91-4F0663996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F452-F290-4DA9-9EF6-107F5C35D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23B-4E53-47C7-B1E3-34D78549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1EB-462B-42A7-85E4-A0A4E228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FC14-4743-4B50-831F-DC507019A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14A4-1105-45F0-AF31-2CF53940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9E3-1D34-4BE6-9B69-9C0A02B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8B5F-35FE-4F1E-BAC4-5FA28C77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C14-42DF-4D7D-B3DE-CDE50D3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27C-B405-4284-B1CA-2162A8C0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C594-BF94-4B50-9E5B-FA3B97603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350532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47960" y="4419360"/>
            <a:ext cx="38862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 Closer Look at Instruction Set Architectur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BE7C-D93C-4E9A-88CA-E0E433F24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consideration for architecture design concerns how the CPU will stor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three choi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 A stack architec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 An accumulator architectur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 A general purpose register architectur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hoosing one over the other, the tradeoffs are simplicity (and cost) of hardware design with execution speed and ease of u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5F9B-3E94-4F16-8D05-0756AC309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stack architecture, instructions and operands are implicitly taken from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ck cannot be accessed random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accumulator architecture, one operand of a binary operation is implicitly in the accumulat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perand is in memory, creating lots of bus traff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general purpose register (GPR) architecture, registers can be used instead of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than accumulator archit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implementation for compil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s in longer instru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EF57-AD0B-4F91-8F6B-9F54657DEC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systems today are GP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typ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-memory where two or three operands may be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-memory where at least one operand must be in a reg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-store where no operands may be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umber of operands and the number of available registers has a direct affect on instruction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2EEA-39B4-4631-8592-9F26015B6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machines use 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and zero-operand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 require a single memory address oper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instructions use operands from the stack implici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perations involve only the stack’s top el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instructions (e.g.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AD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use the top two items on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44F75-973A-4647-8A84-B1C21614DC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architectures require us to think about arithmetic expressions a little differen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re accustomed to writing expressions us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fi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tation, such as: Z = X + 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 arithmetic requires that we 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ostfi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tation: Z = XY+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verse Polish no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(somewhat) in honor of its Polish inventor, Jan Lukasiewicz (1878 - 1956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3DCFA-D497-4DDA-AD25-008FC6A5D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incipal advantage of postfix notation is that parentheses are not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(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) + (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ome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 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ostfix no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5161-7AB0-4388-B944-EB964282D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stack ISA, the post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Y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W U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SH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113360"/>
            <a:ext cx="243864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The result of a binary operation is implicitly stored on the top of the stack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489E-955F-4813-85B6-744BF820B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one-address ISA, like MARIE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s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TE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012B-3C22-4D9E-A916-052408553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two-address ISA, (e.g.,Intel, Motorola)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R1,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1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R2,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2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R1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Z,R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4116600"/>
            <a:ext cx="2438640" cy="17697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: One-address ISAs usually require one operand to be a regis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F2D0-71BC-4156-B7D5-F4BB5ED0A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a three-address ISA, (e.g.,mainframes), the infix expression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Z = X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Y + 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ght look like th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1,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ULT R2,W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  Z,R1,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4618440"/>
            <a:ext cx="73915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ould this program execute faster than the corresponding (longer) program that we saw in the stack-based ISA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factors involved in instruction set architecture de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familiarity with memory addressing mo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concepts of instruction-level pipelining and its affect upon execution perform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C6B4-33CE-447B-99CA-E6A86E97EC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3F1C-8489-4122-BDCC-5699B85A8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een how instruction length is affected by the number of operands supported by the I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y instruction set, not all instructions require the same number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ons that require no operands,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necessarily waste some space when fixed-length instructions are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way to recover some of this space is to use expanding op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76C6F-5BF2-4C79-99ED-F6DA1BA3D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ystem has 16 registers and 4K of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eed 4 bits to access one of the registers. We also need 12 bits for a memory addr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ystem is to have 16-bit instructions, we have two choices for our instructi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5-2" descr=""/>
          <p:cNvPicPr/>
          <p:nvPr/>
        </p:nvPicPr>
        <p:blipFill>
          <a:blip r:embed="rId2"/>
          <a:stretch/>
        </p:blipFill>
        <p:spPr>
          <a:xfrm>
            <a:off x="1447920" y="3751200"/>
            <a:ext cx="5832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73BE-0D92-4CF6-A975-7DFBCD6CE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allow the length of the opcode to vary, we could create a very rich instruction se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Ecodes" descr=""/>
          <p:cNvPicPr/>
          <p:nvPr/>
        </p:nvPicPr>
        <p:blipFill>
          <a:blip r:embed="rId2"/>
          <a:stretch/>
        </p:blipFill>
        <p:spPr>
          <a:xfrm>
            <a:off x="1143000" y="2454120"/>
            <a:ext cx="6334200" cy="33372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914400" y="5972760"/>
            <a:ext cx="66294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s there something missing from this instruction set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8753-8FC8-498C-81BA-A6CBDFA824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3 Instruction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s fall into several broad categories that you should be familiar with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ov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t manip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/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rol trans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al purpo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210120"/>
            <a:ext cx="2590560" cy="1281960"/>
          </a:xfrm>
          <a:prstGeom prst="rect">
            <a:avLst/>
          </a:prstGeom>
          <a:solidFill>
            <a:srgbClr val="e2fed2"/>
          </a:solidFill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00"/>
                </a:solidFill>
                <a:latin typeface="Times New Roman"/>
              </a:rPr>
              <a:t>Can you think of some examples of each of thes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B64E-977C-404F-81F6-9D1D5405FD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ing modes specify where an operand is loc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can specify a constant, a register, or a memory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ctual location of an operand is i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ffective addr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rtain addressing modes allow us to determine the address of an operand dynam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0D90-6CB4-4DBC-8664-4FBCC9251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mmediate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data is part of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address of the data is given in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gister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where the data is located in a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gives the address of the address of the data in the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gister indirect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 register to store the address of the address of th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6782-2CB3-4282-AE4A-077CD2FE2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dexed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uses a register (implicitly or explicitly) as an offset, which is added to the address in the operand to determine the effective address of the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ased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imilar except that a base register is used instead of an index regis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ifference between these two is that an index register holds an offset relative to the address given in the instruction, a base register holds a base address where the address field represents a displacement from thi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A816-0F51-48EE-94D8-9C0034C0D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ck addres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e operand is assumed to be on top of the st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variations to these addressing modes including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inde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/off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-rel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3500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o increment - decr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won’t cover these in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5713920"/>
            <a:ext cx="746748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Let’s look at an example of the principal addressing mod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C70B-7C47-4E35-8C62-88953113B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instruction shown, what value is loaded into the accumulator for each addressing mod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addr1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805356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7E06-EF02-40FF-BCE3-7A287A421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4 Addres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re the values loaded into the accumulator for each addressing m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addr2" descr=""/>
          <p:cNvPicPr/>
          <p:nvPr/>
        </p:nvPicPr>
        <p:blipFill>
          <a:blip r:embed="rId2"/>
          <a:stretch/>
        </p:blipFill>
        <p:spPr>
          <a:xfrm>
            <a:off x="457200" y="2438280"/>
            <a:ext cx="804384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876-1A04-4CC4-88A0-B4DC4EF83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chapter builds upon the ideas in Chapter 4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present a detailed look at different instruction formats, operand types, and memory access metho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e will see the interrelation between machine organization and instruction forma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is leads to a deeper understanding of computer architecture in gener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234B-50C9-4D30-92FE-B41B76400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CPUs divide the fetch-decode-execute cycle into smaller ste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smaller steps can often be executed in parallel to increase through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h parallel execution is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struction-level pipeli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term is sometimes abbreviat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litera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5713920"/>
            <a:ext cx="77724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an example of instruction-level pipelining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2889A-EF50-498F-A679-619A063FC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a fetch-decode-execute cycle were broken into the following smaller step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a six-stage pipeline.  S1 fetches the instruction, S2 decodes it, S3 determines the address of the operands, S4 fetches them, S5 executes the instruction, and S6 stores the res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2419920"/>
            <a:ext cx="6476760" cy="14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Fetch instructio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Fetch ope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Decode opcod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Execute instru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alculate 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Sto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ress of oper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F50C-0ABA-4729-86C8-474C1F37C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very clock cycle, one small step is carried out, and the stages are overlapp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007240"/>
            <a:ext cx="647676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1. Fetch instruction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4. Fetch opera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2. Decode opcode.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5. Execut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3. Calculate effectiv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6. Store resu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75"/>
              </a:spcBef>
              <a:tabLst>
                <a:tab algn="l" pos="0"/>
                <a:tab algn="l" pos="3422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ress of operand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ilp1" descr=""/>
          <p:cNvPicPr/>
          <p:nvPr/>
        </p:nvPicPr>
        <p:blipFill>
          <a:blip r:embed="rId2"/>
          <a:stretch/>
        </p:blipFill>
        <p:spPr>
          <a:xfrm>
            <a:off x="1828800" y="2373480"/>
            <a:ext cx="4680000" cy="25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DB9C-7AF6-4400-A4DB-49B8F0D2F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27960" indent="-32796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heoretical speedup offered by a pipeline can be determined 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the time per stage.  Each instruction represents a task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n the pipe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task (instruction) requir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 to complete in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ge pipeline.  The remaining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 tasks emerge from the pipeline one per cycle.  So the total time to complete the remaining tasks i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to comple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sks using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age pipeline requi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744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1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7B1D-BFC3-417A-86C2-AFCE20F8B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ake the time required to comple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sks without a pipeline and divide it by the time it takes to complet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asks using a pipeline, we find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take the limit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pproaches infinity,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1) approach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hich results in a theoretical speedup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s2b" descr=""/>
          <p:cNvPicPr/>
          <p:nvPr/>
        </p:nvPicPr>
        <p:blipFill>
          <a:blip r:embed="rId2"/>
          <a:stretch/>
        </p:blipFill>
        <p:spPr>
          <a:xfrm>
            <a:off x="1720800" y="4745160"/>
            <a:ext cx="4222800" cy="1122120"/>
          </a:xfrm>
          <a:prstGeom prst="rect">
            <a:avLst/>
          </a:prstGeom>
          <a:ln w="0">
            <a:noFill/>
          </a:ln>
        </p:spPr>
      </p:pic>
      <p:pic>
        <p:nvPicPr>
          <p:cNvPr id="157" name="S" descr=""/>
          <p:cNvPicPr/>
          <p:nvPr/>
        </p:nvPicPr>
        <p:blipFill>
          <a:blip r:embed="rId3"/>
          <a:stretch/>
        </p:blipFill>
        <p:spPr>
          <a:xfrm>
            <a:off x="1751040" y="2782800"/>
            <a:ext cx="5183280" cy="11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604B-9B13-45E9-83E7-013C54EFD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neat equations take a number of things for gra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st, we have to assume that the architecture supports fetching instructions and data in parall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, we assume that the pipeline can be kept filled at all times.  This is not always the case.  Pipeli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azar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ise that cause pipeline conflicts and stal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7F0-8502-44EE-8D3F-E8DD8EF92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382320"/>
            <a:ext cx="67057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5 Instruction-Level Pipelin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nstruction pipeline may stall, or be flushed for any of the following reason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urce confli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dependen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612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branc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asures can be taken at the software level as well as at the hardware level to reduce the effects of these hazards, but they cannot be totally elimina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E4C1-CB81-42AC-AEE0-5B3226BE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return briefly to the Intel and MIPS architectures from the last chapter, using some of the ideas introduc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introduced pipelining to their processor line with its Pentium chi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Pentium had two five-stage pipelines.  Each subsequent Pentium processor had a longer pipeline than its predecessor with the Pentium IV having a 24-stage pipel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tanium (IA-64) has only a 10-stage pipel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3B4E-ED1C-4700-8E5B-A0A0DED523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l processors support a wide array of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riginal 8086 provided 17 ways to address memory, most of them variants on the methods present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wing to their need for backward compatibility, the Pentium chips also support these 17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1200" indent="-331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tanium, having a RISC core, supports only one: register indirect addressing with optional post incr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1728-1DA9-44AF-8D92-2BFB3B5457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PS was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croprocessor Without Interlocked Pipeline Stag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rchitecture is little endian and word-addressable with three-address, fixed-length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Intel, the pipeline size of the MIPS processors has grown: The R2000 and R3000 have five-stage pipelines.; the R4000 and R4400 have 8-stage pipe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280A-EF09-4D27-BB95-4B74DFB1A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sets are differentiated by the follow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bits per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ck-based or register-ba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explicit operands per instru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nd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s of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e and size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3EB8-828A-4A1A-98BF-4F6EB971E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10000 has three pipelines: A five-stage pipeline for integer instructions, a seven-stage pipeline for floating-point instructions, and a six-state pipeline for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/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ll MIPS ISAs, only the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</a:rPr>
              <a:t>STOR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structions can access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SA uses only base addressing m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ssembler accommodates programmers who need to use immediate, register, direct, indirect register, base, or indexed 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1030-EF2E-4B9F-A115-80D7D73B3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Java programming language is an interpreted language that runs in a software machine called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Java Virtual Machin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JVM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JVM is written in a native language for a wide array of processors, including MIPS and Int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ke a real machine, the JVM has an ISA all of its own,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teco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This ISA was designed to be compatible with the architecture of any machine on which the JVM is runn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5485320"/>
            <a:ext cx="594360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shows how the pieces fit togeth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0045-813D-409E-ADE7-F3D219B0F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5-6" descr=""/>
          <p:cNvPicPr/>
          <p:nvPr/>
        </p:nvPicPr>
        <p:blipFill>
          <a:blip r:embed="rId2"/>
          <a:stretch/>
        </p:blipFill>
        <p:spPr>
          <a:xfrm>
            <a:off x="762120" y="1469880"/>
            <a:ext cx="744984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37A0-11F4-4FA6-9CB8-03EE70CB3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382320"/>
            <a:ext cx="71629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6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Real-World Examples of ISA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1536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bytecode is a stack-based langu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instructions are zero address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JVM has four registers that provide access to five regions of ma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references to memory are offsets from these registers. Java uses no pointers or absolute memory referen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was designed for platform interoperability, not performance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62C4-F840-4D1E-8C12-B3AFE351C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As are distinguished according to their bits per instruction, number of operands per instruction, operand location and types and sizes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ianness as another major architectural conside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PU can store store data based 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A stack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An accumulator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A general purpose register architectur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3424-DAA7-440D-957A-C79D9CD92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s can be fixed length or variable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nrich the instruction set for a fixed length instruction set, expanding opcodes can be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ddressing mode of an ISA is also another important factor.  We looked a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Register Indi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A34B-6411-474D-8F06-FDEEBB60F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stage pipeline can theoretically produce execution speedup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s compared to a non-pipelined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ipeline hazards such as resource conflicts and conditional branching prevents this speedup from being achieved in practic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l, MIPS, and JVM architectures provide good examples of the concepts presented in this chap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5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B76D-16A4-48E3-87AA-B5E9F4C29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5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940F-9F0D-4641-9A8F-0EE621042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set architectures are measured according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memory space occupied by a pro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complex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length (in bit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number of instructions in the instruction se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01374-FA5E-4F5E-8BB8-58A5E967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esigning an instruction set, consideration is given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struction lengt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short, long, o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opera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of addressable regis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ory organiz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byte- or word address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ing m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ny or all: direct, indirect or index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EBA1-90BF-4A8A-8985-6494126D2F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 ordering,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iannes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s another major architectural consider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ve a two-byte integer, the integer may be stored so that the least significant byte is followed by the most significant byte or vice vers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le endi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ines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east significant byte is followed by the most significant by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ig end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chines store the most significant byte first (at the lower address)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A79DB-5F44-410A-B04B-C384C9642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79250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n example, suppose we have the hexadecimal number 1234567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endian and small endian arrangements of the bytes are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-1" descr=""/>
          <p:cNvPicPr/>
          <p:nvPr/>
        </p:nvPicPr>
        <p:blipFill>
          <a:blip r:embed="rId2"/>
          <a:stretch/>
        </p:blipFill>
        <p:spPr>
          <a:xfrm>
            <a:off x="533520" y="3809880"/>
            <a:ext cx="792468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72D0-889B-4178-927C-A0F8C91C9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5.2 Instruction Forma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g endia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more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gn of the number can be determined by looking at the byte at address offset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and integers are stored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ittle endia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easier to place values on non-word bound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from a 16-bit integer address to a 32-bit integer address does not require any arithmet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9:23Z</dcterms:modified>
  <cp:revision>348</cp:revision>
  <dc:subject/>
  <dc:title>Chapter 2</dc:title>
</cp:coreProperties>
</file>