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14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62.png" ContentType="image/png"/>
  <Override PartName="/ppt/media/image25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D57DB-9F7D-4E2B-9FE7-85E8274E6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DABA-74B6-4FF5-828C-E90E8DD50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6D1C-EE15-4012-BA41-0D2A42600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3678-CF95-43ED-9AA4-581C54DE9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5CEE-0452-4520-8E6A-DA6A5FF04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0C3F-000C-4BCC-A11A-D7B6D39307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26F83-6480-4AC2-9D09-AF19C8E91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C057-1A64-427B-9F71-A0CF12E48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7359A-C448-4C56-8473-F365F6AD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B5C5-9D80-4ACD-98A9-AD7102FA8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7DDC-DBE2-49FC-A429-A4F8D07C1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2A3A1-6920-44F1-8691-41469C412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EFBA-ADF0-42D0-A547-F5A7566FD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DCAF-4A99-4CC9-9CAE-475C6ADF5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F24E-0CE1-41AC-B028-23B5397D4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AA4E-2858-4712-AF49-C7E6CF2BF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D359-C295-4249-9BE9-6F876B1CA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0E3D-E664-41D0-80E5-FE2AAD954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BD65-6DAD-4766-A38F-4732B5592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1784-A107-45F4-B0BF-74509E6AA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291DF-A992-47E9-AA9C-9468D2C0B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A7F4-B9F5-44EE-A315-673A7FE07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C4A8-FC9E-4405-B207-D7F32A3F8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F20F-633D-43D8-8844-73F08554E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C1C4-4E20-4F62-9C87-1203ED41B1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7C6D-75F8-425F-9C98-2A72EF768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0E007-D1E8-4845-9DFC-F762C5E7DA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9FB84-70E0-41BE-B03A-A300A0AAF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7F52-1BD8-476C-B8D7-604DAE60D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8185-0935-4AED-B2A9-A9AF6BBC6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995A-7B08-49A9-BB6F-BBD928523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796-A3F2-4A91-B4F4-889D1FF2E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725F-ED03-4D0F-B381-D36CCF1C6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9702-4BB2-4366-910B-F7BF38ECC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2734-4D13-46B9-8651-32241C46F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55A0-C539-470D-91D4-3D7508A4E7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BB12-5AE7-4FB0-8DA5-F07FB5FFD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DB21-221C-4B02-AA08-D64D3CFF6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2E5A-CACD-4F6B-BA01-2D89A8B47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BAAC-A30C-48DC-B590-A79F73932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5789-F900-42ED-A6A9-1AB1BD275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11F6-1B22-4C95-8782-73E18AF7EE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795E-D91C-47CE-BCB7-B3908CD08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F6F0-5243-4A8B-B463-36EF44794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BEAE-5C32-4C78-8303-B0D20CFBB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101E-0471-4F2B-972E-487CD02B6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4518-0668-4C69-85EB-B92271B9A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E692-34EC-48A5-B649-C56C4C818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CF0D-130B-47E9-B8C5-06EAB4C93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FB749-07C7-471A-8DC5-F4E0D1E4A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8E184-B4B0-422A-AF65-84B623A64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1394-1E4C-412C-BFEB-3834878C3F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502DF-9AC1-4955-ADC3-016EB6AA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B32-EB65-4390-B824-522A34FDB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AECE-B953-415C-8AE0-6DBC73D4B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480A-9720-42CC-904B-5E409354D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2AD6-37C8-429E-B70D-15F838CCE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2A80-1AC1-4D16-AC00-BDBD42215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4A6F-9A99-4D7A-B251-5F67A970F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B7C4-2D07-4628-ACF3-865D0337A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657A-F61A-4537-BBCA-92EE87AA1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EF4E-61DA-4562-8352-3CC221E65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0D4E-9882-4FA5-8A33-6092DC42B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E5C6-EB47-43E7-BD5E-447ECD99B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8E94-24BC-4C7B-AF59-EC452A3C2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B00C-2C33-4F6D-AF0A-E2F9E1441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2821-E249-4D06-9431-EC8EA1081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8E1E-E920-4885-9BF1-1152FE6ED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CCB3-3068-472E-862D-3C568FE3B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2337-47BD-4061-AF86-D32166A80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5A61-3C4E-4BB4-B5E0-9160B6643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B56E-26D7-4CC2-AA8A-920E06E9F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954D-BB14-47D3-983F-D7086AAB8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8DC5-1EEC-46A2-997F-D5F5D0190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0503-1F2B-4751-97F5-BBB6C6A6F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E0477-16F1-453F-8DEE-26F945769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6C5-C8F7-49BF-A366-4E13F563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630-0BDE-47C4-8450-3DEF03A5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69C2-2CE7-44B1-A476-EFDCD0EC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1BB9-C43C-46B4-ACC2-4D3B7477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F9D1-7571-4713-B338-BB624499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672-2815-43DB-B432-133A1EC8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9A0-7D54-4CD1-84AE-E4AA462B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8C12-8978-44AF-8EDB-42378DD3F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1510-2167-4E37-91D5-99032071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B0B-D881-4586-A69C-3448C756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4B0-C48C-4817-97EB-3E8A32E4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6F32-6B77-454E-9B6E-2A670782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6E76-87A4-4F0F-8179-CE6D283E4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2520" y="3733920"/>
            <a:ext cx="40388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9880" y="4647960"/>
            <a:ext cx="51818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olean Algebra and Digital Log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9A48-348B-4815-A834-E523C882F4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C:\idraw20\3B.TIF"/>
          <p:cNvPicPr/>
          <p:nvPr/>
        </p:nvPicPr>
        <p:blipFill>
          <a:blip r:embed="rId1"/>
          <a:stretch/>
        </p:blipFill>
        <p:spPr>
          <a:xfrm>
            <a:off x="4826160" y="1676520"/>
            <a:ext cx="4012920" cy="35938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with common arithmetic, Boolean operations have rules of precedenc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NOT operator has highest priority, followed by AND and then O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how we chose the (shaded) function subparts in our table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0B3A6-08BD-4CA5-87E7-76E030B72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computers contain circuits that implement Boolean fun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mpler that we can make a Boolean function, the smaller the circuit that will resul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 circuits are cheaper to build, consume less power, and run faster than complex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is in mind, we always want to reduce our Boolean functions to their simplest fo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a number of Boolean identities that help us to do this.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93B2-E5B2-430C-B7E6-AADAE68ECC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Boolean identities have an AND (product) form as well as an OR (sum) form.  We give our identities using both forms. Our first group is rather intuitiv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9" descr="C:\idraw20\4B.TIF"/>
          <p:cNvPicPr/>
          <p:nvPr/>
        </p:nvPicPr>
        <p:blipFill>
          <a:blip r:embed="rId1"/>
          <a:stretch/>
        </p:blipFill>
        <p:spPr>
          <a:xfrm>
            <a:off x="1752480" y="3451320"/>
            <a:ext cx="553896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735B8-661E-4708-9599-419EA1D7F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idraw20\6B.TIF"/>
          <p:cNvPicPr/>
          <p:nvPr/>
        </p:nvPicPr>
        <p:blipFill>
          <a:blip r:embed="rId1"/>
          <a:stretch/>
        </p:blipFill>
        <p:spPr>
          <a:xfrm>
            <a:off x="380880" y="3276720"/>
            <a:ext cx="8318520" cy="1920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second group of Boolean identities should be familiar to you from your study of algebr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E096-8D8A-4AFF-B528-9FD8E5095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C:\idraw20\7B.TIF"/>
          <p:cNvPicPr/>
          <p:nvPr/>
        </p:nvPicPr>
        <p:blipFill>
          <a:blip r:embed="rId1"/>
          <a:stretch/>
        </p:blipFill>
        <p:spPr>
          <a:xfrm>
            <a:off x="990720" y="3505320"/>
            <a:ext cx="7011720" cy="2450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last group of Boolean identities are perhaps the most usefu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studied set theory or formal logic, these laws are also familiar to yo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6032-6464-48C6-BE27-46ED03DCA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use Boolean identities to simplify the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follow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idraw20\8.TIF"/>
          <p:cNvPicPr/>
          <p:nvPr/>
        </p:nvPicPr>
        <p:blipFill>
          <a:blip r:embed="rId1"/>
          <a:stretch/>
        </p:blipFill>
        <p:spPr>
          <a:xfrm>
            <a:off x="2514600" y="2239920"/>
            <a:ext cx="4964040" cy="50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idraw20\9.TIF"/>
          <p:cNvPicPr/>
          <p:nvPr/>
        </p:nvPicPr>
        <p:blipFill>
          <a:blip r:embed="rId2"/>
          <a:stretch/>
        </p:blipFill>
        <p:spPr>
          <a:xfrm>
            <a:off x="304920" y="3276720"/>
            <a:ext cx="85280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C928-E389-4421-8389-D8A8BA12D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imes it is more economical to build a circuit using the complement of a function (and complementing its result) than it is to implement the function direct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Morgan’s law provides an easy way of finding the complement of a Boolean func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all DeMorgan’s law stat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5" descr="C:\idraw20\0A.TIF"/>
          <p:cNvPicPr/>
          <p:nvPr/>
        </p:nvPicPr>
        <p:blipFill>
          <a:blip r:embed="rId1"/>
          <a:stretch/>
        </p:blipFill>
        <p:spPr>
          <a:xfrm>
            <a:off x="1587600" y="4800600"/>
            <a:ext cx="626112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B62A-04E7-42E1-923D-3615ED233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eMorgan’s law can be extended to any number of variab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place each variable by its complement and change all ANDs to ORs and all ORs to AND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us, we find the the complement of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C:\idraw20\0.TIF"/>
          <p:cNvPicPr/>
          <p:nvPr/>
        </p:nvPicPr>
        <p:blipFill>
          <a:blip r:embed="rId1"/>
          <a:stretch/>
        </p:blipFill>
        <p:spPr>
          <a:xfrm>
            <a:off x="1784520" y="3792600"/>
            <a:ext cx="4890960" cy="550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C:\idraw20\10.TIF"/>
          <p:cNvPicPr/>
          <p:nvPr/>
        </p:nvPicPr>
        <p:blipFill>
          <a:blip r:embed="rId2"/>
          <a:stretch/>
        </p:blipFill>
        <p:spPr>
          <a:xfrm>
            <a:off x="1676520" y="4267080"/>
            <a:ext cx="500832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F902-B1D5-41E3-B318-29214724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 our exercises in simplifying Boolean expressions, we see that there are numerous ways of stating the same Boolean expressio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“synonymous” forms a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ically equival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ly equivalent expressions have identical truth t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rder to eliminate as much confusion as possible, designers express Boolean functions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tandardize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anonical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79F4-0675-4EAF-9794-FD48A66EE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re are two canonical forms for Boolean expressions: sum-of-products and product-of-sum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e Boolean product is the AND operation and the Boolean sum is the OR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e sum-of-products form, ANDed variables are ORed togeth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e product-of-sums form, ORed variables are ANDed together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C:\idraw20\11.TIF"/>
          <p:cNvPicPr/>
          <p:nvPr/>
        </p:nvPicPr>
        <p:blipFill>
          <a:blip r:embed="rId1"/>
          <a:srcRect l="0" t="0" r="0" b="19199"/>
          <a:stretch/>
        </p:blipFill>
        <p:spPr>
          <a:xfrm>
            <a:off x="3124080" y="3930480"/>
            <a:ext cx="4516560" cy="457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idraw20\12.TIF"/>
          <p:cNvPicPr/>
          <p:nvPr/>
        </p:nvPicPr>
        <p:blipFill>
          <a:blip r:embed="rId2"/>
          <a:stretch/>
        </p:blipFill>
        <p:spPr>
          <a:xfrm>
            <a:off x="3129120" y="5146560"/>
            <a:ext cx="555768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9318-559F-4CAB-9208-DA044AAE2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3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relationship between Boolean logic and digital computer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rn how to design simple logic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digital circuits work together to form complex comput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88C3-D9D9-4281-987D-C8D0675C0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 easy to convert a function to sum-of-products form using its truth ta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are interested in the values of the variables that make the function true (=1)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ing the truth table, we list the values of the variables that result in a true function valu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ach group of variables is then ORed togeth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5" descr="C:\idraw20\15.TIF"/>
          <p:cNvPicPr/>
          <p:nvPr/>
        </p:nvPicPr>
        <p:blipFill>
          <a:blip r:embed="rId1"/>
          <a:stretch/>
        </p:blipFill>
        <p:spPr>
          <a:xfrm>
            <a:off x="5545080" y="1600200"/>
            <a:ext cx="3218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6C75-B0F8-4786-8EC0-DCB7F3E19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C:\idraw20\16.TIF"/>
          <p:cNvPicPr/>
          <p:nvPr/>
        </p:nvPicPr>
        <p:blipFill>
          <a:blip r:embed="rId1"/>
          <a:stretch/>
        </p:blipFill>
        <p:spPr>
          <a:xfrm>
            <a:off x="550800" y="2701800"/>
            <a:ext cx="4935600" cy="916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um-of-products form for our function is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4" descr="C:\idraw20\15.TIF"/>
          <p:cNvPicPr/>
          <p:nvPr/>
        </p:nvPicPr>
        <p:blipFill>
          <a:blip r:embed="rId2"/>
          <a:stretch/>
        </p:blipFill>
        <p:spPr>
          <a:xfrm>
            <a:off x="5545080" y="1600200"/>
            <a:ext cx="3218040" cy="39369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990720" y="4032720"/>
            <a:ext cx="4114800" cy="14346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e note that this function is not in simplest terms. Our aim is only to rewrite our function in canonical sum-of-products form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B56F6-AB64-44A5-8FC7-2CE7AECB8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have looked at Boolean functions in abstract terms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this section, we see that Boolean functions are implemented in digital computer circuits called g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gate is an electronic device that produces a result based on two or more input valu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gates consist of one to six transistors, but digital designers think of them as a single un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d circuits contain collections of gates suited to a particular purp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416A-F48F-4C72-AD31-ED37A627D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hree simplest gates are the AND, OR, and NOT gat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y correspond directly to their respective Boolean operations, as you can see by their truth tabl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4" descr="C:\idraw20\17.TIF"/>
          <p:cNvPicPr/>
          <p:nvPr/>
        </p:nvPicPr>
        <p:blipFill>
          <a:blip r:embed="rId1"/>
          <a:stretch/>
        </p:blipFill>
        <p:spPr>
          <a:xfrm>
            <a:off x="2209680" y="2200320"/>
            <a:ext cx="590580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6A2-B1DB-4C1A-A8EE-6EDD7AA07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very useful gate is the exclusive OR (XOR) gat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utput of the XOR operation is true only when the values of the input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5" descr="C:\idraw20\18.TIF"/>
          <p:cNvPicPr/>
          <p:nvPr/>
        </p:nvPicPr>
        <p:blipFill>
          <a:blip r:embed="rId1"/>
          <a:stretch/>
        </p:blipFill>
        <p:spPr>
          <a:xfrm>
            <a:off x="1905120" y="3429000"/>
            <a:ext cx="4287600" cy="20858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5105520" y="5180400"/>
            <a:ext cx="342900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te the special symbol </a:t>
            </a:r>
            <a:r>
              <a:rPr b="1" lang="en-US" sz="2200" spc="-1" strike="noStrike">
                <a:solidFill>
                  <a:srgbClr val="cc3300"/>
                </a:solidFill>
                <a:latin typeface="Symbol"/>
                <a:ea typeface="Symbol"/>
              </a:rPr>
              <a:t>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for the XOR opera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696B-46BD-45B0-AF55-7C642FA9DF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3276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ND and NOR are two very important gates.  Their symbols and truth tables are shown at the right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7" descr="C:\idraw20\19V.TIF"/>
          <p:cNvPicPr/>
          <p:nvPr/>
        </p:nvPicPr>
        <p:blipFill>
          <a:blip r:embed="rId1"/>
          <a:stretch/>
        </p:blipFill>
        <p:spPr>
          <a:xfrm>
            <a:off x="3832200" y="1600200"/>
            <a:ext cx="508320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9235-0509-4AB3-9E4B-35CCB69F3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AND and NOR are known as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universal gate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because they are inexpensive to manufacture and any Boolean function can be constructed using only NAND or only NOR gat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5" descr="C:\idraw20\21A.TIF"/>
          <p:cNvPicPr/>
          <p:nvPr/>
        </p:nvPicPr>
        <p:blipFill>
          <a:blip r:embed="rId1"/>
          <a:stretch/>
        </p:blipFill>
        <p:spPr>
          <a:xfrm>
            <a:off x="4199040" y="1608120"/>
            <a:ext cx="4487760" cy="41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5D27-096E-48E6-AEDA-D72AA273E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3 Logic Ga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tes can have multiple inputs and more than one out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cond output can be provided for the complement of the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see more of this l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5" descr="C:\idraw20\22.TIF"/>
          <p:cNvPicPr/>
          <p:nvPr/>
        </p:nvPicPr>
        <p:blipFill>
          <a:blip r:embed="rId1"/>
          <a:stretch/>
        </p:blipFill>
        <p:spPr>
          <a:xfrm>
            <a:off x="947880" y="3962520"/>
            <a:ext cx="73580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22FC6-C225-46C9-B511-483FD93B5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4 Digital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76964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in thing to remember is that combinations of gates implement Boolean fun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2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ircuit below implements the Boolean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5" descr="C:\idraw20\20.TIF"/>
          <p:cNvPicPr/>
          <p:nvPr/>
        </p:nvPicPr>
        <p:blipFill>
          <a:blip r:embed="rId1"/>
          <a:stretch/>
        </p:blipFill>
        <p:spPr>
          <a:xfrm>
            <a:off x="1270080" y="3654360"/>
            <a:ext cx="6197400" cy="15271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C:\idraw20\20A.TIF"/>
          <p:cNvPicPr/>
          <p:nvPr/>
        </p:nvPicPr>
        <p:blipFill>
          <a:blip r:embed="rId2"/>
          <a:stretch/>
        </p:blipFill>
        <p:spPr>
          <a:xfrm>
            <a:off x="2421000" y="3013200"/>
            <a:ext cx="3217680" cy="5680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3429000" y="5333040"/>
            <a:ext cx="495288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We simplify our Boolean expressions so that we can create simpler circu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C7A7-6811-4D36-A1D2-5A7A42FC4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designed a circuit that implements the Boolean funct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ircuit is an example of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ircu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logic circuits produce a specified output (almost) at the instant when input values are appli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later section, we will explore circuits where this is not the c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C:\idraw20\20A.TIF"/>
          <p:cNvPicPr/>
          <p:nvPr/>
        </p:nvPicPr>
        <p:blipFill>
          <a:blip r:embed="rId1"/>
          <a:stretch/>
        </p:blipFill>
        <p:spPr>
          <a:xfrm>
            <a:off x="2362320" y="2479680"/>
            <a:ext cx="3217680" cy="5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3E1-84C5-4AF0-A0A5-A5479502B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latter part of the nineteenth century, George Boole incensed philosophers and mathematicians alike when he suggested that logical thought could be represented through mathematical equa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dare anyone suggest that human thought could be encapsulated and manipulated like an algebraic formu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, as we know them today, are implementations of Boole’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aws of Though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hn Atanasoff and Claude Shannon were among the first to see this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324F-47C4-4837-B7B4-9EBDE2238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mbinational logic circuits give us many useful devic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of the simplest is the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hich finds the sum of two bi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e can gain some insight as to the construction of a half adder by looking at its truth table,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6" descr="C:\idraw20\23.TIF"/>
          <p:cNvPicPr/>
          <p:nvPr/>
        </p:nvPicPr>
        <p:blipFill>
          <a:blip r:embed="rId1"/>
          <a:stretch/>
        </p:blipFill>
        <p:spPr>
          <a:xfrm>
            <a:off x="5127480" y="2286000"/>
            <a:ext cx="3483000" cy="24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BD83-590C-4170-AC57-C33D44F2F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we see, the sum can be found using the XOR operation and the carry using the AND opera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C:\idraw20\23.TIF"/>
          <p:cNvPicPr/>
          <p:nvPr/>
        </p:nvPicPr>
        <p:blipFill>
          <a:blip r:embed="rId1"/>
          <a:stretch/>
        </p:blipFill>
        <p:spPr>
          <a:xfrm>
            <a:off x="5127480" y="2286000"/>
            <a:ext cx="3483000" cy="2481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C:\idraw20\24.TIF"/>
          <p:cNvPicPr/>
          <p:nvPr/>
        </p:nvPicPr>
        <p:blipFill>
          <a:blip r:embed="rId2"/>
          <a:stretch/>
        </p:blipFill>
        <p:spPr>
          <a:xfrm>
            <a:off x="1066680" y="3505320"/>
            <a:ext cx="3483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69AB-22D2-455C-B38F-386BD664B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change our half adder into to a full adder by including gates for processing the carry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a full adder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C:\idraw20\25.TIF"/>
          <p:cNvPicPr/>
          <p:nvPr/>
        </p:nvPicPr>
        <p:blipFill>
          <a:blip r:embed="rId1"/>
          <a:stretch/>
        </p:blipFill>
        <p:spPr>
          <a:xfrm>
            <a:off x="4564080" y="1905120"/>
            <a:ext cx="41227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8F9F-4F13-4460-822F-19DBE606B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can we change the half adder shown below to make it a full adder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4" descr="C:\idraw20\25.TIF"/>
          <p:cNvPicPr/>
          <p:nvPr/>
        </p:nvPicPr>
        <p:blipFill>
          <a:blip r:embed="rId1"/>
          <a:stretch/>
        </p:blipFill>
        <p:spPr>
          <a:xfrm>
            <a:off x="4564080" y="1905120"/>
            <a:ext cx="4122720" cy="3801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C:\idraw20\24.TIF"/>
          <p:cNvPicPr/>
          <p:nvPr/>
        </p:nvPicPr>
        <p:blipFill>
          <a:blip r:embed="rId2"/>
          <a:stretch/>
        </p:blipFill>
        <p:spPr>
          <a:xfrm>
            <a:off x="762120" y="3406680"/>
            <a:ext cx="3483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8EDF-160D-487B-8561-E3AF120B7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C:\idraw20\26.TIF"/>
          <p:cNvPicPr/>
          <p:nvPr/>
        </p:nvPicPr>
        <p:blipFill>
          <a:blip r:embed="rId1"/>
          <a:stretch/>
        </p:blipFill>
        <p:spPr>
          <a:xfrm>
            <a:off x="380880" y="2286000"/>
            <a:ext cx="4845240" cy="37400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’s our completed full ad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C:\idraw20\25.TIF"/>
          <p:cNvPicPr/>
          <p:nvPr/>
        </p:nvPicPr>
        <p:blipFill>
          <a:blip r:embed="rId2"/>
          <a:stretch/>
        </p:blipFill>
        <p:spPr>
          <a:xfrm>
            <a:off x="5257800" y="2514600"/>
            <a:ext cx="3436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223E-2DF1-4DDE-994E-8045CFC76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ust as we combined half adders to make a full adder, full adders can connected in se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arry bit “ripples” from one adder to the next; hence, this configuration is called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ipple-car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dd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362320" y="5439240"/>
            <a:ext cx="601956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oday’s systems employ more efficient adders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7" descr="C:\idraw20\31.TIF"/>
          <p:cNvPicPr/>
          <p:nvPr/>
        </p:nvPicPr>
        <p:blipFill>
          <a:blip r:embed="rId1"/>
          <a:stretch/>
        </p:blipFill>
        <p:spPr>
          <a:xfrm>
            <a:off x="609480" y="3884760"/>
            <a:ext cx="771552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7FDC-2863-4F57-AE0A-204620C45B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oders are another important type of combinational circu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ng other things, they are useful in selecting a memory location according a binary value placed on the address lines of a memory bu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ress decoders 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puts can select any of 2</a:t>
            </a:r>
            <a:r>
              <a:rPr b="0" i="1" lang="en-US" sz="2600" spc="-1" strike="noStrike" baseline="4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cation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143000" y="4799520"/>
            <a:ext cx="190512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is is a block diagram for a decoder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C:\idraw20\28.TIF"/>
          <p:cNvPicPr/>
          <p:nvPr/>
        </p:nvPicPr>
        <p:blipFill>
          <a:blip r:embed="rId1"/>
          <a:stretch/>
        </p:blipFill>
        <p:spPr>
          <a:xfrm>
            <a:off x="3276720" y="4343400"/>
            <a:ext cx="51559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E8B0-078C-4385-B00F-D74F73E79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what a 2-to-4 decoder looks like on the ins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Picture 6" descr="C:\idraw20\27.TIF"/>
          <p:cNvPicPr/>
          <p:nvPr/>
        </p:nvPicPr>
        <p:blipFill>
          <a:blip r:embed="rId1"/>
          <a:stretch/>
        </p:blipFill>
        <p:spPr>
          <a:xfrm>
            <a:off x="2370240" y="2362320"/>
            <a:ext cx="5173560" cy="33350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7"/>
          <p:cNvSpPr/>
          <p:nvPr/>
        </p:nvSpPr>
        <p:spPr>
          <a:xfrm>
            <a:off x="1066680" y="4617000"/>
            <a:ext cx="228600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f x = 0 and y = 1, which output line is enabled?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0F34-62DA-4C4F-AB0D-172089B55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" descr="C:\idraw20\30.TIF"/>
          <p:cNvPicPr/>
          <p:nvPr/>
        </p:nvPicPr>
        <p:blipFill>
          <a:blip r:embed="rId1"/>
          <a:stretch/>
        </p:blipFill>
        <p:spPr>
          <a:xfrm>
            <a:off x="4971960" y="1752480"/>
            <a:ext cx="3867120" cy="2606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ultiplexer does just the opposite of a decod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selects a single output from several input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particular input chosen for output is determined by the value of the multiplexer’s control line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be able to select among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inputs, log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control lines are need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5943600" y="4647240"/>
            <a:ext cx="190512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is is a block diagram for a multiplexer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BC43-C047-46A1-AC0D-07660EF56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8" descr="C:\idraw20\29.TIF"/>
          <p:cNvPicPr/>
          <p:nvPr/>
        </p:nvPicPr>
        <p:blipFill>
          <a:blip r:embed="rId1"/>
          <a:stretch/>
        </p:blipFill>
        <p:spPr>
          <a:xfrm>
            <a:off x="914400" y="2514600"/>
            <a:ext cx="7157880" cy="3300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what a 4-to-1 multiplexer looks like on the inside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6095880" y="4487400"/>
            <a:ext cx="2514600" cy="14806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f S</a:t>
            </a:r>
            <a:r>
              <a:rPr b="1" lang="en-US" sz="2200" spc="-1" strike="noStrike" baseline="-25000">
                <a:solidFill>
                  <a:srgbClr val="cc3300"/>
                </a:solidFill>
                <a:latin typeface="Times New Roman"/>
              </a:rPr>
              <a:t>0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= 1 and S</a:t>
            </a:r>
            <a:r>
              <a:rPr b="1" lang="en-US" sz="2200" spc="-1" strike="noStrike" baseline="-25000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= 0, which input is transferred to the output?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D0944-531E-4DEA-9577-1A8CA9419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middle of the twentieth century, computers were commonly known as “thinking machines” and “electronic brain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eople were fearful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adays, we rarely ponder the relationship between electronic digital computers and human logic. Computers are accepted as part of our liv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eople, however, are still fearful of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chapter, you will learn the simplicity that constitutes the essence of the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BDF3-93A3-4194-BA90-77D3349EC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7" descr="C:\wpdocs\Julie\ECOA 2e\Ch3\PPTs\Fig_3-16_ECOA2E.tif"/>
          <p:cNvPicPr/>
          <p:nvPr/>
        </p:nvPicPr>
        <p:blipFill>
          <a:blip r:embed="rId1"/>
          <a:srcRect l="7106" t="4594" r="6462" b="6194"/>
          <a:stretch/>
        </p:blipFill>
        <p:spPr>
          <a:xfrm>
            <a:off x="2895480" y="1373040"/>
            <a:ext cx="5257800" cy="5186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5 Combination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90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shifter moves the bits of a nibble one position to the left or righ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371600" y="5028120"/>
            <a:ext cx="2286000" cy="1099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f S = 0, in which direction do the input bits shift?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2448-BE32-435C-B730-F1D2B1CCE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logic circuits are perfect for situations when we require the immediate application of a Boolean function to a set of inpu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other times, however, when we need a circuit to change its value with consideration to its current state as well as its inpu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circuits have to “remember” their current st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quential logic circu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rovide this functionality for u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6527-4856-43C8-8B3C-25C7B161C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s the name implies, sequential logic circuits require a means by which events can be sequenced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tate changes are controlled by clock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“clock” is a special circuit that sends electrical pulses through a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ocks produce electrical waveforms such as the one shown below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5" descr="C:\idraw20\32.TIF"/>
          <p:cNvPicPr/>
          <p:nvPr/>
        </p:nvPicPr>
        <p:blipFill>
          <a:blip r:embed="rId1"/>
          <a:stretch/>
        </p:blipFill>
        <p:spPr>
          <a:xfrm>
            <a:off x="1523880" y="4591080"/>
            <a:ext cx="55213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440F-AF74-4B62-A0B4-F3EFB98E2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changes occur in sequential circuits only when the clock tick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uits can change state on the rising edge, falling edge, or when the clock pulse reaches its highest volt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4" descr="C:\idraw20\32.TIF"/>
          <p:cNvPicPr/>
          <p:nvPr/>
        </p:nvPicPr>
        <p:blipFill>
          <a:blip r:embed="rId1"/>
          <a:srcRect l="0" t="4749" r="0" b="10396"/>
          <a:stretch/>
        </p:blipFill>
        <p:spPr>
          <a:xfrm>
            <a:off x="762120" y="4059360"/>
            <a:ext cx="723096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D0A3-216E-4F7B-A9D2-1140F0AD1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rcuits that change state on the rising edge, or  falling edge of the clock pulse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dge-trigge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Level-triggered circu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hange state when the clock voltage reaches its highest or lowest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4" descr="C:\idraw20\32.TIF"/>
          <p:cNvPicPr/>
          <p:nvPr/>
        </p:nvPicPr>
        <p:blipFill>
          <a:blip r:embed="rId1"/>
          <a:srcRect l="0" t="4749" r="0" b="10396"/>
          <a:stretch/>
        </p:blipFill>
        <p:spPr>
          <a:xfrm>
            <a:off x="762120" y="4059360"/>
            <a:ext cx="723096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CBA3-51AF-445C-AAED-C56B94DAF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tain their state values, sequential circuits rely o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eedbac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edback in digital circuits occurs when an output is looped back to the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imple example of this concept is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Q is 0 it will always be 0, if it is 1, it will always be 1. 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5" descr="C:\idraw20\33.TIF"/>
          <p:cNvPicPr/>
          <p:nvPr/>
        </p:nvPicPr>
        <p:blipFill>
          <a:blip r:embed="rId1"/>
          <a:stretch/>
        </p:blipFill>
        <p:spPr>
          <a:xfrm>
            <a:off x="2438280" y="4689360"/>
            <a:ext cx="4232520" cy="12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3EB4C-B1C2-4D2E-A9A6-97411D783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see how feedback works by examining the most basic sequential logic components, the SR flip-flop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R” stands for set/res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als of an SR flip-flop are shown below, along with its block diag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5" descr="C:\idraw20\35.TIF"/>
          <p:cNvPicPr/>
          <p:nvPr/>
        </p:nvPicPr>
        <p:blipFill>
          <a:blip r:embed="rId1"/>
          <a:stretch/>
        </p:blipFill>
        <p:spPr>
          <a:xfrm>
            <a:off x="1143000" y="4267080"/>
            <a:ext cx="3427560" cy="18147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C:\idraw20\34.TIF"/>
          <p:cNvPicPr/>
          <p:nvPr/>
        </p:nvPicPr>
        <p:blipFill>
          <a:blip r:embed="rId2"/>
          <a:stretch/>
        </p:blipFill>
        <p:spPr>
          <a:xfrm>
            <a:off x="4795920" y="4314960"/>
            <a:ext cx="32814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99F7-CD6F-4400-8F96-B5EB87E01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an SR flip-flop is described by a characteristic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(t) means the value of the output at time t.  Q(t+1) is the value of Q after the next clock pul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4" descr="C:\idraw20\35.TIF"/>
          <p:cNvPicPr/>
          <p:nvPr/>
        </p:nvPicPr>
        <p:blipFill>
          <a:blip r:embed="rId1"/>
          <a:stretch/>
        </p:blipFill>
        <p:spPr>
          <a:xfrm>
            <a:off x="685800" y="3984480"/>
            <a:ext cx="3427560" cy="1814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C:\idraw20\36.TIF"/>
          <p:cNvPicPr/>
          <p:nvPr/>
        </p:nvPicPr>
        <p:blipFill>
          <a:blip r:embed="rId2"/>
          <a:stretch/>
        </p:blipFill>
        <p:spPr>
          <a:xfrm>
            <a:off x="4267080" y="3733920"/>
            <a:ext cx="44053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54F5-D249-48BB-BF0E-3057239DA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SR flip-flop actually has three inputs: S, R, and its current output, Q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us, we can construct a truth table for this circuit, as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otice the two undefined values.  When both S and R are 1, the SR flip-flop is unstabl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Picture 6" descr="C:\idraw20\37.TIF"/>
          <p:cNvPicPr/>
          <p:nvPr/>
        </p:nvPicPr>
        <p:blipFill>
          <a:blip r:embed="rId1"/>
          <a:stretch/>
        </p:blipFill>
        <p:spPr>
          <a:xfrm>
            <a:off x="4572000" y="1676520"/>
            <a:ext cx="400356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05F1-9CF0-4400-AA3E-A97ED8181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can be sure that the inputs to an SR flip-flop will never both be 1, we will never have an unstable circuit. This may not always be the c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R flip-flop can be modified to provide a stable state when both inputs are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idraw20\38.TIF"/>
          <p:cNvPicPr/>
          <p:nvPr/>
        </p:nvPicPr>
        <p:blipFill>
          <a:blip r:embed="rId1"/>
          <a:stretch/>
        </p:blipFill>
        <p:spPr>
          <a:xfrm>
            <a:off x="4724280" y="3886200"/>
            <a:ext cx="3648240" cy="18111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7"/>
          <p:cNvSpPr/>
          <p:nvPr/>
        </p:nvSpPr>
        <p:spPr>
          <a:xfrm>
            <a:off x="533520" y="3701880"/>
            <a:ext cx="4267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odified flip-flop is called a JK flip-flop,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JK” is in hono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2440" indent="-352440">
              <a:tabLst>
                <a:tab algn="l" pos="0"/>
                <a:tab algn="l" pos="687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 Kilb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DCD9-841B-4713-B74A-4BA5B56A3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algebra is a mathematical system for the manipulation of variables that can have one of two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ormal logic, these values are “true” and “fals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digital systems, these values are “on” and “off,” 1 and 0, or “high” and “low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expressions are created by performing operations on Boolean vari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Boolean operators include AND, OR, and N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FA6D-CAD6-4CBD-A5EE-6F1572C23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657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right, we see how an SR flip-flop can be modified to create a JK flip-flo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aracteristic table indicates that the flip-flop is stable for all inpu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Picture 6" descr="C:\idraw20\40.TIF"/>
          <p:cNvPicPr/>
          <p:nvPr/>
        </p:nvPicPr>
        <p:blipFill>
          <a:blip r:embed="rId1"/>
          <a:stretch/>
        </p:blipFill>
        <p:spPr>
          <a:xfrm>
            <a:off x="4267080" y="1523880"/>
            <a:ext cx="3838680" cy="1892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C:\idraw20\39.TIF"/>
          <p:cNvPicPr/>
          <p:nvPr/>
        </p:nvPicPr>
        <p:blipFill>
          <a:blip r:embed="rId2"/>
          <a:stretch/>
        </p:blipFill>
        <p:spPr>
          <a:xfrm>
            <a:off x="4311720" y="3656160"/>
            <a:ext cx="4222800" cy="1982520"/>
          </a:xfrm>
          <a:prstGeom prst="rect">
            <a:avLst/>
          </a:prstGeom>
          <a:ln w="0">
            <a:noFill/>
          </a:ln>
        </p:spPr>
      </p:pic>
      <p:sp>
        <p:nvSpPr>
          <p:cNvPr id="260" name="Ink 9"/>
          <p:cNvSpPr/>
          <p:nvPr/>
        </p:nvSpPr>
        <p:spPr>
          <a:xfrm>
            <a:off x="6745320" y="1623960"/>
            <a:ext cx="1619280" cy="642960"/>
          </a:xfrm>
          <a:custGeom>
            <a:avLst/>
            <a:gdLst/>
            <a:ahLst/>
            <a:rect l="l" t="t" r="r" b="b"/>
            <a:pathLst>
              <a:path w="4497" h="1787">
                <a:moveTo>
                  <a:pt x="18863" y="5655"/>
                </a:moveTo>
                <a:cubicBezTo>
                  <a:pt x="18845" y="5610"/>
                  <a:pt x="18834" y="5585"/>
                  <a:pt x="18845" y="5538"/>
                </a:cubicBezTo>
                <a:cubicBezTo>
                  <a:pt x="18855" y="5495"/>
                  <a:pt x="18865" y="5453"/>
                  <a:pt x="18894" y="5418"/>
                </a:cubicBezTo>
                <a:cubicBezTo>
                  <a:pt x="18925" y="5381"/>
                  <a:pt x="18971" y="5354"/>
                  <a:pt x="19019" y="5346"/>
                </a:cubicBezTo>
                <a:cubicBezTo>
                  <a:pt x="19102" y="5333"/>
                  <a:pt x="19186" y="5368"/>
                  <a:pt x="19245" y="5426"/>
                </a:cubicBezTo>
                <a:cubicBezTo>
                  <a:pt x="19331" y="5510"/>
                  <a:pt x="19372" y="5636"/>
                  <a:pt x="19381" y="5753"/>
                </a:cubicBezTo>
                <a:cubicBezTo>
                  <a:pt x="19389" y="5867"/>
                  <a:pt x="19365" y="5978"/>
                  <a:pt x="19312" y="6079"/>
                </a:cubicBezTo>
                <a:cubicBezTo>
                  <a:pt x="19267" y="6165"/>
                  <a:pt x="19195" y="6243"/>
                  <a:pt x="19102" y="6278"/>
                </a:cubicBezTo>
                <a:cubicBezTo>
                  <a:pt x="19033" y="6304"/>
                  <a:pt x="18935" y="6303"/>
                  <a:pt x="18868" y="6268"/>
                </a:cubicBezTo>
                <a:cubicBezTo>
                  <a:pt x="18753" y="6208"/>
                  <a:pt x="18730" y="6074"/>
                  <a:pt x="18749" y="5960"/>
                </a:cubicBezTo>
                <a:cubicBezTo>
                  <a:pt x="18764" y="5870"/>
                  <a:pt x="18803" y="5785"/>
                  <a:pt x="18870" y="5721"/>
                </a:cubicBezTo>
                <a:cubicBezTo>
                  <a:pt x="18888" y="5708"/>
                  <a:pt x="18906" y="5696"/>
                  <a:pt x="18924" y="5683"/>
                </a:cubicBezTo>
              </a:path>
              <a:path w="4497" h="1787">
                <a:moveTo>
                  <a:pt x="19317" y="5633"/>
                </a:moveTo>
                <a:cubicBezTo>
                  <a:pt x="19334" y="5599"/>
                  <a:pt x="19339" y="5596"/>
                  <a:pt x="19356" y="5562"/>
                </a:cubicBezTo>
                <a:cubicBezTo>
                  <a:pt x="19474" y="5321"/>
                  <a:pt x="19601" y="5062"/>
                  <a:pt x="19827" y="4903"/>
                </a:cubicBezTo>
                <a:cubicBezTo>
                  <a:pt x="20125" y="4693"/>
                  <a:pt x="20515" y="4754"/>
                  <a:pt x="20847" y="4825"/>
                </a:cubicBezTo>
                <a:cubicBezTo>
                  <a:pt x="21290" y="4919"/>
                  <a:pt x="21724" y="5088"/>
                  <a:pt x="22182" y="5080"/>
                </a:cubicBezTo>
                <a:cubicBezTo>
                  <a:pt x="22300" y="5078"/>
                  <a:pt x="22428" y="5068"/>
                  <a:pt x="22533" y="5009"/>
                </a:cubicBezTo>
                <a:cubicBezTo>
                  <a:pt x="22548" y="5001"/>
                  <a:pt x="22561" y="4983"/>
                  <a:pt x="22576" y="4974"/>
                </a:cubicBezTo>
              </a:path>
              <a:path w="4497" h="1787">
                <a:moveTo>
                  <a:pt x="22921" y="4509"/>
                </a:moveTo>
                <a:cubicBezTo>
                  <a:pt x="22927" y="4535"/>
                  <a:pt x="22921" y="4554"/>
                  <a:pt x="22902" y="4602"/>
                </a:cubicBezTo>
                <a:cubicBezTo>
                  <a:pt x="22868" y="4686"/>
                  <a:pt x="22833" y="4771"/>
                  <a:pt x="22807" y="4858"/>
                </a:cubicBezTo>
                <a:cubicBezTo>
                  <a:pt x="22783" y="4939"/>
                  <a:pt x="22741" y="5063"/>
                  <a:pt x="22788" y="5144"/>
                </a:cubicBezTo>
                <a:cubicBezTo>
                  <a:pt x="22831" y="5217"/>
                  <a:pt x="22929" y="5206"/>
                  <a:pt x="22995" y="5176"/>
                </a:cubicBezTo>
                <a:cubicBezTo>
                  <a:pt x="23074" y="5140"/>
                  <a:pt x="23140" y="5077"/>
                  <a:pt x="23179" y="4999"/>
                </a:cubicBezTo>
                <a:cubicBezTo>
                  <a:pt x="23216" y="4925"/>
                  <a:pt x="23231" y="4833"/>
                  <a:pt x="23216" y="4751"/>
                </a:cubicBezTo>
                <a:cubicBezTo>
                  <a:pt x="23204" y="4687"/>
                  <a:pt x="23176" y="4623"/>
                  <a:pt x="23120" y="4586"/>
                </a:cubicBezTo>
                <a:cubicBezTo>
                  <a:pt x="23085" y="4563"/>
                  <a:pt x="23005" y="4553"/>
                  <a:pt x="22966" y="4574"/>
                </a:cubicBezTo>
                <a:cubicBezTo>
                  <a:pt x="22927" y="4595"/>
                  <a:pt x="22908" y="4628"/>
                  <a:pt x="22889" y="4663"/>
                </a:cubicBezTo>
              </a:path>
              <a:path w="4497" h="1787">
                <a:moveTo>
                  <a:pt x="22932" y="4869"/>
                </a:moveTo>
                <a:cubicBezTo>
                  <a:pt x="22936" y="4920"/>
                  <a:pt x="22954" y="4946"/>
                  <a:pt x="22976" y="4993"/>
                </a:cubicBezTo>
                <a:cubicBezTo>
                  <a:pt x="23009" y="5064"/>
                  <a:pt x="23047" y="5130"/>
                  <a:pt x="23086" y="5198"/>
                </a:cubicBezTo>
                <a:cubicBezTo>
                  <a:pt x="23123" y="5261"/>
                  <a:pt x="23157" y="5314"/>
                  <a:pt x="23203" y="5370"/>
                </a:cubicBezTo>
                <a:cubicBezTo>
                  <a:pt x="23217" y="5387"/>
                  <a:pt x="23222" y="5393"/>
                  <a:pt x="23232" y="54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Ink 10"/>
          <p:cNvSpPr/>
          <p:nvPr/>
        </p:nvSpPr>
        <p:spPr>
          <a:xfrm>
            <a:off x="6821640" y="2406600"/>
            <a:ext cx="1633320" cy="606600"/>
          </a:xfrm>
          <a:custGeom>
            <a:avLst/>
            <a:gdLst/>
            <a:ahLst/>
            <a:rect l="l" t="t" r="r" b="b"/>
            <a:pathLst>
              <a:path w="4540" h="1685">
                <a:moveTo>
                  <a:pt x="19051" y="7019"/>
                </a:moveTo>
                <a:cubicBezTo>
                  <a:pt x="19035" y="6974"/>
                  <a:pt x="19024" y="6931"/>
                  <a:pt x="19014" y="6884"/>
                </a:cubicBezTo>
                <a:cubicBezTo>
                  <a:pt x="19006" y="6846"/>
                  <a:pt x="18996" y="6793"/>
                  <a:pt x="19014" y="6756"/>
                </a:cubicBezTo>
                <a:cubicBezTo>
                  <a:pt x="19032" y="6717"/>
                  <a:pt x="19078" y="6694"/>
                  <a:pt x="19118" y="6687"/>
                </a:cubicBezTo>
                <a:cubicBezTo>
                  <a:pt x="19213" y="6670"/>
                  <a:pt x="19303" y="6721"/>
                  <a:pt x="19365" y="6789"/>
                </a:cubicBezTo>
                <a:cubicBezTo>
                  <a:pt x="19444" y="6876"/>
                  <a:pt x="19475" y="6993"/>
                  <a:pt x="19490" y="7107"/>
                </a:cubicBezTo>
                <a:cubicBezTo>
                  <a:pt x="19506" y="7231"/>
                  <a:pt x="19496" y="7362"/>
                  <a:pt x="19437" y="7474"/>
                </a:cubicBezTo>
                <a:cubicBezTo>
                  <a:pt x="19393" y="7558"/>
                  <a:pt x="19319" y="7624"/>
                  <a:pt x="19219" y="7604"/>
                </a:cubicBezTo>
                <a:cubicBezTo>
                  <a:pt x="19115" y="7583"/>
                  <a:pt x="19049" y="7477"/>
                  <a:pt x="19009" y="7388"/>
                </a:cubicBezTo>
                <a:cubicBezTo>
                  <a:pt x="18963" y="7287"/>
                  <a:pt x="18941" y="7171"/>
                  <a:pt x="18947" y="7060"/>
                </a:cubicBezTo>
                <a:cubicBezTo>
                  <a:pt x="18950" y="6999"/>
                  <a:pt x="18957" y="6938"/>
                  <a:pt x="19012" y="6905"/>
                </a:cubicBezTo>
                <a:cubicBezTo>
                  <a:pt x="19043" y="6887"/>
                  <a:pt x="19061" y="6908"/>
                  <a:pt x="19089" y="6923"/>
                </a:cubicBezTo>
              </a:path>
              <a:path w="4540" h="1685">
                <a:moveTo>
                  <a:pt x="19227" y="7372"/>
                </a:moveTo>
                <a:cubicBezTo>
                  <a:pt x="19234" y="7335"/>
                  <a:pt x="19212" y="7313"/>
                  <a:pt x="19240" y="7274"/>
                </a:cubicBezTo>
                <a:cubicBezTo>
                  <a:pt x="19269" y="7233"/>
                  <a:pt x="19312" y="7203"/>
                  <a:pt x="19360" y="7186"/>
                </a:cubicBezTo>
                <a:cubicBezTo>
                  <a:pt x="19664" y="7082"/>
                  <a:pt x="20025" y="7269"/>
                  <a:pt x="20287" y="7402"/>
                </a:cubicBezTo>
                <a:cubicBezTo>
                  <a:pt x="20823" y="7674"/>
                  <a:pt x="21332" y="8023"/>
                  <a:pt x="21930" y="8143"/>
                </a:cubicBezTo>
                <a:cubicBezTo>
                  <a:pt x="22114" y="8180"/>
                  <a:pt x="22301" y="8177"/>
                  <a:pt x="22486" y="8151"/>
                </a:cubicBezTo>
                <a:cubicBezTo>
                  <a:pt x="22560" y="8141"/>
                  <a:pt x="22625" y="8127"/>
                  <a:pt x="22693" y="8103"/>
                </a:cubicBezTo>
                <a:cubicBezTo>
                  <a:pt x="22724" y="8092"/>
                  <a:pt x="22728" y="8087"/>
                  <a:pt x="22756" y="8076"/>
                </a:cubicBezTo>
              </a:path>
              <a:path w="4540" h="1685">
                <a:moveTo>
                  <a:pt x="23120" y="7771"/>
                </a:moveTo>
                <a:cubicBezTo>
                  <a:pt x="23131" y="7718"/>
                  <a:pt x="23119" y="7758"/>
                  <a:pt x="23101" y="7790"/>
                </a:cubicBezTo>
                <a:cubicBezTo>
                  <a:pt x="23069" y="7847"/>
                  <a:pt x="23041" y="7909"/>
                  <a:pt x="23025" y="7972"/>
                </a:cubicBezTo>
                <a:cubicBezTo>
                  <a:pt x="23002" y="8065"/>
                  <a:pt x="23000" y="8159"/>
                  <a:pt x="23056" y="8241"/>
                </a:cubicBezTo>
                <a:cubicBezTo>
                  <a:pt x="23093" y="8296"/>
                  <a:pt x="23165" y="8323"/>
                  <a:pt x="23231" y="8316"/>
                </a:cubicBezTo>
                <a:cubicBezTo>
                  <a:pt x="23310" y="8307"/>
                  <a:pt x="23374" y="8247"/>
                  <a:pt x="23415" y="8183"/>
                </a:cubicBezTo>
                <a:cubicBezTo>
                  <a:pt x="23457" y="8117"/>
                  <a:pt x="23472" y="8036"/>
                  <a:pt x="23463" y="7960"/>
                </a:cubicBezTo>
                <a:cubicBezTo>
                  <a:pt x="23456" y="7906"/>
                  <a:pt x="23427" y="7869"/>
                  <a:pt x="23372" y="7862"/>
                </a:cubicBezTo>
                <a:cubicBezTo>
                  <a:pt x="23331" y="7857"/>
                  <a:pt x="23299" y="7882"/>
                  <a:pt x="23263" y="7899"/>
                </a:cubicBezTo>
              </a:path>
              <a:path w="4540" h="1685">
                <a:moveTo>
                  <a:pt x="23183" y="8085"/>
                </a:moveTo>
                <a:cubicBezTo>
                  <a:pt x="23205" y="8115"/>
                  <a:pt x="23214" y="8147"/>
                  <a:pt x="23234" y="8178"/>
                </a:cubicBezTo>
                <a:cubicBezTo>
                  <a:pt x="23266" y="8227"/>
                  <a:pt x="23305" y="8273"/>
                  <a:pt x="23348" y="8312"/>
                </a:cubicBezTo>
                <a:cubicBezTo>
                  <a:pt x="23379" y="8339"/>
                  <a:pt x="23422" y="8368"/>
                  <a:pt x="23463" y="8365"/>
                </a:cubicBezTo>
                <a:cubicBezTo>
                  <a:pt x="23471" y="8364"/>
                  <a:pt x="23478" y="8362"/>
                  <a:pt x="23486" y="8361"/>
                </a:cubicBezTo>
              </a:path>
              <a:path w="4540" h="1685">
                <a:moveTo>
                  <a:pt x="22844" y="7455"/>
                </a:moveTo>
                <a:cubicBezTo>
                  <a:pt x="22878" y="7429"/>
                  <a:pt x="22909" y="7430"/>
                  <a:pt x="22953" y="7420"/>
                </a:cubicBezTo>
                <a:cubicBezTo>
                  <a:pt x="23021" y="7405"/>
                  <a:pt x="23090" y="7395"/>
                  <a:pt x="23160" y="7386"/>
                </a:cubicBezTo>
                <a:cubicBezTo>
                  <a:pt x="23227" y="7378"/>
                  <a:pt x="23295" y="7381"/>
                  <a:pt x="23361" y="7388"/>
                </a:cubicBezTo>
              </a:path>
              <a:path w="4540" h="1685">
                <a:moveTo>
                  <a:pt x="23093" y="7779"/>
                </a:moveTo>
                <a:cubicBezTo>
                  <a:pt x="23097" y="7750"/>
                  <a:pt x="23113" y="7740"/>
                  <a:pt x="23147" y="7741"/>
                </a:cubicBezTo>
                <a:cubicBezTo>
                  <a:pt x="23170" y="7742"/>
                  <a:pt x="23201" y="7756"/>
                  <a:pt x="23219" y="7769"/>
                </a:cubicBezTo>
                <a:cubicBezTo>
                  <a:pt x="23250" y="7790"/>
                  <a:pt x="23275" y="7816"/>
                  <a:pt x="23301" y="78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9069-C958-4D77-8B32-2F7D22B3E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modification of the SR flip-flop is the D flip-flop, shown below with its characteristic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will notice that the output of the flip-flop remains the same during subsequent clock pulses. The output changes only when the value of D chang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5" descr="C:\idraw20\42.TIF"/>
          <p:cNvPicPr/>
          <p:nvPr/>
        </p:nvPicPr>
        <p:blipFill>
          <a:blip r:embed="rId1"/>
          <a:stretch/>
        </p:blipFill>
        <p:spPr>
          <a:xfrm>
            <a:off x="914400" y="4327560"/>
            <a:ext cx="4076640" cy="14637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idraw20\43.TIF"/>
          <p:cNvPicPr/>
          <p:nvPr/>
        </p:nvPicPr>
        <p:blipFill>
          <a:blip r:embed="rId2"/>
          <a:stretch/>
        </p:blipFill>
        <p:spPr>
          <a:xfrm>
            <a:off x="5334120" y="4251240"/>
            <a:ext cx="20476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E4C5-5B86-4EA2-AFC6-5A9DDE45A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467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 flip-flop is the fundamental circuit of computer memor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flip-flops are usually illustrated using the block diagram shown be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haracteristic table for the D flip-flop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6" descr="C:\idraw20\41.TIF"/>
          <p:cNvPicPr/>
          <p:nvPr/>
        </p:nvPicPr>
        <p:blipFill>
          <a:blip r:embed="rId1"/>
          <a:stretch/>
        </p:blipFill>
        <p:spPr>
          <a:xfrm>
            <a:off x="1371600" y="4267080"/>
            <a:ext cx="2668680" cy="1629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C:\idraw20\43.TIF"/>
          <p:cNvPicPr/>
          <p:nvPr/>
        </p:nvPicPr>
        <p:blipFill>
          <a:blip r:embed="rId2"/>
          <a:stretch/>
        </p:blipFill>
        <p:spPr>
          <a:xfrm>
            <a:off x="5334120" y="4251240"/>
            <a:ext cx="2047680" cy="14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55BC-F6A4-4508-9E0C-A31F7A424E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sequential circuits can be expressed using characteristic tables or finite state machines (FSM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Ms consist of a set of nodes that hold the states of the machine and a set of arcs that connect the st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re and Mealy machines are two types of FSMs that are equival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differ only in how they express the outputs of the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re machines place outputs on each node, while Mealy machines present their outputs on the transition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FF58-3E53-4A81-AF16-69F6E27532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9" descr="C:\wpdocs\Julie\ECOA 2e\Ch3\Fig_3-25_ECOA2E_ppt.tif"/>
          <p:cNvPicPr/>
          <p:nvPr/>
        </p:nvPicPr>
        <p:blipFill>
          <a:blip r:embed="rId1"/>
          <a:srcRect l="0" t="0" r="5539" b="0"/>
          <a:stretch/>
        </p:blipFill>
        <p:spPr>
          <a:xfrm>
            <a:off x="609480" y="3287880"/>
            <a:ext cx="3429000" cy="2431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a JK flop-flop is depicted below by a Moore machine (left) and a Mealy machine (right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7" descr="C:\wpdocs\Julie\ECOA 2e\Ch3\Fig_3-26_ECOA2e_ppt.tif"/>
          <p:cNvPicPr/>
          <p:nvPr/>
        </p:nvPicPr>
        <p:blipFill>
          <a:blip r:embed="rId2"/>
          <a:srcRect l="3275" t="0" r="3377" b="0"/>
          <a:stretch/>
        </p:blipFill>
        <p:spPr>
          <a:xfrm>
            <a:off x="3962520" y="2895480"/>
            <a:ext cx="48765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B6B3-6FAA-4D12-ADEF-5473C0F7F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hough the behavior of Moore and Mealy machines is identical, their implementation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7" descr="C:\wpdocs\Julie\ECOA 2e\Ch3\Fig_3-25_ECOA2E_ppt.tif"/>
          <p:cNvPicPr/>
          <p:nvPr/>
        </p:nvPicPr>
        <p:blipFill>
          <a:blip r:embed="rId1"/>
          <a:srcRect l="0" t="9397" r="5539" b="12274"/>
          <a:stretch/>
        </p:blipFill>
        <p:spPr>
          <a:xfrm>
            <a:off x="4572000" y="266688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C:\wpdocs\Julie\ECOA 2e\Ch3\Fig_3-27_ECOA2E_ppt.tif"/>
          <p:cNvPicPr/>
          <p:nvPr/>
        </p:nvPicPr>
        <p:blipFill>
          <a:blip r:embed="rId2"/>
          <a:srcRect l="2208" t="9284" r="0" b="54646"/>
          <a:stretch/>
        </p:blipFill>
        <p:spPr>
          <a:xfrm>
            <a:off x="533520" y="4191120"/>
            <a:ext cx="7696080" cy="209556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684360" y="2585880"/>
            <a:ext cx="2895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our Moore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7C4E-EAED-48FC-BD8E-7CBE25BD7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hough the behavior of Moore and Mealy machines is identical, their implementation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7" descr="C:\wpdocs\Julie\ECOA 2e\Ch3\Fig_3-27_ECOA2E_ppt.tif"/>
          <p:cNvPicPr/>
          <p:nvPr/>
        </p:nvPicPr>
        <p:blipFill>
          <a:blip r:embed="rId1"/>
          <a:srcRect l="7716" t="46911" r="8860" b="2032"/>
          <a:stretch/>
        </p:blipFill>
        <p:spPr>
          <a:xfrm>
            <a:off x="2057400" y="2438280"/>
            <a:ext cx="6934320" cy="31338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685800" y="2514600"/>
            <a:ext cx="28954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our Mealy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8" descr="C:\wpdocs\Julie\ECOA 2e\Ch3\Fig_3-26_ECOA2e_ppt.tif"/>
          <p:cNvPicPr/>
          <p:nvPr/>
        </p:nvPicPr>
        <p:blipFill>
          <a:blip r:embed="rId2"/>
          <a:srcRect l="3275" t="0" r="3377" b="0"/>
          <a:stretch/>
        </p:blipFill>
        <p:spPr>
          <a:xfrm>
            <a:off x="380880" y="4282920"/>
            <a:ext cx="457200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05DA-2232-4F41-8568-8569681F9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difficult to express the complexities of actual implementations using only Moore and Mealy mach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one thing, they do not address the intricacies of timing very we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ly, it is often the case that an interaction of numerous signals is required to advance a machine from one state to the n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se reasons, Christopher Clare invented the algorithmic state machine (ASM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838080" y="5713920"/>
            <a:ext cx="6782040" cy="429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next slide illustrates the components of an ASM.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789E-7562-4680-8E65-DA38A7DEEE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031" descr="C:\wpdocs\Julie\ECOA 2e\Ch3\PPTs\Fig_3-28_ECOA2E_ppt.tif"/>
          <p:cNvPicPr/>
          <p:nvPr/>
        </p:nvPicPr>
        <p:blipFill>
          <a:blip r:embed="rId1"/>
          <a:srcRect l="0" t="3560" r="0" b="0"/>
          <a:stretch/>
        </p:blipFill>
        <p:spPr>
          <a:xfrm>
            <a:off x="1066680" y="1447920"/>
            <a:ext cx="6448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BAEA-F989-4F13-8443-18BE363FF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1029" descr="C:\wpdocs\Julie\ECOA 2e\Ch3\PPTs\Fig_3-29_ECOA2E_ppt.tif"/>
          <p:cNvPicPr/>
          <p:nvPr/>
        </p:nvPicPr>
        <p:blipFill>
          <a:blip r:embed="rId1"/>
          <a:srcRect l="0" t="2678" r="0" b="1695"/>
          <a:stretch/>
        </p:blipFill>
        <p:spPr>
          <a:xfrm>
            <a:off x="533520" y="2057400"/>
            <a:ext cx="7543800" cy="442260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0769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n ASM for a microwave ove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3D3B-9450-4A16-AF08-89A9E267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C:\idraw20\1.TIF"/>
          <p:cNvPicPr/>
          <p:nvPr/>
        </p:nvPicPr>
        <p:blipFill>
          <a:blip r:embed="rId1"/>
          <a:srcRect l="0" t="0" r="0" b="2260"/>
          <a:stretch/>
        </p:blipFill>
        <p:spPr>
          <a:xfrm>
            <a:off x="6323040" y="1371600"/>
            <a:ext cx="2211480" cy="4876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oolean operator can be completely described using a truth 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Boolean operators AND and OR are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AND operator is also known as a Boolean product.  The OR operator is the Boolean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67D6-815C-409E-8994-4D3FE641DD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160" y="1598760"/>
            <a:ext cx="7924680" cy="40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quential circuits are used anytime that we have a “stateful” appl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ateful application is one where the next state of the machine depends on the current state of the machine and the inpu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teful application requires both combinational and sequential log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llowing slides provide several examples of circuits that fall into this categ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2438280" y="5790240"/>
            <a:ext cx="3429000" cy="459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imes New Roman"/>
              </a:rPr>
              <a:t>Can you think of others?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8CD3-0288-482C-8E08-0DEFA41A3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llustration shows a 4-bit register consisting of D flip-flops. You will usually see its block diagram (below)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6" descr="C:\idraw20\44.TIF"/>
          <p:cNvPicPr/>
          <p:nvPr/>
        </p:nvPicPr>
        <p:blipFill>
          <a:blip r:embed="rId1"/>
          <a:stretch/>
        </p:blipFill>
        <p:spPr>
          <a:xfrm>
            <a:off x="4746600" y="1487520"/>
            <a:ext cx="3483000" cy="4608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C:\idraw20\46.TIF"/>
          <p:cNvPicPr/>
          <p:nvPr/>
        </p:nvPicPr>
        <p:blipFill>
          <a:blip r:embed="rId2"/>
          <a:stretch/>
        </p:blipFill>
        <p:spPr>
          <a:xfrm>
            <a:off x="990720" y="3657600"/>
            <a:ext cx="3227400" cy="147312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8"/>
          <p:cNvSpPr/>
          <p:nvPr/>
        </p:nvSpPr>
        <p:spPr>
          <a:xfrm>
            <a:off x="609480" y="5561640"/>
            <a:ext cx="3733920" cy="7038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A larger memory configuration is shown on the next sl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DE17-8D2B-41EF-8766-B553DFB69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12" descr="C:\IDRAW20\Julie\Org&amp;Arch\Ch3\EX3_35.TIF"/>
          <p:cNvPicPr/>
          <p:nvPr/>
        </p:nvPicPr>
        <p:blipFill>
          <a:blip r:embed="rId1"/>
          <a:srcRect l="0" t="1537" r="2768" b="1455"/>
          <a:stretch/>
        </p:blipFill>
        <p:spPr>
          <a:xfrm>
            <a:off x="228600" y="990720"/>
            <a:ext cx="7924680" cy="54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BDC6D-FA61-45F3-BCAC-24C471418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6" descr="C:\idraw20\45.TIF"/>
          <p:cNvPicPr/>
          <p:nvPr/>
        </p:nvPicPr>
        <p:blipFill>
          <a:blip r:embed="rId1"/>
          <a:srcRect l="0" t="0" r="37" b="5791"/>
          <a:stretch/>
        </p:blipFill>
        <p:spPr>
          <a:xfrm>
            <a:off x="4038480" y="1523880"/>
            <a:ext cx="4267440" cy="47246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3657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inary counter is another example of a sequential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ow-order bit is complemented at each clock pul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ever it changes from 0 to 1, the next bit is complemented, and so on through the other flip-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303D-F8B6-45FD-9459-409B28864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olutional coding and decoding requires sequential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important convolutional code is the (2,1) convolutional code that underlies the PRML code that is briefly described at the end of Chapter 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(2, 1) convolutional code is so named because two symbols are output for every one symbol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nvolutional encoder for PRML with its characteristic table is shown on the next sl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5617-A657-41E1-91BC-B3C8B6DBFE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7" descr="C:\wpdocs\Julie\ECOA 2e\Ch3\PPTs\CCS1.TIF"/>
          <p:cNvPicPr/>
          <p:nvPr/>
        </p:nvPicPr>
        <p:blipFill>
          <a:blip r:embed="rId1"/>
          <a:stretch/>
        </p:blipFill>
        <p:spPr>
          <a:xfrm>
            <a:off x="685800" y="1371600"/>
            <a:ext cx="7696080" cy="19112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C:\wpdocs\Julie\ECOA 2e\Ch3\PPTs\Fig_3-33_ECOA2E_ppt.tif"/>
          <p:cNvPicPr/>
          <p:nvPr/>
        </p:nvPicPr>
        <p:blipFill>
          <a:blip r:embed="rId2"/>
          <a:srcRect l="0" t="2264" r="1257" b="4176"/>
          <a:stretch/>
        </p:blipFill>
        <p:spPr>
          <a:xfrm>
            <a:off x="380880" y="3276720"/>
            <a:ext cx="7848720" cy="30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2182-3D54-43A8-B56A-73D28DB84B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Picture 6" descr="C:\wpdocs\Julie\ECOA 2e\Ch3\PPTs\Fig_3-35_ECOA2E.tif"/>
          <p:cNvPicPr/>
          <p:nvPr/>
        </p:nvPicPr>
        <p:blipFill>
          <a:blip r:embed="rId1"/>
          <a:stretch/>
        </p:blipFill>
        <p:spPr>
          <a:xfrm>
            <a:off x="380880" y="2525760"/>
            <a:ext cx="4419720" cy="37987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C:\wpdocs\Julie\ECOA 2e\Ch3\PPTs\CCS.TIF"/>
          <p:cNvPicPr/>
          <p:nvPr/>
        </p:nvPicPr>
        <p:blipFill>
          <a:blip r:embed="rId2"/>
          <a:stretch/>
        </p:blipFill>
        <p:spPr>
          <a:xfrm>
            <a:off x="4800600" y="1676520"/>
            <a:ext cx="3971880" cy="30178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685800" y="1523880"/>
            <a:ext cx="3962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Mealy machine for our encod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B12B-F670-4B24-88E0-B3DB9DF5A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5" descr="C:\wpdocs\Julie\ECOA 2e\Ch3\PPTs\Fig_3-35_ECOA2E.tif"/>
          <p:cNvPicPr/>
          <p:nvPr/>
        </p:nvPicPr>
        <p:blipFill>
          <a:blip r:embed="rId1"/>
          <a:stretch/>
        </p:blipFill>
        <p:spPr>
          <a:xfrm>
            <a:off x="4191120" y="1347840"/>
            <a:ext cx="4724280" cy="40622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447920" y="5325120"/>
            <a:ext cx="70102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(1101 0010) = 11 01 01 00 10 11 11 10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3962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act that there is a limited set of possible state transitions in the encoding process is crucial to the error correcting capabilities of PRM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see by our Mealy machine for encoding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22B6-0A71-4E2D-9E4A-57F5201C2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6" descr="C:\wpdocs\Julie\ECOA 2e\Ch3\PPTs\Fig_3-35-d_ECOA2E_ppt.tif"/>
          <p:cNvPicPr/>
          <p:nvPr/>
        </p:nvPicPr>
        <p:blipFill>
          <a:blip r:embed="rId1"/>
          <a:srcRect l="0" t="2184" r="0" b="0"/>
          <a:stretch/>
        </p:blipFill>
        <p:spPr>
          <a:xfrm>
            <a:off x="4186080" y="1447920"/>
            <a:ext cx="4743720" cy="3987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914400" y="5500080"/>
            <a:ext cx="7010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(11 01 01 00 10 11 11 10) = 1101 001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38862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coding of our code is provided by inverting the inputs and outputs of the Mealy machine for the encoding pro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see by our Mealy machine for decoding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404D-68FE-4586-A6C1-A8C6B23AA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3657600" y="5638320"/>
            <a:ext cx="4114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(00 10 11 11) = 100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6" descr="C:\wpdocs\Julie\ECOA 2e\Ch3\PPTs\Fig_3-37_ECOA2E_ppt.tif"/>
          <p:cNvPicPr/>
          <p:nvPr/>
        </p:nvPicPr>
        <p:blipFill>
          <a:blip r:embed="rId1"/>
          <a:srcRect l="3123" t="9291" r="6056" b="1509"/>
          <a:stretch/>
        </p:blipFill>
        <p:spPr>
          <a:xfrm>
            <a:off x="3962520" y="1447920"/>
            <a:ext cx="4952880" cy="39621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t another way of looking at the decoding process is through a lattice dia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have plotted the state transitions based on the input (top) and showing the output at the bottom for the string 00 10 11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2D73-E746-4BE6-8D59-DC7E3AE3F1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031" descr="C:\idraw20\2A.TIF"/>
          <p:cNvPicPr/>
          <p:nvPr/>
        </p:nvPicPr>
        <p:blipFill>
          <a:blip r:embed="rId1"/>
          <a:stretch/>
        </p:blipFill>
        <p:spPr>
          <a:xfrm>
            <a:off x="6095880" y="2133720"/>
            <a:ext cx="1809720" cy="2073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44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ruth table for the Boolean NOT operator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NOT operation is most often designated by an overbar. It is sometimes indicated by a prime mark ( ‘ ) or an “elbow” (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87B9-DBB9-46A6-BA2E-D3CF99651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9" descr="C:\wpdocs\Julie\ECOA 2e\Ch3\PPTs\Fig_3-38_ECOA2E_ppt.tif"/>
          <p:cNvPicPr/>
          <p:nvPr/>
        </p:nvPicPr>
        <p:blipFill>
          <a:blip r:embed="rId1"/>
          <a:stretch/>
        </p:blipFill>
        <p:spPr>
          <a:xfrm>
            <a:off x="3733920" y="1447920"/>
            <a:ext cx="5110200" cy="419076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6 Sequential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4267080" y="5714280"/>
            <a:ext cx="4114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ourier New"/>
              </a:rPr>
              <a:t>F(00 10 11 11) = 1001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3657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receive the erroneous string: 10 10 11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have plotted the accumulated errors  based on the allowable transi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th of least error outputs 1001, thus 1001 is the string of        maximum likelih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17D0-7CD5-4DF7-8635-A1617341A3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7 Designing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seen digital circuits from two points of view: digital analysis and digital synthes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gital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lores the relationship between a circuits inputs and its outpu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gital synthe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reates logic diagrams using the values specified in a truth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systems designers must also be mindful of the physical behaviors of circuits to include minute propagation delays that occur between the time when a circuit’s inputs are energized and when the output is accurate and sta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68D8-5252-4934-A9C1-92138C4111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7 Designing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designers rely on specialized software to create efficient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us, software is an enabler for the construction of better hard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course, software is in reality a collection of algorithms that could just as well be implemented in hard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all the Principle of Equivalence of Hardware and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2186-27BB-4248-B834-19D0AE42F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7 Designing Circui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When we need to implement a simple, specialized algorithm and its execution speed must be as fast as possible, a hardware solution is often preferred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s is the idea behind </a:t>
            </a:r>
            <a:r>
              <a:rPr b="0" i="1" lang="en-US" sz="2500" spc="-1" strike="noStrike">
                <a:solidFill>
                  <a:srgbClr val="000000"/>
                </a:solidFill>
                <a:latin typeface="Arial"/>
              </a:rPr>
              <a:t>embedded systems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, which are small special-purpose computers that we find in many everyday thing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mbedded systems require special programming that demands an understanding of the operation of digital circuits, the basics of which you have learned in this chapte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A19F-5D73-406F-94BF-6B0852F7A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267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are implementations of Boolean log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olean functions are completely described by truth tab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gic gates are small circuits that implement Boolean operator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sic gates are AND, OR, and NO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OR gate is very useful in parity checkers and ad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“universal gates” are NOR, and N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A1F-D7CF-47D1-94A9-96A31A1E6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circuits consist of combinational logic circuits and sequential logic circu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ational circuits produce outputs (almost) immediately when their inputs chan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quential circuits require clocks to control their changes of sta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asic sequential circuit unit is the flip-flop: The behaviors of the SR, JK, and D flip-flops are the most important to kn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1CB2-2982-4F6D-A555-B3005478B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ehavior of sequential circuits can be expressed using characteristic tables or through various finite state mach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re and Mealy machines are two finite state machines that model high-level circuit behavio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hmic state machines are better than Moore and Mealy machines at expressing timing and complex signal intera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 of sequential circuits include memory, counters, and Viterbi encoders and decod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3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E6CF-1005-4B13-8EAD-992D5B5F3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3E6D7-718B-49B6-9EAD-2C66728E6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oolean function h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Boolean variab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Boolean operator,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least one input from the set {0,1}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produces an output that is also a member of the set {0,1}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2438280" y="4723200"/>
            <a:ext cx="556272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Now you know why the binary numbering system is so handy in digital system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37BD-90DF-4BE9-89C6-2FDAB1F0D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103" descr="C:\idraw20\3B.TIF"/>
          <p:cNvPicPr/>
          <p:nvPr/>
        </p:nvPicPr>
        <p:blipFill>
          <a:blip r:embed="rId1"/>
          <a:stretch/>
        </p:blipFill>
        <p:spPr>
          <a:xfrm>
            <a:off x="4826160" y="1676520"/>
            <a:ext cx="4012920" cy="3593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3.2 Boolean Algebr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2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truth table for the Boolean function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shown at the right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o make evaluation of the Boolean function easier, the truth table contains extra (shaded) columns to hold evaluations of subparts of the func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102" descr="C:\idraw20\3A.TIF"/>
          <p:cNvPicPr/>
          <p:nvPr/>
        </p:nvPicPr>
        <p:blipFill>
          <a:blip r:embed="rId2"/>
          <a:stretch/>
        </p:blipFill>
        <p:spPr>
          <a:xfrm>
            <a:off x="1143000" y="2554200"/>
            <a:ext cx="322740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John MacCormick</cp:lastModifiedBy>
  <dcterms:modified xsi:type="dcterms:W3CDTF">2008-10-02T14:23:52Z</dcterms:modified>
  <cp:revision>273</cp:revision>
  <dc:subject/>
  <dc:title>Chapter 2</dc:title>
</cp:coreProperties>
</file>