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0B7F-FDD8-4C16-B4C1-96C5CF86AD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4994-2F6F-4A57-A6A0-00C4F65BD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C0EC-3378-4B84-826A-00C948298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256C2-CA7C-44D4-9DFC-B70522CFC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F387-B822-49F7-B6B3-7BD1B8BC2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1A30-282B-441C-8277-1BF512934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B3EC-6F62-44BB-B994-F406A09A69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19DF-4D90-45F3-9CC6-C20B0F6B6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BEF2-E152-4B82-930E-F16E76A87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F3EB-88E8-40C5-A751-EEC47D124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40FE-C233-44A6-B021-7851D61740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B342-6B64-4AB9-9026-E4D6CB9F77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F36C-8877-4AF8-A8FC-91CF7E8D48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27D6-AE02-41B5-B208-7670A4ABAA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A744-4E61-4F28-B6BC-AFD323EDC4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ACFE-0E5A-4BDC-AD06-987EDBBAF5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4EF6-BB28-4C97-861C-0F661F58D6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7939-36FE-432A-AB88-DFAEFEF57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33CE-A1C6-4AD5-A466-3C6F5CA1A3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DFD1-EB19-4B65-A743-9FC56EEB2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3536-002E-400D-A13B-4CBDCCFDF6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C733-DE0C-4DFB-BC6C-FFF5C33459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B936E-7B07-4B46-9C76-2F853913C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09466-FD77-4379-BA10-26B94A95C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5FA2-C3CD-4001-B118-ECFA9D9E23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FBDA-83B0-41E1-9088-7E74511A4A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E403-4FB0-4042-A5F1-69DBA72041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D5CF-E3F5-44FF-8DB3-0ED0E1DF69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8A77-639E-4286-AC4B-1242057C0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23CE-E4E1-46C8-9830-45EFE2CF6C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D5563-B866-46F4-A2EC-8A3F40161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62C1-3B2D-4EF6-AA64-999C0C22B8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1F7FC-1287-4388-BEEC-F9C07AFAD6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50BB-50B1-4A6A-8F34-C80A610D5E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893F-304B-496D-BF58-402AA9988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F56AE-A21D-40F9-ADEB-C7571D619E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8E80-520A-438E-83A0-99A79F194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6117-C9EC-435A-9AB3-A9109F853E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6C16-EAE8-4E92-8FC9-BBCAB47BA0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64F4-D8AA-4A91-ABCD-52CD9DC4A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8F744-4813-44A4-8060-E45ADB81B6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0643-135A-433D-B1F1-A8C2ACEBA4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5996-DDD5-45AB-918D-CD86DC8580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6C196-3343-4979-A5FA-05C4FFAE5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54829-3813-427B-B0A6-A93356FBB3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6A77-A29B-442A-8C41-35ECC6F39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CB32-E57D-4545-AE12-8DDFD2053A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2DFB-CB9F-483D-8349-398AB2CFB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80BB-3D35-436C-B36A-5227A88357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0B3A-B183-4ED6-B284-421220F18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0A9E-1C16-4DE7-BC05-1BEBA8226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8CFE-BF8F-4D09-A444-C7CC501B7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E1D2-F8C7-4FF8-A1D7-EC20E72330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A467-BF1D-4D1B-88A2-253095C31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8B83-1FC7-474F-8CE1-B77A07AE4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2E2DC-7BC7-4C1C-AF8F-99F86B167C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B4A5-A3B1-44AC-8696-1CA4BDC42A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7A02-FFF6-4765-B146-AECFDFF7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52C-4856-4C8F-9DF3-D7E1DA4D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537-AC04-428A-A1B9-87477116C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C3CE-4C40-4815-A510-6DB63F41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447E-308E-4097-B015-593FE30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0709-D773-429E-9F18-04AE4130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8508-82E2-45B7-B717-560B14A7D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DA81-A977-41CE-8D97-1DFF14C56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222-67F8-4C9E-90E4-58040A43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B2C-21E6-407E-927A-4160808F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8616-1ABE-4706-AED7-57A738F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BB2E-7413-4F57-81C7-4C20AC1E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CEB0-6BDE-4BB8-B90D-B2D216073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62520" y="373392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47960" y="4723920"/>
            <a:ext cx="38098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4958-A986-4B1E-A10B-947C7F84E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asures of time and space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li- (m) = 1 thousand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-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1 m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o- (n) = 1 b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o- (p) = 1 tr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to- (f) = 1 quadr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o- (a) = 1 quint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pto- (z) = 1 sext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cto- (y) = 1 septillionth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-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EFD9-CAC2-4708-A451-75C61DCA3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second =  1 thousandth of a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disk drive access times are often 10 to 20 milli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nosecond = 1 billionth of a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 access times are often 50 to 70 nanoseco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n (micrometer) = 1 millionth of a 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its on computer chips are measured in micr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1D32-2EE6-4E55-8641-FA5A92913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 note that cycle time is the reciprocal of clock frequenc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us operating at 133MHz has a cycle time of 7.52 nanosecond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429000" y="5180400"/>
            <a:ext cx="4876920" cy="459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Now back to the advertisement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990720" y="3855240"/>
            <a:ext cx="7315200" cy="581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3,000,000 cycles/second  =  7.52ns/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2D5A-C0DC-4FC0-8AF0-C20D6ADAF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8" descr="C:\wpdocs\Julie\ECOA 2e\Ch01\Ppt\Ad1.TIF"/>
          <p:cNvPicPr/>
          <p:nvPr/>
        </p:nvPicPr>
        <p:blipFill>
          <a:blip r:embed="rId1"/>
          <a:srcRect l="0" t="0" r="24570" b="-960"/>
          <a:stretch/>
        </p:blipFill>
        <p:spPr>
          <a:xfrm>
            <a:off x="762120" y="1371600"/>
            <a:ext cx="8001000" cy="4626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2"/>
          <p:cNvSpPr/>
          <p:nvPr/>
        </p:nvSpPr>
        <p:spPr>
          <a:xfrm>
            <a:off x="76320" y="1447920"/>
            <a:ext cx="5486400" cy="45720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5334120" y="3048120"/>
            <a:ext cx="3504960" cy="29718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4"/>
          <p:cNvSpPr/>
          <p:nvPr/>
        </p:nvSpPr>
        <p:spPr>
          <a:xfrm>
            <a:off x="4724280" y="2362320"/>
            <a:ext cx="1067040" cy="15228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5"/>
          <p:cNvSpPr/>
          <p:nvPr/>
        </p:nvSpPr>
        <p:spPr>
          <a:xfrm flipV="1">
            <a:off x="5562720" y="3047760"/>
            <a:ext cx="838080" cy="160020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6858000" y="2743200"/>
            <a:ext cx="1981080" cy="3808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90920" y="4598640"/>
            <a:ext cx="531792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ystem bus moves data within the computer.  The faster the bus the better.  This one runs at 400M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304920" y="1550160"/>
            <a:ext cx="4952880" cy="155700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croprocessor is the “brain” of the system.  It executes program instructions.  This one is a Pentium (Intel) running at 4.20G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5486400" y="1447920"/>
            <a:ext cx="3352680" cy="9144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41BB-D807-4A26-9B6C-7476F57D7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with large main memory capacity can run larger programs with greater speed than computers having small memo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M is an acronym for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andom access memo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  Random access means that memory contents can be accessed directly if you know its lo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che is a type of temporary memory that can be accessed faster than RA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F585-C084-47AD-AF3E-D37DDE974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6" descr="C:\wpdocs\Julie\ECOA 2e\Ch01\Ppt\Ad1.TIF"/>
          <p:cNvPicPr/>
          <p:nvPr/>
        </p:nvPicPr>
        <p:blipFill>
          <a:blip r:embed="rId1"/>
          <a:srcRect l="0" t="6827" r="19852" b="0"/>
          <a:stretch/>
        </p:blipFill>
        <p:spPr>
          <a:xfrm>
            <a:off x="457200" y="1371600"/>
            <a:ext cx="8458200" cy="4249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76320" y="1447920"/>
            <a:ext cx="5486400" cy="45720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334120" y="3048120"/>
            <a:ext cx="3504960" cy="28954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6019920" y="2971800"/>
            <a:ext cx="380880" cy="129528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5486400" y="1447920"/>
            <a:ext cx="3352680" cy="8380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1523880" y="4238280"/>
            <a:ext cx="7162920" cy="12520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wo levels of cache memory, the level 1 (L1) cache is smaller and (probably) faster than the L2 cache.  Note that these cache sizes are measured in KB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5334120" y="1600200"/>
            <a:ext cx="1066680" cy="99072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5029200" y="2286000"/>
            <a:ext cx="1295280" cy="22860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762120" y="1550520"/>
            <a:ext cx="434340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ystem has 256MB of (fast) synchronous dynamic RAM (SDRAM)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4F75-F387-4469-B631-BB565BCF5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13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76320" y="1447920"/>
            <a:ext cx="3886200" cy="45720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657600" y="3352680"/>
            <a:ext cx="5486400" cy="259092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3886200" y="3352680"/>
            <a:ext cx="457200" cy="106704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886200" y="1447920"/>
            <a:ext cx="5029200" cy="15238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523880" y="4160160"/>
            <a:ext cx="6934320" cy="155700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can store 80GB.  7200 RPM is the rotational speed of the disk.  Generally, the faster a disk rotates, the faster it can deliver data to RAM.  (There are many other factors involve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28600" y="1190160"/>
            <a:ext cx="4114800" cy="12520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disk capacity determines the amount of data and size of programs you can sto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854D-FF96-4497-9ED7-B7B98CC8E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6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0" y="1447920"/>
            <a:ext cx="3886200" cy="45720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5943600" y="3276720"/>
            <a:ext cx="2971800" cy="26668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581280" y="1447920"/>
            <a:ext cx="5334120" cy="15238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553080" y="2819520"/>
            <a:ext cx="2362320" cy="4572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5867280" y="2895480"/>
            <a:ext cx="1219320" cy="38124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3962520" y="2590920"/>
            <a:ext cx="1295280" cy="45720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7"/>
          <p:cNvSpPr/>
          <p:nvPr/>
        </p:nvSpPr>
        <p:spPr>
          <a:xfrm>
            <a:off x="3505320" y="4114800"/>
            <a:ext cx="2971800" cy="18288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228600" y="1418760"/>
            <a:ext cx="7010280" cy="12520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A stands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anced technology attach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hich describes how the hard disk interfaces with (or connects to) other system component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8"/>
          <p:cNvSpPr/>
          <p:nvPr/>
        </p:nvSpPr>
        <p:spPr>
          <a:xfrm>
            <a:off x="3809880" y="3352680"/>
            <a:ext cx="2971800" cy="38124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752480" y="4903560"/>
            <a:ext cx="678204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D can store about 650MB of data. This drive supports rewritable CDs, CD-RW, that can be written to many times..  48x describes its sp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"/>
          <p:cNvSpPr/>
          <p:nvPr/>
        </p:nvSpPr>
        <p:spPr>
          <a:xfrm flipH="1" flipV="1">
            <a:off x="4343040" y="4190760"/>
            <a:ext cx="152280" cy="53316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6139-E34F-4DE9-AA62-A5692D50A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3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76320" y="1447920"/>
            <a:ext cx="3809880" cy="44193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886200" y="3657600"/>
            <a:ext cx="4952880" cy="220968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6"/>
          <p:cNvSpPr/>
          <p:nvPr/>
        </p:nvSpPr>
        <p:spPr>
          <a:xfrm flipV="1">
            <a:off x="3124080" y="3657240"/>
            <a:ext cx="1143000" cy="152388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733920" y="1447920"/>
            <a:ext cx="5105160" cy="18288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362320" y="5056200"/>
            <a:ext cx="2438280" cy="8254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ystem has ten 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52280" y="1245960"/>
            <a:ext cx="434340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low movement of data between a system and its external de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F2B0-129F-4C0E-8BBD-E7EAFF5D1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685800" y="1676520"/>
            <a:ext cx="777240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ial ports send data as a series of pulses along one or two data l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ports send data as a single pulse along at least eight data lin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B, Universal Serial Bus, is an intelligent serial interface that is self-configuring.  (It supports “plug and play.”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E94BD-4630-4743-B21C-71C443208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380880"/>
            <a:ext cx="57150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hapter 1 Objectiv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6483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the difference between computer organization and computer archite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units of measure common to comput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reciate the evolution of compu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stand the computer as a layered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able to explain the von Neumann architecture and the function of basic computer com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F4A1-1E45-43DA-8419-07995D993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0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76320" y="1447920"/>
            <a:ext cx="3886200" cy="44193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733920" y="1447920"/>
            <a:ext cx="5105160" cy="25905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28600" y="1703160"/>
            <a:ext cx="495288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buses can be augmented by dedicated I/O buses.  PCI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eripheral component interf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is one such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809880" y="4876920"/>
            <a:ext cx="5105520" cy="91440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6"/>
          <p:cNvSpPr/>
          <p:nvPr/>
        </p:nvSpPr>
        <p:spPr>
          <a:xfrm flipV="1">
            <a:off x="2514600" y="4571640"/>
            <a:ext cx="1371600" cy="60948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304920" y="5238720"/>
            <a:ext cx="5638680" cy="8254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ystem has three PCI devices: a video card, a sound card, and a data/fax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D1F3-7F67-4733-950B-9FFCC34F2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12" descr="C:\wpdocs\Julie\ECOA 2e\Ch01\Ppt\Ad1.TIF"/>
          <p:cNvPicPr/>
          <p:nvPr/>
        </p:nvPicPr>
        <p:blipFill>
          <a:blip r:embed="rId1"/>
          <a:srcRect l="11650" t="6827" r="4490" b="0"/>
          <a:stretch/>
        </p:blipFill>
        <p:spPr>
          <a:xfrm>
            <a:off x="304920" y="1523880"/>
            <a:ext cx="8534160" cy="4097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76320" y="1447920"/>
            <a:ext cx="3886200" cy="44193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733920" y="1447920"/>
            <a:ext cx="5105160" cy="21333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04920" y="1220400"/>
            <a:ext cx="6629400" cy="119124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times per second that the image on a monitor is repainted is it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fresh rat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t pi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monitor tells us how clear the image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2590920" y="2819520"/>
            <a:ext cx="1371600" cy="76176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380880" y="2617920"/>
            <a:ext cx="8305920" cy="45972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has a dot pitch of 0.24mm and a refresh rate of 75Hz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3886200" y="4419720"/>
            <a:ext cx="5105520" cy="1447560"/>
          </a:xfrm>
          <a:prstGeom prst="rect">
            <a:avLst/>
          </a:prstGeom>
          <a:solidFill>
            <a:srgbClr val="d2fd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0"/>
          <p:cNvSpPr/>
          <p:nvPr/>
        </p:nvSpPr>
        <p:spPr>
          <a:xfrm flipV="1">
            <a:off x="3048120" y="4266720"/>
            <a:ext cx="838080" cy="1143000"/>
          </a:xfrm>
          <a:prstGeom prst="line">
            <a:avLst/>
          </a:prstGeom>
          <a:ln w="4752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1143000" y="5208480"/>
            <a:ext cx="5486400" cy="825480"/>
          </a:xfrm>
          <a:prstGeom prst="rect">
            <a:avLst/>
          </a:prstGeom>
          <a:solidFill>
            <a:srgbClr val="fce9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ideo card contains memory and programs that support the monitor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AA11-D1D6-4B1E-9B3C-6AA4CDC37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7467480" cy="175284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out the remainder of this book you will see how these components work and how they interact with software to make complete computer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1295280" y="3504240"/>
            <a:ext cx="7162920" cy="45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statement raises two important ques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1828800" y="4033440"/>
            <a:ext cx="6172200" cy="1709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What assurance do we have that computer components will operate as we expec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And what assurance do we have that computer components will operate togeth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8475-2F98-455E-A9AC-E511EAB65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are many organizations that set computer hardware standards-- to include the interoperability of computer component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oughout this book, and in your career, you will encounter many of th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of the most important standards-setting groups are . . 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4 Standards Organiz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E72F-783A-41B4-A58A-4DAFC4070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620120" cy="3276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stitute of Electrical and Electronic Engineers (IEEE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motes the interests of the worldwide electrical engineering commun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ablishes standards for computer components, data representation, and signaling protocols, among many other thing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4 Standards Organiz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452F-A6A6-49BD-B9AD-5663E4AC8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792468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ational Telecommunications Union (IT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cerns itself with the interoperability of telecommunications systems, including data communications and telephon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ional groups establish standards within their respective countri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merican National Standards Institute (ANS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7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British Standards Institution (BSI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4 Standards Organiz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07A1-943A-49D5-B459-438C15CF8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7543800" cy="3276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ternational Organization for Standardization (IS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tablishes worldwide standards for everything from screw threads to photographic fil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s influential in formulating standards for computer hardware and software, including their methods of manufa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914400" y="4951800"/>
            <a:ext cx="647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Note: ISO is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an acronym. ISO comes from the Gree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         </a:t>
            </a:r>
            <a:r>
              <a:rPr b="0" i="1" lang="en-US" sz="2000" spc="-1" strike="noStrike">
                <a:solidFill>
                  <a:srgbClr val="990000"/>
                </a:solidFill>
                <a:latin typeface="Times New Roman"/>
              </a:rPr>
              <a:t>isos,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meaning “equal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4 Standards Organizati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EC389-AEC6-4021-8B05-BD7793CCF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809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 fully appreciate the computers of today, it is helpful to understand how things got the way they 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volution of computing machinery has taken place over several centu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modern times computer evolution is usually classified into four generations according to the salient technology of the er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1676520" y="556164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e note that many of the following dates are approxim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D625-2F59-466C-A490-2D19949CB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153640" cy="3809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neration Zero: Mechanical Calculating Machines (1642 - 194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lculating Clock - Wilhelm Schickard (1592 - 1635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ascaline - Blaise Pascal (1623 - 1662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fference Engine - Charles Babbage (1791 - 1871), also designed but never built the Analytical Eng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unched card tabulating machines - Herman Hollerith (1860 - 1929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666880" y="5256720"/>
            <a:ext cx="5257800" cy="7038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Hollerith cards were commonly used for computer input well into the 197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7371-D5CE-4B5B-ADE5-1EC125C98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Generation: Vacuum Tube Computers (1945 - 195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057040" y="2514240"/>
            <a:ext cx="6095880" cy="24382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anasoff Berry Computer (1937 - 1938)  solved systems of linear equa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hn Atanasoff and Clifford Berry of  Iowa State Universi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10" descr="C:\wpdocs\Julie\Org&amp;Arch\PPT_Master\TUBE1.JPG"/>
          <p:cNvPicPr/>
          <p:nvPr/>
        </p:nvPicPr>
        <p:blipFill>
          <a:blip r:embed="rId1"/>
          <a:stretch/>
        </p:blipFill>
        <p:spPr>
          <a:xfrm>
            <a:off x="609480" y="2666880"/>
            <a:ext cx="1478160" cy="3276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3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6208-7E88-4F04-9618-9E0487B10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hy study computer organization and architecture?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better programs, including system software such as compilers, operating systems, and device driv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e program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e (benchmark) computer system perform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stand time, space, and price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594360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1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A69-23AC-45EC-A94C-0E08E948F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14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Generation: Vacuum Tube Computers (1945 - 195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18960" y="2666520"/>
            <a:ext cx="6553080" cy="2133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ectronic Numerical Integrator and Computer (ENIAC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ohn Mauchly and J. Presper Ecker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versity of Pennsylvania, 194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609480" y="4724280"/>
            <a:ext cx="7086600" cy="885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06440" indent="-300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NIAC was the first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general-purpos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98B1-09E8-4B2A-9646-E00422700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irst Generation: Vacuum Tube Computers (1945 - 1953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BM 650 first mass-produced computer. (195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imes New Roman"/>
              <a:buChar char="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 was phased out in 196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major computer manufacturers of this period include UNIVAC, Engineering Research Associates (ERA), and Computer Research Corporation (CRC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VAC and ERA were bought by Remington Rand, the ancestor of the Unisys Corpora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89"/>
              </a:spcBef>
              <a:buClr>
                <a:srgbClr val="000000"/>
              </a:buClr>
              <a:buFont typeface="Times New Roman"/>
              <a:buChar char="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C was bought by the Underwood (typewriter) Corporation, which left the computer busines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DCF6-52D0-4F33-8B2D-7EBF4591A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914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econd Generation: Transistorized Computers (1954 - 196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94920" y="2590920"/>
            <a:ext cx="7239240" cy="25905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BM 7094 (scientific) and 1401 (busines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gital Equipment Corporation (DEC) PDP-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ivac 11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 Data Corporation 160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. . and many oth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7" descr="C:\wpdocs\Julie\Org&amp;Arch\Ch1\TRANS.JPG"/>
          <p:cNvPicPr/>
          <p:nvPr/>
        </p:nvPicPr>
        <p:blipFill>
          <a:blip r:embed="rId1"/>
          <a:srcRect l="8514" t="0" r="0" b="0"/>
          <a:stretch/>
        </p:blipFill>
        <p:spPr>
          <a:xfrm>
            <a:off x="304920" y="2514600"/>
            <a:ext cx="1293840" cy="21337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3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1219320" y="5409360"/>
            <a:ext cx="6095880" cy="39888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These systems had few architectural similarit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13D1-AB6B-44ED-BC32-327F60E47E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848360" cy="4495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Third Generation: Integrated Circuit Computers (1965 - 1980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BM 3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 PDP-8 and PDP-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ay-1 super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. . . and many oth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is time, IBM had gained overwhelming dominance in the indust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uter manufacturers of this era were characterized as IBM and the BUNCH (Burroughs, Unisys, NCR, Control Data, and Honeywell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5E5D7-A18C-4E68-8AA3-E94F7F71C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391520" cy="914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Fourth Generation: VLSI Computers (1980 - ????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2514240"/>
            <a:ext cx="8001000" cy="2971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ery large scale integrated circuits (VLSI) have more than 10,000 components per chi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abled the creation of   microprocess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first was the 4-bit Intel 4004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ter versions, such as the 8080, 8086, and 8088 spawned the idea of “personal computing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B31E-1A07-47F6-9D04-930C3ABA3E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848720" cy="36576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ore’s Law (1965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Gordon Moore, Intel found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density of transistors in an integrated circuit will double every year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mporary version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density of silicon chips doubles every 18 month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0"/>
          <p:cNvSpPr/>
          <p:nvPr/>
        </p:nvSpPr>
        <p:spPr>
          <a:xfrm>
            <a:off x="2666880" y="5180400"/>
            <a:ext cx="5639040" cy="45972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But this “law” cannot hold forev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72AF-EEE3-433D-A056-0E9E070CD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848720" cy="26668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ck’s La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rthur Rock, Intel financi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ost of capital equipment to build semiconductors will double every four year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1968, a new chip plant cost about $12,000. 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057400" y="4315320"/>
            <a:ext cx="5867280" cy="13770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t the time, $12,000 would buy a nice home in the suburb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An executive earning $12,000 per year was “making a very comfortable living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97FA-C374-483C-937A-A8FEB20F7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46784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ck’s Law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2005, a chip plants under construction cost over $2.5 bill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r Moore’s Law to hold, Rock’s Law must fall, or vice versa.  But no one can say which will give out first.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133720" y="3243600"/>
            <a:ext cx="5638680" cy="131364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$2.5 billion is more than the gross domestic product of some small countries, including Belize, Bhutan, and the Republic of Sierra Le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684360" y="382320"/>
            <a:ext cx="624816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5 Historical Develop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4150-9621-4B5E-9C37-C489CCEA6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76201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uters consist of many things besides chip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 a computer can do anything worthwhile, it must also use soft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ing complex programs requires a “divide and conquer” approach, where each program module solves a smaller probl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computer systems employ a similar technique through a series of virtual machine lay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E078-68F9-40BB-9D67-1CED28DE4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40388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ach virtual machine layer is an abstraction of the level below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machines at each level execute their own particular instructions, calling upon machines at lower levels to perform tasks as requir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puter circuits ultimately carry out the work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6" descr="C:\wpdocs\Julie\Org&amp;Arch\Ch1\WorkingFiles\Layers.tif"/>
          <p:cNvPicPr/>
          <p:nvPr/>
        </p:nvPicPr>
        <p:blipFill>
          <a:blip r:embed="rId1"/>
          <a:stretch/>
        </p:blipFill>
        <p:spPr>
          <a:xfrm>
            <a:off x="4600440" y="1479600"/>
            <a:ext cx="4314960" cy="4768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3D07-BF78-4EC2-ACCB-478BE3AA2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2320"/>
            <a:ext cx="5943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1 Overview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3434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r organizat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ompasses all physical aspects of computer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ircuit design, control signals, memory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does a computer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uter architectur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al aspects of system implementation as seen by the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instruction sets, instruction formats, data types, addressing mo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do I design a compu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F17D-2892-4CC8-B960-38FA32D41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80010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6: The User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gram execution and user interface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level with which we are most familia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5: High-Level Languag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level with which we interact when we write programs in languages such as C, Pascal, Lisp, and Jav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92FE-F5D7-4168-914B-EDCFC0957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75438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4: Assembly Languag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s upon assembly language produced from Level 5, as well as instructions programmed directly at this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3: System Softwar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s executing processes on the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tects system resourc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sembly language instructions often pass through Level 3 without modific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0B2F-862B-4F29-9289-DCCA11ABB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46784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2: Mach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so known as the Instruction Set Architecture (ISA)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sists of instructions that are particular to the architecture of the machin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3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ograms written in machine language need no compilers, interpreters, or assembl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405F-A2E2-466F-A9E8-4C95F48E3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1: Control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decodes and executes instructions and moves data through the syste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ntrol units can b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microprogramm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hardwired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microprogram is a program written in a low-level language that is implemented by the hardwa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Hardwired control units consist of hardware that directly executes machine instruc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5790-FF72-41E4-BB00-36C570BD7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467840" cy="2971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0: Digital Logic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s level is where we find digital circuits (the chips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gital circuits consist of gates and wi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se components implement the mathematical logic of all other leve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152280" y="382320"/>
            <a:ext cx="73915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6 The Computer Level Hierarch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FDEA-5A34-4211-B906-5BECBFACA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09120" y="1447920"/>
            <a:ext cx="7543800" cy="31240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ENIAC, all programming was done at the digital logic leve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ing the computer involved moving plugs and wir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ifferent hardware configuration was needed to solve every unique problem typ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143000" y="4799520"/>
            <a:ext cx="6629400" cy="703800"/>
          </a:xfrm>
          <a:prstGeom prst="rect">
            <a:avLst/>
          </a:prstGeom>
          <a:solidFill>
            <a:srgbClr val="e2fe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Configuring the ENIAC to solve a “simple” problem required many days labor  by skilled technicia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16FC-18EF-4DFC-92D1-67FD1C6CE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39152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ntors of the ENIAC, John Mauchley and   J. Presper Eckert, conceived of a computer that could store instructions in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invention of this idea has since been ascribed to a mathematician, John von Neumann, who was a contemporary of Mauchley and Ecke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ored-program computers have become known as von Neumann Architecture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C9E4-4073-4959-B111-0B51CB48B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6479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day’s stored-program computers have the following characteristic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ree hardware systems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entral processing unit (CP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in memory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/O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capacity to carry out sequential instruction process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 single data path between the CPU and main memor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ingle path is known a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on Neumann bottlen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3C4B-4FCD-47EF-A3F4-8ADC31881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2971800" cy="335268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s a general depiction of a von Neumann syste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se computers employ a fetch-decode-execute cycle to run programs as follows . . 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4" descr="C:\wpdocs\Julie\Org&amp;Arch\Ch1\WorkingFiles\ALU.TIF"/>
          <p:cNvPicPr/>
          <p:nvPr/>
        </p:nvPicPr>
        <p:blipFill>
          <a:blip r:embed="rId1"/>
          <a:stretch/>
        </p:blipFill>
        <p:spPr>
          <a:xfrm>
            <a:off x="3581280" y="1752480"/>
            <a:ext cx="5257800" cy="41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C67B-165B-449C-BA5F-18D133FF7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6" descr="C:\wpdocs\Julie\Org&amp;Arch\Ch1\WorkingFiles\ALU1.TIF"/>
          <p:cNvPicPr/>
          <p:nvPr/>
        </p:nvPicPr>
        <p:blipFill>
          <a:blip r:embed="rId1"/>
          <a:stretch/>
        </p:blipFill>
        <p:spPr>
          <a:xfrm>
            <a:off x="1600200" y="2666880"/>
            <a:ext cx="5667480" cy="3686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990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ntrol unit fetches the next instruction from memory using the program counter to determine where the instruction is locat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C51F-2509-4FC2-A590-B0122F884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2 Computer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re is no clear distinction between matters related to computer organization and matters relevant to computer archite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nciple of Equivalence of Hardware and Software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Arial"/>
              </a:rPr>
              <a:t>Anything that can be done with software can also be done with hardware, and anything that can be done with hardware can also be done with software.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066680" y="5715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Assuming speed is not a conce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B285-19F5-42AE-A542-A7F48E291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6" descr="C:\wpdocs\Julie\Org&amp;Arch\Ch1\WorkingFiles\ALU2.TIF"/>
          <p:cNvPicPr/>
          <p:nvPr/>
        </p:nvPicPr>
        <p:blipFill>
          <a:blip r:embed="rId1"/>
          <a:stretch/>
        </p:blipFill>
        <p:spPr>
          <a:xfrm>
            <a:off x="1598760" y="2668680"/>
            <a:ext cx="5667120" cy="368604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7621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instruction is decoded into a language that the ALU can understa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7ABA-2029-4B29-A185-B8B898BFC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5" descr="C:\wpdocs\Julie\Org&amp;Arch\Ch1\WorkingFiles\ALU3.TIF"/>
          <p:cNvPicPr/>
          <p:nvPr/>
        </p:nvPicPr>
        <p:blipFill>
          <a:blip r:embed="rId1"/>
          <a:stretch/>
        </p:blipFill>
        <p:spPr>
          <a:xfrm>
            <a:off x="1600200" y="2666880"/>
            <a:ext cx="5667480" cy="36864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990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y data operands required to execute the instruction are fetched from memory and placed into registers within the CP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7D06-6F0D-424E-BB88-2FC28E4A9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6" descr="C:\wpdocs\Julie\Org&amp;Arch\Ch1\WorkingFiles\ALU4.TIF"/>
          <p:cNvPicPr/>
          <p:nvPr/>
        </p:nvPicPr>
        <p:blipFill>
          <a:blip r:embed="rId1"/>
          <a:stretch/>
        </p:blipFill>
        <p:spPr>
          <a:xfrm>
            <a:off x="1600200" y="2666880"/>
            <a:ext cx="5657760" cy="36784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382320"/>
            <a:ext cx="61722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7 The von Neumann 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990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LU executes the instruction and places results in registers or memor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2D26-5462-4305-B1B2-0008692F6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3152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ventional stored-program computers have undergone many incremental improvements over the yea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improvements include adding specialized buses, floating-point units, and cache memories, to name only a few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enormous improvements in computational power require departure from the classic von Neumann archite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ing processors is one approach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8 Non-von Neumann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611E-8795-4EEC-B411-D5AD6BA45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3152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late 1960s, high-performance computer systems were equipped with dual processors to increase computational throughpu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1970s supercomputer systems were introduced with 32 process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ercomputers with 1,000 processors were built in the 1980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1999, IBM announced its Blue Gene system containing over 1 million processo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8 Non-von Neumann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08690-DB5D-46BB-9782-47957E1AC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73152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allel processing is only one method of providing increased computational pow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adical systems have reinvented the fundamental concepts of computati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advanced systems include genetic computers, quantum computers, and dataflow system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is point, it is unclear whether any of these systems will provide the basis for the next generation of comput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8 Non-von Neumann Model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F3FF-F636-43F3-A788-86C820CC8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315200" cy="335304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chapter has given you an overview of the subject of computer architectur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should now be sufficiently familiar with general system structure to guide your studies throughout the remainder of this cours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bsequent chapters will explore many of these topics in great detai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609480" y="382320"/>
            <a:ext cx="647712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9E2B-65D4-4A51-BA8D-A7B14D498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315200" cy="441972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the most basic level, a computer is a device consisting of three piece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cessor to interpret and execut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mory to store both data and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chanism for transferring data to and from the outside wor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2 Computer Compon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7B7E-3817-4072-8C1E-7B65DBBED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14" descr="C:\wpdocs\Julie\ECOA 2e\Ch01\Ppt\Ad1.TIF"/>
          <p:cNvPicPr/>
          <p:nvPr/>
        </p:nvPicPr>
        <p:blipFill>
          <a:blip r:embed="rId1"/>
          <a:srcRect l="0" t="0" r="1783" b="0"/>
          <a:stretch/>
        </p:blipFill>
        <p:spPr>
          <a:xfrm>
            <a:off x="304920" y="1981080"/>
            <a:ext cx="8381880" cy="36864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is advertise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8"/>
          <p:cNvSpPr/>
          <p:nvPr/>
        </p:nvSpPr>
        <p:spPr>
          <a:xfrm rot="20417400">
            <a:off x="6019920" y="1447560"/>
            <a:ext cx="190476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Hz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9"/>
          <p:cNvSpPr/>
          <p:nvPr/>
        </p:nvSpPr>
        <p:spPr>
          <a:xfrm rot="1054800">
            <a:off x="6857640" y="3123720"/>
            <a:ext cx="190512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B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10"/>
          <p:cNvSpPr/>
          <p:nvPr/>
        </p:nvSpPr>
        <p:spPr>
          <a:xfrm rot="20658600">
            <a:off x="3200040" y="4266720"/>
            <a:ext cx="190512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PCI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11"/>
          <p:cNvSpPr/>
          <p:nvPr/>
        </p:nvSpPr>
        <p:spPr>
          <a:xfrm rot="1396800">
            <a:off x="6934320" y="4800600"/>
            <a:ext cx="190476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USB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12"/>
          <p:cNvSpPr/>
          <p:nvPr/>
        </p:nvSpPr>
        <p:spPr>
          <a:xfrm rot="20080800">
            <a:off x="76320" y="2895120"/>
            <a:ext cx="2286000" cy="685800"/>
          </a:xfrm>
          <a:prstGeom prst="ellipse">
            <a:avLst/>
          </a:prstGeom>
          <a:solidFill>
            <a:srgbClr val="ffdd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1 Cache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295280" y="5774760"/>
            <a:ext cx="556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hat does it all mean?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1E46-9CC6-42AE-BEAB-D2623D6DD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Measures of capacity and speed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o- (K) = 1 thousand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ga- (M) = 1 m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ga- (G) = 1 b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a- (T) = 1 tr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a- (P) = 1 quadr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- (E) = 1 quint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tta- (Z) = 1 sext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tta- (Y) = 1 septillion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62120" y="5408640"/>
            <a:ext cx="739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Whether a metric refers to a power of ten or a power of two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Times New Roman"/>
              </a:rPr>
              <a:t>typically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 depends upon what is being meas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F394-CC7B-4038-86BF-99D7F4E11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solidFill>
            <a:srgbClr val="e4f5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ertz = clock cycles per second (frequency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Hz = 1,000,000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 speeds are measured in MHz or G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Byte = a unit of storag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KB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24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B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,048,576 By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 (RAM) is measured in 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storage is measured in GB for small systems, TB for large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4360" y="380880"/>
            <a:ext cx="624816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1.3 An Example Syst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3T00:07:56Z</dcterms:created>
  <dc:creator>Null &amp; Lobur</dc:creator>
  <dc:description>Copyright 2005</dc:description>
  <dc:language>en-US</dc:language>
  <cp:lastModifiedBy>John MacCormick</cp:lastModifiedBy>
  <dcterms:modified xsi:type="dcterms:W3CDTF">2008-07-25T20:01:26Z</dcterms:modified>
  <cp:revision>110</cp:revision>
  <dc:subject/>
  <dc:title>Chapter 1</dc:title>
</cp:coreProperties>
</file>