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6B5D-A9F6-4172-985B-43C3D05B0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384-5970-40CA-AD9F-EFC8C16C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072-0925-4397-BCB5-5DBB7897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17B3-1871-4A4B-AC24-EED8C7BC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1D6-5B72-4749-AB50-86159AF2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01F2-756A-4F96-B518-F6F25F05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5C9-967E-492C-9FAD-D87F4A9A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C4B-0739-4110-9D55-70AB22B3B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6C8A-EBD1-4A0D-8012-BD2880D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F4FF-EC66-482C-90F9-B7D8DE61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931-1FC9-49BF-BEC6-4C42DDE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5F0-3A2E-491B-9055-09737D6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D9EC-C270-4D41-BEDC-0E8C90340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76720" y="3809880"/>
            <a:ext cx="1218960" cy="30481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76360" y="4800600"/>
            <a:ext cx="5715000" cy="14479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lected Storage Systems and Inte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647960" y="3809520"/>
            <a:ext cx="4267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2D82-55F2-4292-9963-1970DD24E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interesting SAM serial protocols is the IEEE 1394 interface, which is also known as FireWi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394 isn’t just a storage interface, it is a peer-to-peer storage net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salient featur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6-conductor cable, 4 for data and control, 2 for po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15 feet of cable between each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63 daisy chained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of hot plug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5713920"/>
            <a:ext cx="6019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configu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4169-D042-4821-8D9C-CCD1B2F38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2895120"/>
            <a:ext cx="2971800" cy="1143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EEE 139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Config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7a_6" descr=""/>
          <p:cNvPicPr/>
          <p:nvPr/>
        </p:nvPicPr>
        <p:blipFill>
          <a:blip r:embed="rId2"/>
          <a:stretch/>
        </p:blipFill>
        <p:spPr>
          <a:xfrm>
            <a:off x="3581280" y="1447920"/>
            <a:ext cx="426240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B7D15-DCDE-4642-A2DB-9048327A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Fig_13-4_ECOA2E_ppt" descr=""/>
          <p:cNvPicPr/>
          <p:nvPr/>
        </p:nvPicPr>
        <p:blipFill>
          <a:blip r:embed="rId2"/>
          <a:srcRect l="2029" t="4340" r="1525" b="3076"/>
          <a:stretch/>
        </p:blipFill>
        <p:spPr>
          <a:xfrm>
            <a:off x="1752480" y="1446120"/>
            <a:ext cx="7010640" cy="4722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350496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IEEE 1394 protocol st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833E-949D-456C-B590-60F871B81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Storage Architecture (SSA) is now of interest only in a historical sen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early 1990s, SSA proved the superiority of serial protocols in high demand environ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SSA, peripheral devices in the data center were interconnected using parallel cabl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dual loop topology provided throughput at 40MBps (simplex) or 80MBps (duplex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409360"/>
            <a:ext cx="601992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configu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BBF5-61C9-406F-9801-928A37968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Fig_13-6_ppt" descr=""/>
          <p:cNvPicPr/>
          <p:nvPr/>
        </p:nvPicPr>
        <p:blipFill>
          <a:blip r:embed="rId2"/>
          <a:srcRect l="0" t="0" r="1131" b="0"/>
          <a:stretch/>
        </p:blipFill>
        <p:spPr>
          <a:xfrm>
            <a:off x="152280" y="1066680"/>
            <a:ext cx="79250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FE30-52D2-44CF-9B76-2627B5396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offered low attenuation over long cable runs, and was compatible with SCSI-2 comm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vices were self-managing. They could exchange data concurrently if there was bandwidth available between the dev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was no need to go through a h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was the most promising storage architecture of its day, but its day didn’t last lo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SA was soon replaced by much superior Fibre Channel technolog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215C-6241-4563-8516-71C9456F3C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295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is one the preferred storage interfaces employed by large data centers and server far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7a_8" descr=""/>
          <p:cNvPicPr/>
          <p:nvPr/>
        </p:nvPicPr>
        <p:blipFill>
          <a:blip r:embed="rId2"/>
          <a:stretch/>
        </p:blipFill>
        <p:spPr>
          <a:xfrm>
            <a:off x="2743200" y="2801880"/>
            <a:ext cx="6019920" cy="32259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62120" y="2587320"/>
            <a:ext cx="1981080" cy="23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connection topologies can be any of three types:  switched, point-to-point, or loop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7878-B667-48B2-BC1B-E8259C3E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5909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ost widely used form of Fibre Channel i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Fibre Channel Arbitrated Loop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FC-AL) in basic loop or switched hub configuration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witched hub configurations provide maximum throughput (100MBps over fiber) for a practically unlimited number of devices (up to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7a_8a" descr=""/>
          <p:cNvPicPr/>
          <p:nvPr/>
        </p:nvPicPr>
        <p:blipFill>
          <a:blip r:embed="rId2"/>
          <a:stretch/>
        </p:blipFill>
        <p:spPr>
          <a:xfrm>
            <a:off x="1066680" y="4071960"/>
            <a:ext cx="655812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114-424D-42CD-AF4E-FFF084C8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038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is as much of a data network protocol as it is a storage network protocol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lower three layers of its protocol stack (shown on the next slide) are the same for data networks and storage network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wing to its higher level protocol mappings, Fibre Channel networks do not require direct connection to a host and they can fit seamlessly into a data network 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4B95-0244-4855-8A4E-F5C91EDC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7a_9" descr=""/>
          <p:cNvPicPr/>
          <p:nvPr/>
        </p:nvPicPr>
        <p:blipFill>
          <a:blip r:embed="rId2"/>
          <a:srcRect l="0" t="0" r="2947" b="2763"/>
          <a:stretch/>
        </p:blipFill>
        <p:spPr>
          <a:xfrm>
            <a:off x="304920" y="1447920"/>
            <a:ext cx="7848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eciate the role of enterprise storage as a distinct architectural ent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and upon basic I/O concepts to include storage protoco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interplay between data communications and storage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familiar with a variety of widely installed I/O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C2D7-1F13-421E-A496-23DECDA2AB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5F6-84BC-4082-AB4F-730BA7158B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bre Channel components are costly and installation and maintenance of Fibre Channel systems requires specialized train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his, a number of alternatives are taking hold. One of the most widely deployed of these is Internet SCSI (iSCSI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eneral idea is to replace the SCSI bus with an Internet conne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C55C-F176-4B5F-B0DF-CF16572AE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353040" cy="3352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diagram illustrates how a traditional parallel SCSI system processes an I/O request made by a program running on a ho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Fig_13-10_ECOA2E_ppt" descr=""/>
          <p:cNvPicPr/>
          <p:nvPr/>
        </p:nvPicPr>
        <p:blipFill>
          <a:blip r:embed="rId2"/>
          <a:srcRect l="2110" t="4356" r="60992" b="5625"/>
          <a:stretch/>
        </p:blipFill>
        <p:spPr>
          <a:xfrm>
            <a:off x="4114800" y="1447920"/>
            <a:ext cx="3927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5858-1F01-404A-B2F5-320E6C4B4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895840" cy="2666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diagram illustrates how an iSCSI system processes an I/O requ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ig_13-10_ECOA2E_ppt" descr=""/>
          <p:cNvPicPr/>
          <p:nvPr/>
        </p:nvPicPr>
        <p:blipFill>
          <a:blip r:embed="rId2"/>
          <a:srcRect l="42936" t="4993" r="2893" b="6441"/>
          <a:stretch/>
        </p:blipFill>
        <p:spPr>
          <a:xfrm>
            <a:off x="3200400" y="1371600"/>
            <a:ext cx="548640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0063-9AE4-476D-907A-04B86EFA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2057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there is considerable overhead involved with traversing so many protocol lay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time a packet of SCSI data gets to the Internet, it is encapsulated in numerous PD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Fig_13-11_ECOA2E_ppt" descr=""/>
          <p:cNvPicPr/>
          <p:nvPr/>
        </p:nvPicPr>
        <p:blipFill>
          <a:blip r:embed="rId2"/>
          <a:stretch/>
        </p:blipFill>
        <p:spPr>
          <a:xfrm>
            <a:off x="2133720" y="3429000"/>
            <a:ext cx="434340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54EC-86FD-4658-A07F-D6A01A028C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deal with such heavy overhead, iSCSI systems incorporate special embedded processors called TCP offload engines (TOEs) to relieve the main processors of the protocol conversion 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vantage of iSCSI is that there are technically no distance limit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 use of the Internet to transfer sensitive data raises a number of security concerns that must be dealt with head 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8ADF-D826-47BF-B555-7E0014DA1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3 Internet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rganizations support both Fibre Channel and iSCSI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bre Channel systems are used for those storage arrays that support heavy transaction processing that requires excellent response ti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CSI arrays are used for user file storage that is tolerant of delays, or for long-distance data archiv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ne expects either technology to become obsolete anytime s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4464-D183-4D55-8570-15FDFD435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re Channel technology has enabled the development of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storage area network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SANs), which are designed specifically to support large pools of mass storag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are logical extensions of host storage buses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y type of host connected to the network has access to the same storage poo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s, servers, and mainframes all see the same storag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 storage pools can be miles distant from their hos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866560"/>
            <a:ext cx="4876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S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CE06-06C3-48DD-A588-5E5A5DEF0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13-13" descr=""/>
          <p:cNvPicPr/>
          <p:nvPr/>
        </p:nvPicPr>
        <p:blipFill>
          <a:blip r:embed="rId2"/>
          <a:stretch/>
        </p:blipFill>
        <p:spPr>
          <a:xfrm>
            <a:off x="457200" y="1025640"/>
            <a:ext cx="7596360" cy="55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9221D-592A-4DCB-9131-D14E2C0B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differ from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etwork attached storag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NAS) because they can be isolated from routine network traffi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olation facilitates storage management and enables various security metho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Ns have a lower protocol overhead than NAS because only the storage protocols are involv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S is gaining popularity because of lower costs for equipment and training of personnel, most of whom are familiar with data networking protocol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19520" y="5866560"/>
            <a:ext cx="4876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D6A2-246E-4FF6-9F79-2924A08692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FIG13-12" descr=""/>
          <p:cNvPicPr/>
          <p:nvPr/>
        </p:nvPicPr>
        <p:blipFill>
          <a:blip r:embed="rId2"/>
          <a:stretch/>
        </p:blipFill>
        <p:spPr>
          <a:xfrm>
            <a:off x="533520" y="990720"/>
            <a:ext cx="7386480" cy="56260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4 Storage Area Networ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A6D-8BCF-4774-BC7D-45DC6C3E2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6483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pter is a brief introduction to several important mass storag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.will encounter these ideas and architectures throughout your care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mands and expectations placed on storage have been growing exponenti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management presents an array of interesting problems, which are a subjects of ongoing resear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F6A33-0685-4C28-AC55-28C5BC74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 a number of popular I/O architectures that are outside the sphere of the SCSI-3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arallel I/O buses common in microcomputers are an examp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original IBM PC used an 8-bit PC/XT bus. It became an IEEE standard and was renamed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Industry Standard Architecture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(ISA)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bus eventually became a bottleneck in small computer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8EA-331D-4763-AF58-4CAD77FA2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ral improvements to the ISA bus have taken place over the yea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most popular is the AT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ariations to this bus include the AT Attachment (ATA), ATAPI, FastATA, and EID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oretically, ATA buses run as fast as 100MBps. Ultra ATA supports a burst transfer rate of 133MBp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buses are inexpensive and well supported in the industry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are, however, too slow for today’s syst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87C8-DDDB-40E7-82A7-CA7C60843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processor speeds continue to increase, even Ultra ATA cannot keep u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rthermore, these fast processors dissipate a lot of heat, which must be moved away from the CPU as quickly as possible. Fat parallel disk ribbon cables impede air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ial ATA (SATA) is one solution to these proble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present transfer rate is 300MBps (with faster rates expected soon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TA uses thin cables that operate with lower voltages and longer distan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8F70-4FDF-48A2-B38F-F5368F772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rial attached SCSI (SAS) is plug compatible with SAT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S also moves data at 300MBps, but unlike SATA, it can (theoretically) support 16,000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eripheral Component Interconnect (PCI) is yet another proposed replacement for the AT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a data bus replacement that operates as fast as 264MBps for a 32-bit system, and 528MBps for a 64-bit syste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DA27-9FF7-4DB6-8EEF-FC0CB1557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niversal Serial Bus (USB) is another I/O architecture of intere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B isn’t really a bus: It’s a serial peripheral interface that connects to a microcomputer expansion bu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p to 127 devices can be cascaded off of one another up to five dee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B 2.0 supports transfer rates of up to 480Mbp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s low power consumption makes USB a good choice for laptop and handheld computer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184C-ADEC-4326-9578-06C374E30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36648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5 Other I/O Connec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High Performance Peripheral Interface (HIPPI) is another interface that is outside of the SCSI-3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designed to interconnect supercomputers and high-performance mainfram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esent top speeds are 100MBps with work underway for a 6.4GBps implement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ithout repeaters, HIPPI can travel about 150 feet (50 meters) over copper and 6 miles (10 km) over fib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504D4-8A6F-417A-94E1-F4B1F4027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1599840"/>
            <a:ext cx="79250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examined a number of popular I/O architectures to include SCSI-2, FC-AL, ATA, SATA, SAS, PCI, USB, IEEE 1394, and HIPP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y of these architectures are part of the SCSI Architecture Mode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ber Channel is most often deployed as Fiber Channel Arbitrated Loop, forming the infrastructure for storage area networks, although iSCSI is gaining fas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5333040"/>
            <a:ext cx="58672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ummarizes the capabilities of the I/O architectures presented in this chap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26D-DC81-4BAB-B97E-DCF0C604A3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t2" descr=""/>
          <p:cNvPicPr/>
          <p:nvPr/>
        </p:nvPicPr>
        <p:blipFill>
          <a:blip r:embed="rId2"/>
          <a:stretch/>
        </p:blipFill>
        <p:spPr>
          <a:xfrm>
            <a:off x="914400" y="973080"/>
            <a:ext cx="698184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47BB-187C-42A1-854C-7D07E249B7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1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1B4-3675-4DF9-9681-07FBB3A282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age systems have become independent systems requiring good management tools and techniqu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llenges facing storage management include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ing and extracting meaningful information from multi-terabyt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ing disk and file structures for optimum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ing large storage pools from disk cras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1FF0-020D-47A3-8B13-AE293E3E9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SI,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mall Computer System Interf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s a set of protocols and disk I/O signaling specifications that became an ANSI standard in 198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key idea behind SCSI is that it pushes intelligence from the host to the interface circuits thus making the system nearly self manag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SI specification is now in its third generation, SCSI-3, which includes both serial and parallel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29B6-A2E2-417B-A9EC-7D205D6690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1066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ic SCSI-2 daisy chains the host and disk devices along a parallel c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a_2" descr=""/>
          <p:cNvPicPr/>
          <p:nvPr/>
        </p:nvPicPr>
        <p:blipFill>
          <a:blip r:embed="rId2"/>
          <a:stretch/>
        </p:blipFill>
        <p:spPr>
          <a:xfrm>
            <a:off x="2819520" y="2514600"/>
            <a:ext cx="5867280" cy="350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273840"/>
            <a:ext cx="236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2600" indent="-282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ending on the implement-ation, the cable may contain as many as 68 p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0822-E8E0-4789-8DEC-6BDB1BEBE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7a_3" descr=""/>
          <p:cNvPicPr/>
          <p:nvPr/>
        </p:nvPicPr>
        <p:blipFill>
          <a:blip r:embed="rId2"/>
          <a:stretch/>
        </p:blipFill>
        <p:spPr>
          <a:xfrm>
            <a:off x="685800" y="1512720"/>
            <a:ext cx="7767720" cy="48117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2286000" cy="1904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SI-2 protocol uses phases, as shown in this stat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57B1-E2CD-45AD-8FD0-A308F38D8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CSI-3 Architecture Model (SAM) is a layered architecture of specifications for numerous serial and parallel interfa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layer interacts with a host-level command architecture called the SCSI-3 Common Access Method (CAM) that can interface with practically any type of storage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ayers communicate with each other using protocol service requests, indications, responses, and confirm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5561640"/>
            <a:ext cx="4647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how the SAM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E7EF-8B0F-4A8C-96C9-346C90AC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361960" y="442800"/>
            <a:ext cx="327636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3.2 SCS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5790960"/>
            <a:ext cx="4496040" cy="5331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CSI-3 Architectu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Fig_13-3_ECOA2E_ppt" descr=""/>
          <p:cNvPicPr/>
          <p:nvPr/>
        </p:nvPicPr>
        <p:blipFill>
          <a:blip r:embed="rId2"/>
          <a:stretch/>
        </p:blipFill>
        <p:spPr>
          <a:xfrm>
            <a:off x="189000" y="1643040"/>
            <a:ext cx="880272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0:07:56Z</dcterms:created>
  <dc:creator>Null &amp; Lobur</dc:creator>
  <dc:description/>
  <dc:language>en-US</dc:language>
  <cp:lastModifiedBy>User</cp:lastModifiedBy>
  <dcterms:modified xsi:type="dcterms:W3CDTF">2006-01-10T02:48:07Z</dcterms:modified>
  <cp:revision>141</cp:revision>
  <dc:subject/>
  <dc:title>Chapter 7A</dc:title>
</cp:coreProperties>
</file>