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1C91-8924-461D-8670-26447AA4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E8BA-587C-4DC4-A549-9B7550EE7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9A6-9D66-43A2-99FD-66220F61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93BC-011E-4266-A0F6-A55A221BD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9834-4CBB-453B-A89D-02C252FA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0EE5-EBFE-4711-9166-78D5D097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5607-094A-412B-9CFC-9ECE5DE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7DD4-1C83-4DB0-B1EE-B3D802866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F945-64CA-42C2-BDD7-FB4653E65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1EE-22C3-428E-A2A1-EE0C76ED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D19-7A88-41F8-912F-8C71A07E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19FA-FE62-45F9-8C54-6C500EDB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ECFD-CD04-4AAC-9EE9-B7F54C8F8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4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4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4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8120" y="3809880"/>
            <a:ext cx="1447560" cy="3048120"/>
          </a:xfrm>
          <a:prstGeom prst="rect">
            <a:avLst/>
          </a:prstGeom>
          <a:solidFill>
            <a:srgbClr val="c7c3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123720" y="4647960"/>
            <a:ext cx="5867640" cy="1447560"/>
          </a:xfrm>
          <a:prstGeom prst="rect">
            <a:avLst/>
          </a:prstGeom>
          <a:solidFill>
            <a:srgbClr val="c7c3da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ta Representation in Compute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4800600" y="3657600"/>
            <a:ext cx="4038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E4839-3F08-4377-B864-855587281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98760"/>
            <a:ext cx="80010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 earlier slide, we said that every integer value can be represented exactly using any radix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can use either of two methods for radix conversion: the subtraction method and the division remainder meth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btraction method is more intuitive, but cumbersome.  It does, however reinforce the ideas behind radix mathematic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D942D-597C-4C75-80B8-E32ADA59B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4648320" cy="4647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no bits are lost or corrupted, dividing the received information string by the agreed upon pattern will give a remainder of z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see this is so in the calculation at the righ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al applications use longer polynomials to cover larger information strings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 of the standard poly-nomials are listed in the tex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36" descr=""/>
          <p:cNvPicPr/>
          <p:nvPr/>
        </p:nvPicPr>
        <p:blipFill>
          <a:blip r:embed="rId2"/>
          <a:stretch/>
        </p:blipFill>
        <p:spPr>
          <a:xfrm>
            <a:off x="5438880" y="1589040"/>
            <a:ext cx="332712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65CF-1BAE-454C-9D8A-99A08E874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mission errors are easy to fix once an error is detecte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st ask the sender to transmit the data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omputer memory and data storage, however, this cannot be do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often the only copy of something important is in memory or on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to provide data integrity over the long term, err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rrect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des are requi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4A62-9071-43B7-93E0-576D217EC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43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mming codes and Reed-Soloman codes are two important error correcting cod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ed-Soloman codes are particularly useful in correcting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urst erro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hat occur when a series of adjacent bits are damag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D-ROMs are easily scratched, they employ a type of Reed-Soloman error cor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he mathematics of Hamming codes is much simpler than Reed-Soloman, we discuss Hamming codes in det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A6BC-5BE5-480E-89B0-61BE20FCD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8382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mming codes are code words formed by adding redundant check bits, or parity bits, to a data wo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amming dist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tween two code words is the number of bits in which two code words diff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imum Hamming distance for a code is the smallest Hamming distance betwe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irs of words in the cod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3316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air of bytes has a Hamming distance of 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37" descr=""/>
          <p:cNvPicPr/>
          <p:nvPr/>
        </p:nvPicPr>
        <p:blipFill>
          <a:blip r:embed="rId2"/>
          <a:stretch/>
        </p:blipFill>
        <p:spPr>
          <a:xfrm>
            <a:off x="4495680" y="3317760"/>
            <a:ext cx="228600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8636-E5AB-44DE-9215-DD2E9DB7E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784872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minimum Hamming distance for a code, D(min), determines its error detecting and error correcting capabilit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any code word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to be interpreted as a different valid code word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at least D(min) single-bit errors must occur 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to detec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or fewer) single-bit errors, the code must have a Hamming distance of        D(min)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26FF-4218-4C7F-8279-88339EFDC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/>
          </p:nvPr>
        </p:nvSpPr>
        <p:spPr>
          <a:xfrm>
            <a:off x="380520" y="1442520"/>
            <a:ext cx="723924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mming codes ca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t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(min) - 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rs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rr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err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a Hamming distance of 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1 is required to be able to correc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rs in any data wo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mming distance is provided by adding a suitable number of parity bits to a data wo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38" descr=""/>
          <p:cNvPicPr/>
          <p:nvPr/>
        </p:nvPicPr>
        <p:blipFill>
          <a:blip r:embed="rId2"/>
          <a:stretch/>
        </p:blipFill>
        <p:spPr>
          <a:xfrm>
            <a:off x="2590920" y="2122560"/>
            <a:ext cx="1838160" cy="84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DD20-E6CE-4CD7-997F-143B3B7E2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777240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have a set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bit code words consisting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ata bits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redundant) parity bit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error could occur in any of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its, so each code word can be associated 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neous words at a Hamming distance of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fore,we hav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 bit patterns for each code word: one valid code word,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rroneous wor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E1F1-142A-4156-A4BA-E9BC5512F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380520" y="1442520"/>
            <a:ext cx="80010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bit code words, we have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ossible code words consisting of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ata bits (whe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gives us the inequality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e can rewrite the inequality a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or  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nequality gives us a lower limit on the number of check bits that we need in our code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75AC-518F-4FEA-B727-64D4D9186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80520" y="1442520"/>
            <a:ext cx="8001000" cy="43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have data word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4. 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4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es that r must be greater than or equal to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to build a code with 4-bit data words that will correct single-bit errors, we must add 3 check b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ing the number of check bits is the hard part.  The rest is eas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6B83-9F9A-4304-B56C-098536956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380520" y="1442520"/>
            <a:ext cx="762012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we have data words of leng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8.  The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8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1)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2</a:t>
            </a:r>
            <a:r>
              <a:rPr b="0" i="1" lang="en-US" sz="2600" spc="-1" strike="noStrike" baseline="30000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ies that r must be greater than or equal to 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to build a code with 8-bit data words that will correct single-bit errors, we must add 4 check bits, creating code words of length 1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how do we assign values to these check bi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8A48-1313-4DEA-B432-35B13BE8B0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1A" descr=""/>
          <p:cNvPicPr/>
          <p:nvPr/>
        </p:nvPicPr>
        <p:blipFill>
          <a:blip r:embed="rId2"/>
          <a:stretch/>
        </p:blipFill>
        <p:spPr>
          <a:xfrm>
            <a:off x="5356080" y="1676520"/>
            <a:ext cx="3181320" cy="44035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4343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we want to convert the decimal number 190 to base 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 know that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5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= 243 so our result will be less than six digits wide.  The largest power of 3 that we need is therefore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81, and          81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2 = 16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down the 2 and subtract 162 from 190, giving 28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590F-DDB4-4325-8EB6-2005248EC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83822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code words of length 12, we observe that each of the digits, 1 though 12, can be expressed in powers of 2.  Thu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1100"/>
              </a:spcBef>
              <a:buNone/>
              <a:tabLst>
                <a:tab algn="l" pos="0"/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1100"/>
              </a:spcBef>
              <a:buNone/>
              <a:tabLst>
                <a:tab algn="l" pos="0"/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1100"/>
              </a:spcBef>
              <a:buNone/>
              <a:tabLst>
                <a:tab algn="l" pos="0"/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1100"/>
              </a:spcBef>
              <a:buNone/>
              <a:tabLst>
                <a:tab algn="l" pos="0"/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8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 =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(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ributes to all of the odd-numbered dig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(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ntributes to the digits, 2, 3, 6, 7, 10, and 1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. . And so forth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can use this idea in the creation of our check b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F974-6915-43DB-9252-316CADB61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380520" y="1442520"/>
            <a:ext cx="7696440" cy="29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our code words of length 12, number each bit position starting with 1 in the low-order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bit position corresponding to an even power of 2 will be occupied by a check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check bits contain the parity of each bit position for which it participates in the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39" descr=""/>
          <p:cNvPicPr/>
          <p:nvPr/>
        </p:nvPicPr>
        <p:blipFill>
          <a:blip r:embed="rId2"/>
          <a:srcRect l="0" t="13239" r="870" b="0"/>
          <a:stretch/>
        </p:blipFill>
        <p:spPr>
          <a:xfrm>
            <a:off x="838080" y="4419720"/>
            <a:ext cx="6705720" cy="99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9CD1-01E8-47D5-BD90-78DBF595A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8229600" cy="32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nce 2 (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contributes to the digits, 2, 3, 6, 7, 10, and 11.  Position 2 will contain the parity for bits 3, 6, 7, 10, and 1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use even parity, this is the modulo 2 sum of the participating bit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 bit values shown, we have a parity value of 0 in the second bit posi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40" descr=""/>
          <p:cNvPicPr/>
          <p:nvPr/>
        </p:nvPicPr>
        <p:blipFill>
          <a:blip r:embed="rId2"/>
          <a:srcRect l="0" t="0" r="760" b="0"/>
          <a:stretch/>
        </p:blipFill>
        <p:spPr>
          <a:xfrm>
            <a:off x="838080" y="4467240"/>
            <a:ext cx="6858000" cy="9428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2286000" y="5562720"/>
            <a:ext cx="5791320" cy="53316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What are the values for the other parity bit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2E8B-3549-4FC0-9502-6BBC4EB9B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2" name="41" descr=""/>
          <p:cNvPicPr/>
          <p:nvPr/>
        </p:nvPicPr>
        <p:blipFill>
          <a:blip r:embed="rId2"/>
          <a:srcRect l="0" t="0" r="2415" b="0"/>
          <a:stretch/>
        </p:blipFill>
        <p:spPr>
          <a:xfrm>
            <a:off x="914400" y="1525680"/>
            <a:ext cx="6627960" cy="9475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380880" y="2514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mpleted code word is shown abo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1checks the digits, 3, 5, 7, 9, and 11, so its value is 1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4 checks the digits, 5, 6, 7, and 12, so its value is 1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8 checks the digits, 9, 10, 11, and 12, so its value is also 1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Hamming algorithm, we can not only detect single bit errors in this code word, but also correct them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4D5C-41BC-49E8-B9D9-FA83A991F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42" descr=""/>
          <p:cNvPicPr/>
          <p:nvPr/>
        </p:nvPicPr>
        <p:blipFill>
          <a:blip r:embed="rId2"/>
          <a:srcRect l="0" t="0" r="2415" b="0"/>
          <a:stretch/>
        </p:blipFill>
        <p:spPr>
          <a:xfrm>
            <a:off x="914400" y="1523880"/>
            <a:ext cx="6627960" cy="9478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380520" y="2509560"/>
            <a:ext cx="8001000" cy="32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an error occurs in bit 5, as shown above.  Our parity bit values 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1 checks digits, 3, 5, 7, 9, and 11.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Its value is 1, but should be zer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2 checks digits 2, 3, 6, 7, 10, and 11. The zero is correct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4 checks digits, 5, 6, 7, and 12. 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Its value is 1, but should be zer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9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Bit 8 checks digits, 9, 10, 11, and 12. This bit is correc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86"/>
              </a:spcBef>
              <a:buNone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5872-BE7A-4EF2-9900-D9C08A536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42" descr=""/>
          <p:cNvPicPr/>
          <p:nvPr/>
        </p:nvPicPr>
        <p:blipFill>
          <a:blip r:embed="rId2"/>
          <a:srcRect l="0" t="0" r="2415" b="0"/>
          <a:stretch/>
        </p:blipFill>
        <p:spPr>
          <a:xfrm>
            <a:off x="914400" y="1490760"/>
            <a:ext cx="6627960" cy="94752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380520" y="2438280"/>
            <a:ext cx="8001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have erroneous bits in positions 1 and 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rity bits that don’t check, we know that the error is in the data, and not in a parity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data bits are in error?  We find out by adding the bit positions of the erroneous b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2398680"/>
                <a:tab algn="l" pos="5149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y, 1 + 4 = 5.  This tells us that the error is in bit 5. If we change bit 5 to a 1, all parity bits check and our data is resto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AF08-A187-4377-B5A4-CF198E5A0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4191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store data in the form of bits, bytes, and words using the binary numbering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xadecimal numbers are formed using four-bit groups called nibbles (or nybble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ed integers can be stored in one’s complement, two’s complement, or signed magnitude represen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numbers are usually coded using the IEEE 754 floating-point standar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2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4940-049E-41BE-82E4-200961233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62012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operations are not necessarily commutative or distribu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racter data is stored using ASCII, EBCDIC, or Unic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detecting and correcting codes are necessary because we can expect no transmission or storage medium to be perfe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C, Reed-Soloman, and Hamming codes are three important error control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2 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1EB5-67AC-4568-B52E-03A96FBA9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6699"/>
                </a:solidFill>
                <a:latin typeface="Arial"/>
              </a:rPr>
              <a:t>End of Chapte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2E59-DAFF-4B37-B59F-5BE819A71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1A" descr=""/>
          <p:cNvPicPr/>
          <p:nvPr/>
        </p:nvPicPr>
        <p:blipFill>
          <a:blip r:embed="rId2"/>
          <a:stretch/>
        </p:blipFill>
        <p:spPr>
          <a:xfrm>
            <a:off x="5353200" y="1676520"/>
            <a:ext cx="3181320" cy="44035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4343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190 to base 3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ext power of 3 is          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= 27.  We’ll need one of these, so we subtract 27 and write down the numeral 1 in our result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next power of 3,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 9, is too large, but we have to assign a placeholder of zero and carry down the 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34120" y="1676520"/>
            <a:ext cx="3200400" cy="129528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E12C7-968D-4060-98D0-364C01C6F5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1A" descr=""/>
          <p:cNvPicPr/>
          <p:nvPr/>
        </p:nvPicPr>
        <p:blipFill>
          <a:blip r:embed="rId2"/>
          <a:stretch/>
        </p:blipFill>
        <p:spPr>
          <a:xfrm>
            <a:off x="5356080" y="1676520"/>
            <a:ext cx="3181320" cy="4403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343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190 to base 3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= 3  is again too large, so we assign a zero placehold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last power of 3,  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1, is our last choice, and it gives us a difference of ze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r result, reading from top to bottom i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0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= 2100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34120" y="1676520"/>
            <a:ext cx="2514600" cy="259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1676520"/>
            <a:ext cx="381240" cy="259056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1676520"/>
            <a:ext cx="380880" cy="609480"/>
          </a:xfrm>
          <a:prstGeom prst="rect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64F6-E308-4EAF-93A2-4F65C9B27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method of converting integers from decimal to some other radix uses divis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thod is mechanical and eas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employs the idea that successive division by a base is equivalent to successive subtraction by powers of the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t’s use the division remainder method to again convert 190 in decimal to base 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5933-5263-4270-AC68-6FFF83A78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2A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195360" cy="44193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441972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190 to base 3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e take the number that we wish to convert and divide it by the radix in which we want to express our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is case, 3 divides 190   63 times, with a remainder of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the quotient and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1703-0A6A-4628-A214-9C4A6137B8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2B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198600" cy="4424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4343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190 to base 3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3 is evenly divisible by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remainder is zero, and the quotient is 2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1725-B7F2-40CC-9C7B-134765F9E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2C" descr=""/>
          <p:cNvPicPr/>
          <p:nvPr/>
        </p:nvPicPr>
        <p:blipFill>
          <a:blip r:embed="rId2"/>
          <a:stretch/>
        </p:blipFill>
        <p:spPr>
          <a:xfrm>
            <a:off x="5334120" y="1676520"/>
            <a:ext cx="3198600" cy="4424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449604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190 to base 3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in this way until the quotient is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final calculation, we note that 3 divides 2 zero times with a remainder of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result, reading from bottom to top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10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893A-DECC-4595-92BA-DE90330E0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ctional values can be approximated in all base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like integer values, fractions do not necessarily have exact representations under all radi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quantit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is exactly representable in the binary and decimal systems, but is not in the ternary (base 3) numbering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A21A-1E3F-4CB8-8B0E-11CD817AF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ctional decimal values have nonzero digits to the right of the decimal poi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ctional values of other radix systems have nonzero digits to the right of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dix poi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erals to the right of a radix point represent negative powers of the radix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4267800"/>
            <a:ext cx="5410080" cy="19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47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2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½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  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 0.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0.25 =  0.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2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39625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fundamentals of numerical data representation and manipulation in digital compu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the skill of converting between various radix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how errors can occur in computations because of overflow and trun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BCC-7BE3-4F8C-B54B-7E4CD42CD9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712D-7386-44DE-8C30-9C4158921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with whole-number conversions, you can use either of two methods: a subtraction method and an easy multiplication metho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ubtraction method for fractions is identical to the subtraction method for whole numbers. Instead of subtracting positive powers of the target radix, we subtract negative powers of the radix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lways start with the largest value first,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our radix, and work our way along using larger negative expon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0960-1C18-40AE-8B8E-54D763AB2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396252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alculation to the right is an example of using the subtraction method to convert the decimal 0.8125 to bina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result, reading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p to bott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81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course, this method works with any base, not just bin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4" descr=""/>
          <p:cNvPicPr/>
          <p:nvPr/>
        </p:nvPicPr>
        <p:blipFill>
          <a:blip r:embed="rId2"/>
          <a:stretch/>
        </p:blipFill>
        <p:spPr>
          <a:xfrm>
            <a:off x="4876920" y="1677960"/>
            <a:ext cx="382104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8282-EBCB-474C-961A-696A9DB89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419112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multiplication method to convert the decimal 0.8125 to binary, we multiply by the radix 2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irst product carries into the units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5A" descr=""/>
          <p:cNvPicPr/>
          <p:nvPr/>
        </p:nvPicPr>
        <p:blipFill>
          <a:blip r:embed="rId2"/>
          <a:stretch/>
        </p:blipFill>
        <p:spPr>
          <a:xfrm>
            <a:off x="5257800" y="1569960"/>
            <a:ext cx="314496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259C-4036-4971-A943-EE5849AFD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5B" descr=""/>
          <p:cNvPicPr/>
          <p:nvPr/>
        </p:nvPicPr>
        <p:blipFill>
          <a:blip r:embed="rId2"/>
          <a:stretch/>
        </p:blipFill>
        <p:spPr>
          <a:xfrm>
            <a:off x="5257800" y="1571760"/>
            <a:ext cx="3135240" cy="45892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472464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0.8125 to binary . .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noring the value in the units place at each step, continue multiplying each fractional part by the radi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A682-9F77-4E38-A130-3D3B9FEDD2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5C" descr=""/>
          <p:cNvPicPr/>
          <p:nvPr/>
        </p:nvPicPr>
        <p:blipFill>
          <a:blip r:embed="rId2"/>
          <a:stretch/>
        </p:blipFill>
        <p:spPr>
          <a:xfrm>
            <a:off x="5254560" y="1571760"/>
            <a:ext cx="3135240" cy="45892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4724640" cy="4724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rting 0.8125 to binary . .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are finished when the product is zero, or until you have reached the desired number of binary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result, reading from top to bottom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81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method also works with any base. Just use the target radix as the multipli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0D15-8E6D-4984-B5F3-A1993A006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nary numbering system is the most important radix system for digital compu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ever, it is difficult to read long strings of binary numbers-- and even a modestly-sized decimal number becomes a very long binary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    1101010001101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359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compactness and ease of reading, binary values are usually expressed using the hexadecimal, or base-16, numbering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16C9D-36A5-40EA-ABD5-56C1438A6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exadecimal numbering system uses the numerals 0 through 9 and the letters A through F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mal number 12 i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cimal number 26 is 1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easy to convert between base 16 and base 2, because 16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to convert from binary to hexadecimal, all we need to do is group the binary digits into groups of four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5485320"/>
            <a:ext cx="6248520" cy="4597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 group of four binary digits is called a hext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76D3-62C9-4E47-BC8F-A7825AD06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250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groups of hextets, the binary number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11010100011011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= 13595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in hexadecimal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ctal (base 8) values are derived from binary by using groups of three bits (8 =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531040"/>
            <a:ext cx="7696080" cy="8254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Octal was very useful when computers used six-bit wo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6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3665520" cy="911520"/>
          </a:xfrm>
          <a:prstGeom prst="rect">
            <a:avLst/>
          </a:prstGeom>
          <a:ln w="0">
            <a:noFill/>
          </a:ln>
        </p:spPr>
      </p:pic>
      <p:pic>
        <p:nvPicPr>
          <p:cNvPr id="141" name="7" descr=""/>
          <p:cNvPicPr/>
          <p:nvPr/>
        </p:nvPicPr>
        <p:blipFill>
          <a:blip r:embed="rId3"/>
          <a:stretch/>
        </p:blipFill>
        <p:spPr>
          <a:xfrm>
            <a:off x="2228760" y="4665600"/>
            <a:ext cx="3638520" cy="8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9AE3-DEA5-4653-AB3F-5CE60531B0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onversions we have so far presented have involved only positive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present negative values, computer systems allocate the high-order bit to indicate the sign of a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-order bit is the leftmost bit in a byte.  It is also called the most significant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maining bits contain the value of the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DB9F-F698-42CD-AA38-C63D08391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2392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three ways in which signed binary numbers may be expressed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ed magnitude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’s complement an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’s comple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n 8-bit word, signed magnitude representation places the absolute value of the number in the 7 bits to the right of the sign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2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00100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fundamental concepts of floating-point represen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in familiarity with the most popular character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concepts of error detecting and correcting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09B5-5E29-43FE-9B0A-00548CCE9A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2F3F-F89A-498D-A200-6189BEACB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23924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in 8-bit signed magnitude, positive 3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0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gative 3 i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00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perform arithmetic operations on signed magnitude numbers in much the same way as humans carry out pencil and paper arithmet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s often ignore the signs of the operands while performing a calculation, applying the appropriate sign after the calculation is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3E90-7444-4E3D-8BA4-A0225367A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201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addition is as easy as it gets. You need to know only four rule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0 + 0 =  0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0 + 1 = 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1 + 0 =  1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1 + 1 =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mplicity of this system makes it possible for digital circuits to carry out arithmetic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ill describe these circuits in Chapte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5134320"/>
            <a:ext cx="6248520" cy="7642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Let’s see how the addition rules work with signed magnitude numbers . .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F5F7-33D5-4BAD-BE29-189E736A7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6483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75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convert 75 and 46 to binary, and arrange as a sum, but separate the (positive) sign bits from the magnitude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8D" descr=""/>
          <p:cNvPicPr/>
          <p:nvPr/>
        </p:nvPicPr>
        <p:blipFill>
          <a:blip r:embed="rId2"/>
          <a:stretch/>
        </p:blipFill>
        <p:spPr>
          <a:xfrm>
            <a:off x="5578560" y="2284560"/>
            <a:ext cx="28796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0457-8865-46EF-A92C-737389D4A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8A" descr=""/>
          <p:cNvPicPr/>
          <p:nvPr/>
        </p:nvPicPr>
        <p:blipFill>
          <a:blip r:embed="rId2"/>
          <a:stretch/>
        </p:blipFill>
        <p:spPr>
          <a:xfrm>
            <a:off x="5575320" y="2284560"/>
            <a:ext cx="2879640" cy="18795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6483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75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in decimal arithmetic, we find the sum starting with the rightmost bit and work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2E5B-9A05-4175-BEE2-02BE566E6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8B" descr=""/>
          <p:cNvPicPr/>
          <p:nvPr/>
        </p:nvPicPr>
        <p:blipFill>
          <a:blip r:embed="rId2"/>
          <a:stretch/>
        </p:blipFill>
        <p:spPr>
          <a:xfrm>
            <a:off x="5575320" y="2284560"/>
            <a:ext cx="2879640" cy="18795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6483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75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econd bit, we have a carry, so we note it above the third b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430E-03DE-49F7-A095-4490F956A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8C" descr=""/>
          <p:cNvPicPr/>
          <p:nvPr/>
        </p:nvPicPr>
        <p:blipFill>
          <a:blip r:embed="rId2"/>
          <a:stretch/>
        </p:blipFill>
        <p:spPr>
          <a:xfrm>
            <a:off x="5575320" y="2284560"/>
            <a:ext cx="2879640" cy="18795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46483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75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ird and fourth bits also give us car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CB8E-AF1E-40C3-8A00-3378BDF71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8" descr=""/>
          <p:cNvPicPr/>
          <p:nvPr/>
        </p:nvPicPr>
        <p:blipFill>
          <a:blip r:embed="rId2"/>
          <a:stretch/>
        </p:blipFill>
        <p:spPr>
          <a:xfrm>
            <a:off x="5575320" y="2286000"/>
            <a:ext cx="2879640" cy="1879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8769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75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we have worked our way through all eight bits, we a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4724280"/>
            <a:ext cx="7467480" cy="12193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	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n this example, we were careful careful to pick two values whose sum would fit into seven bits.  If that is not the case, we have a probl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BC44-571A-4605-AD7F-67A8072BF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9" descr=""/>
          <p:cNvPicPr/>
          <p:nvPr/>
        </p:nvPicPr>
        <p:blipFill>
          <a:blip r:embed="rId2"/>
          <a:stretch/>
        </p:blipFill>
        <p:spPr>
          <a:xfrm>
            <a:off x="5562720" y="2057400"/>
            <a:ext cx="3235320" cy="22827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876920" cy="3504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signed magnitude binary arithmetic, find the sum of 107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at the carry from the seventh bi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fl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s discarded, giving us the erroneous result: 107 + 46 = 25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AE49-5821-49D1-8A83-E20F4333A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800600" cy="28954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gns in signed magnitude representation work just like the signs in pencil and paper arithmet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signed magnitude binary arithmetic, find the sum of - 46 and -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4572000"/>
            <a:ext cx="7467840" cy="1295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the signs are the same, all we do is add the numbers and supply the negative sign when we are do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10" descr=""/>
          <p:cNvPicPr/>
          <p:nvPr/>
        </p:nvPicPr>
        <p:blipFill>
          <a:blip r:embed="rId2"/>
          <a:stretch/>
        </p:blipFill>
        <p:spPr>
          <a:xfrm>
            <a:off x="5575320" y="2286000"/>
            <a:ext cx="28796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B0EE-58A2-4308-AA52-871768D11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11" descr=""/>
          <p:cNvPicPr/>
          <p:nvPr/>
        </p:nvPicPr>
        <p:blipFill>
          <a:blip r:embed="rId2"/>
          <a:stretch/>
        </p:blipFill>
        <p:spPr>
          <a:xfrm>
            <a:off x="5575320" y="2286000"/>
            <a:ext cx="2852640" cy="17352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800600" cy="27432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xed sign addition  (or subtraction) is done the same wa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signed magnitude binary arithmetic, find the sum of  46 and - 2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4343400"/>
            <a:ext cx="7925040" cy="16002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gn of the result gets the sign of the number that is larg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e “borrows” from the second and sixth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8F895-424B-4113-AACA-A3E34E645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most basic unit of information in a compu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s a state of “on” or “off” in a digital circu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hese states are “high” or “low” voltage instead of “on” or “off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group of eight b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yte is the smallest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dress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nit of computer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rm, “addressable,” means that a particular byte can be retrieved according to its location in mem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AB7F-8BC2-4F92-A200-CE78BEB65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3152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ed magnitude representation is easy for people to understand, but it requires complicated computer hard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disadvantage of signed magnitude is that it allows two different representations for zero: positive zero and negative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these reasons (among others) computers systems employ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mplement system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numeric value represen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38BF-3392-4D7A-A3EA-56E01F591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1907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omplement systems, negative values are represented by some difference between a number and its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minished radix comp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ystems, a negative value is given by the difference between the absolute value of a number and one less than its ba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binary system, this gives u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one’s comp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It amounts to little more than flipping the bits of a binary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B593-4F78-47E0-B656-67DA8FAB2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46784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in 8-bit one’s complement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ve 3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0000001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gative 3 is: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11111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ne’s complement, as with signed magnitude, negative values are indicated by a 1 in the high order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ment systems are useful because they eliminate the need for subtraction. The difference of two values is found by adding the minuend to the complement of the subtrahe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0B83-F7D1-46E7-95EF-E52D38291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5334120" y="1752480"/>
            <a:ext cx="3483000" cy="27669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800600" cy="28954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one’s complement addition, the carry bit is “carried around” and added to the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one’s complement binary arithmetic, find the sum of 48 and -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19320" y="47232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We note that 19 in one’s complement is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00010011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so -19 in one’s complement is: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   1110110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6E0C-3792-4144-99E5-1D0AD5AA1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23924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hough the “end carry around” adds some complexity, one’s complement is simpler to implement than signed magnitu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it still has the disadvantage of having two different representations for zero: positive zero and negative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’s complement solves this probl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’s complement is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dix complem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f the binary numbering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DCF6-3059-4331-8298-CE9941B8BD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express a value in two’s complemen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number is positive, just convert it to binary and you’re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number is negative, find the one’s complement of the number and then ad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8-bit one’s complement, positive 3 is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00000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gative 3 in one’s complement i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1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ng 1 gives us -3 in two’s complement form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11110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8579-58CD-46B5-8272-7794CFCE5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77320" cy="28954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wo’s complement arithmetic, all we do is add our two binary numbers. Just discard any carries emitting from the high order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4880520"/>
            <a:ext cx="6553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We note that 19 in one’s complement is: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00010011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so -19 in one’s complement is: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   11101100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and -19 in two’s complement is: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Courier New"/>
              </a:rPr>
              <a:t>   11101101</a:t>
            </a:r>
            <a:r>
              <a:rPr b="0" lang="en-US" sz="2200" spc="-1" strike="noStrike">
                <a:solidFill>
                  <a:srgbClr val="cc33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3124080"/>
            <a:ext cx="40384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one’s complement binary arithmetic, find the sum of 48 and - 1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14" descr=""/>
          <p:cNvPicPr/>
          <p:nvPr/>
        </p:nvPicPr>
        <p:blipFill>
          <a:blip r:embed="rId2"/>
          <a:stretch/>
        </p:blipFill>
        <p:spPr>
          <a:xfrm>
            <a:off x="4724280" y="3048120"/>
            <a:ext cx="30355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D339-896F-4987-8B87-F3D9C8346E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2012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use any finite number of bits to represent a number, we always run the risk of the result of our calculations becoming too large to be stored in the comput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we can’t always prevent overflow, we can alway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t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verflo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omplement arithmetic, an overflow condition is easy to detec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DC89-41F0-4864-A71C-4D6915CDA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15" descr=""/>
          <p:cNvPicPr/>
          <p:nvPr/>
        </p:nvPicPr>
        <p:blipFill>
          <a:blip r:embed="rId2"/>
          <a:srcRect l="0" t="0" r="7118" b="0"/>
          <a:stretch/>
        </p:blipFill>
        <p:spPr>
          <a:xfrm>
            <a:off x="5943600" y="2133720"/>
            <a:ext cx="2819520" cy="2425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51818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two’s complement binary arithmetic, find the sum of 107 and 4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ee that the nonzero carry from the seventh bi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verflow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the sign bit, giving us the erroneous result: 107 + 46 = -10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029200"/>
            <a:ext cx="8001000" cy="10666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200" spc="-1" strike="noStrike" u="sng">
                <a:solidFill>
                  <a:srgbClr val="cc3300"/>
                </a:solidFill>
                <a:uFillTx/>
                <a:latin typeface="Times New Roman"/>
              </a:rPr>
              <a:t>Rule for detecting signed two’s complement overflow: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When the “carry in” and the “carry out” of the sign bit differ, overflow has occur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D8CD-3C3B-4A63-A9A6-26AE2CB8A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ed and unsigned numbers are both usefu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spcAft>
                <a:spcPts val="30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memory addresses are always unsig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ing the same number of bits, unsigned integers can express twice as many values as signed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ouble arises if an unsigned value “wraps around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four bits: 1111 + 1 = 0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programmers stay alert for this kind of probl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16D7-B6C1-4625-ADC5-EA30AC2D9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1 Introdu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contiguous group of byt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s can be any number of bits or by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sizes of 16, 32, or 64 bits are most comm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word-addressable system, a word is the smallest addressable unit of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oup of four bits is called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ib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ybb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tes, therefore, consist of two nibbles: a “high-order nibble,” and a “low-order” nib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D254-50ED-4A57-AA4C-21AD90252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earch into finding better arithmetic algorithms has continued apace for over 50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of the many interesting products of this work is Booth’s algorith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st cases, Booth’s algorithm carries out multiplication faster and more accurately than naïve pencil-and-paper metho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general idea is to replace arithmetic operations with bit shifting to the extent possib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AD34-E348-4E4A-AE39-40224DEF6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4419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Booth’s algorithm, the first 1 in a string of 1s in the multiplier is replaced with a subtraction of the multiplic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ift the partial sums until the last 1 of the string is detec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add the multiplic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942480"/>
            <a:ext cx="2743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0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600" spc="-1" strike="noStrike" u="sng" baseline="30000">
                <a:solidFill>
                  <a:srgbClr val="000000"/>
                </a:solidFill>
                <a:uFillTx/>
                <a:latin typeface="Courier New"/>
              </a:rPr>
              <a:t>x 0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- 0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30000">
                <a:solidFill>
                  <a:srgbClr val="000000"/>
                </a:solidFill>
                <a:uFillTx/>
                <a:latin typeface="Courier New"/>
              </a:rPr>
              <a:t>+ 0011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00010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495D-BF37-440E-82E3-6F65EB2AC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5715000"/>
            <a:ext cx="685800" cy="457200"/>
          </a:xfrm>
          <a:prstGeom prst="ellipse">
            <a:avLst/>
          </a:prstGeom>
          <a:solidFill>
            <a:srgbClr val="e2fed2"/>
          </a:solidFill>
          <a:ln w="64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971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is a larger exampl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114800" y="-797760"/>
            <a:ext cx="4648320" cy="70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b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001101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600" spc="-1" strike="noStrike" u="sng" baseline="30000">
                <a:solidFill>
                  <a:srgbClr val="000000"/>
                </a:solidFill>
                <a:uFillTx/>
                <a:latin typeface="Courier New"/>
              </a:rPr>
              <a:t>x       01111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1111111110010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+ 0000000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 baseline="30000">
                <a:solidFill>
                  <a:srgbClr val="000000"/>
                </a:solidFill>
                <a:uFillTx/>
                <a:latin typeface="Courier New"/>
              </a:rPr>
              <a:t>+ 000110101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 baseline="30000">
                <a:solidFill>
                  <a:srgbClr val="000000"/>
                </a:solidFill>
                <a:latin typeface="Courier New"/>
              </a:rPr>
              <a:t>10001101000010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4343400"/>
            <a:ext cx="3048120" cy="4572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Ignore all bits over 2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4876920"/>
            <a:ext cx="1447560" cy="9144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D413-FB50-4497-ADED-328F1A722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flow and carry are tricky ide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gned number overflow means nothing in the context of unsigned numbers, which set a carry flag instead of an overflow fla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a carry out of the leftmost bit occurs with an unsigned number, overflow has occur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ry and overflow occur independently of each other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5562720"/>
            <a:ext cx="6400800" cy="4572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The table on the next slide summarizes these ide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F4B01-57A6-4725-AC9C-786CE323C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4 Signed Integer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Co" descr=""/>
          <p:cNvPicPr/>
          <p:nvPr/>
        </p:nvPicPr>
        <p:blipFill>
          <a:blip r:embed="rId2"/>
          <a:stretch/>
        </p:blipFill>
        <p:spPr>
          <a:xfrm>
            <a:off x="480960" y="1976400"/>
            <a:ext cx="818208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FD19C-1739-46B8-BAA8-F2CC8A05E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315200" cy="41907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gned magnitude, one’s complement, and two’s complement representation that we have just presented deal with integer values on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modification, these formats are not useful in scientific or business applications that deal with real number valu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representation solves this probl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47731-5BFB-4394-BDE5-36FB80573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are clever programmers, we can perform floating-point calculations using any integer forma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loating-point emul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because floating point values aren’t stored as such, we just create programs that make it seem as if floating-point values are being u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oday’s computers are equipped with specialized hardware that performs floating-point arithmetic with no special programming requi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BD10-EEDB-4356-9335-AF96B5926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numbers allow an arbitrary number of decimal places to the right of the decimal poi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0.5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0.25 = 0.12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are often expressed in scientific notatio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25 = 1.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,000,000 = 5.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7F51-CA39-4A44-A581-38F554251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use a form of scientific notation for floating-point representat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s written in scientific notation have three component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16A" descr=""/>
          <p:cNvPicPr/>
          <p:nvPr/>
        </p:nvPicPr>
        <p:blipFill>
          <a:blip r:embed="rId2"/>
          <a:stretch/>
        </p:blipFill>
        <p:spPr>
          <a:xfrm>
            <a:off x="1828800" y="3505320"/>
            <a:ext cx="51735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7DA0-781E-41B2-8531-AADAA7A751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091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 representation of a floating-point number consists of three fixed-size field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standard arrangement of these fiel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17" descr=""/>
          <p:cNvPicPr/>
          <p:nvPr/>
        </p:nvPicPr>
        <p:blipFill>
          <a:blip r:embed="rId2"/>
          <a:srcRect l="0" t="7423" r="0" b="10140"/>
          <a:stretch/>
        </p:blipFill>
        <p:spPr>
          <a:xfrm>
            <a:off x="1066680" y="2665440"/>
            <a:ext cx="67183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1B183-B6B6-4758-A5F5-96253E372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2 Positional Numbering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tes store numbers using the position of each bit to represent a power of 2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inary system is also called the base-2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decimal system is the base-10 system.  It uses powers of 10 for each position in a numb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teger quantity can be represented exactly using any base (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di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DDD6-9897-4FC8-BEDA-817086AAF0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609120" y="31240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one-bit sign field is the sign of the stored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ze of the exponent field, determines the range of values that can be represen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ze of the significand determines the precision of the represen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17" descr=""/>
          <p:cNvPicPr/>
          <p:nvPr/>
        </p:nvPicPr>
        <p:blipFill>
          <a:blip r:embed="rId2"/>
          <a:srcRect l="0" t="7423" r="0" b="10140"/>
          <a:stretch/>
        </p:blipFill>
        <p:spPr>
          <a:xfrm>
            <a:off x="1187280" y="1370160"/>
            <a:ext cx="61437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6B3B-39BA-4BA0-BB59-006814826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17" descr=""/>
          <p:cNvPicPr/>
          <p:nvPr/>
        </p:nvPicPr>
        <p:blipFill>
          <a:blip r:embed="rId2"/>
          <a:srcRect l="0" t="7423" r="0" b="10140"/>
          <a:stretch/>
        </p:blipFill>
        <p:spPr>
          <a:xfrm>
            <a:off x="1187280" y="1370160"/>
            <a:ext cx="6143760" cy="166680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609480" y="30481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EEE-754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ingle preci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loating point standard uses an 8-bit exponent and a 23-bit signific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EEE-754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ouble preci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tandard uses an 11-bit exponent and a 52-bit significan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38080" y="5334120"/>
            <a:ext cx="6782040" cy="9144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For illustrative purposes, we will use a 14-bit model with a 5-bit exponent and an 8-bit significa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67A7-32C6-4C38-A3BF-19EF4B66A6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17" descr=""/>
          <p:cNvPicPr/>
          <p:nvPr/>
        </p:nvPicPr>
        <p:blipFill>
          <a:blip r:embed="rId2"/>
          <a:srcRect l="0" t="7423" r="0" b="10140"/>
          <a:stretch/>
        </p:blipFill>
        <p:spPr>
          <a:xfrm>
            <a:off x="1187280" y="1370160"/>
            <a:ext cx="6143760" cy="16668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609120" y="3123720"/>
            <a:ext cx="81536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ignificand of a floating-point number is always preceded by an implied binary poi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the significand always contains a fractional binary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xponent indicates the power of 2 to which the significand is rais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3A9C-88B0-48FE-8387-AA1E37703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61128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3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implified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that 32 i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So in (binary) scientific notation 32 = 1.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is information, we put 110 (= 6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n the exponent field and 1 in the significand as sh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18" descr=""/>
          <p:cNvPicPr/>
          <p:nvPr/>
        </p:nvPicPr>
        <p:blipFill>
          <a:blip r:embed="rId2"/>
          <a:stretch/>
        </p:blipFill>
        <p:spPr>
          <a:xfrm>
            <a:off x="1143000" y="4876920"/>
            <a:ext cx="6186600" cy="12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DC00-91B0-45AA-A412-7557ABC07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80520" y="1447560"/>
            <a:ext cx="3962520" cy="41907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llustrations shown at the right a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equivalent representations for 32 using our simplified mode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only do these synonymous representations waste space, but they can also cause confus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19" descr=""/>
          <p:cNvPicPr/>
          <p:nvPr/>
        </p:nvPicPr>
        <p:blipFill>
          <a:blip r:embed="rId2"/>
          <a:stretch/>
        </p:blipFill>
        <p:spPr>
          <a:xfrm>
            <a:off x="4186080" y="1752480"/>
            <a:ext cx="465300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458D-C9A5-4D1B-A660-620692306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609480" y="32004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other problem with our system is that we have made no allowances for negative exponents.  We have no way to express 0.5 (=2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!  (Notice that there is no sign in the exponent field!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17" descr=""/>
          <p:cNvPicPr/>
          <p:nvPr/>
        </p:nvPicPr>
        <p:blipFill>
          <a:blip r:embed="rId2"/>
          <a:srcRect l="0" t="7423" r="0" b="10140"/>
          <a:stretch/>
        </p:blipFill>
        <p:spPr>
          <a:xfrm>
            <a:off x="1219320" y="1371600"/>
            <a:ext cx="6134040" cy="16635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1447920" y="5105520"/>
            <a:ext cx="5638680" cy="8380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All of these problems can be fixed with no changes to our basic mode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68C5-A723-48BB-AC83-09E4A13E0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7696440" cy="36576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resolve the problem of synonymous forms, we will establish a rule that the first digit of the significand must be 1.  This results in a unique pattern for each floating-point numb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IEEE-754 standard, this 1 is implied meaning that a 1 is assumed after the binary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using an implied 1, we increase the precision of the representation by a power of two.  (Why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95480" y="4952880"/>
            <a:ext cx="4496040" cy="8384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In our simple instructional model, we will use no implied bi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26A9-2A95-47EB-8BD1-B72F7B31F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380520" y="14479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provide for negative exponents, we will use 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biased exponen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ias is a number that is approximately midway in the range of values expressible by the exponent.  We subtract the bias from the value in the exponent to determine its true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our case, we have a 5-bit exponent.  We will use 16 for our bias.  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cess-1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presen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our model, exponent values less than 16 are negative, representing fractional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C3B7-49D1-4DAB-8393-79DA78DE6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20" descr=""/>
          <p:cNvPicPr/>
          <p:nvPr/>
        </p:nvPicPr>
        <p:blipFill>
          <a:blip r:embed="rId2"/>
          <a:stretch/>
        </p:blipFill>
        <p:spPr>
          <a:xfrm>
            <a:off x="1104840" y="4879800"/>
            <a:ext cx="6207120" cy="125892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1128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3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revised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that 32 = 1.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ur excess 16 biased exponent, we add 16 to 6, giving 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=101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4002-C842-463E-98A7-7AC341D5E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21" descr=""/>
          <p:cNvPicPr/>
          <p:nvPr/>
        </p:nvPicPr>
        <p:blipFill>
          <a:blip r:embed="rId2"/>
          <a:stretch/>
        </p:blipFill>
        <p:spPr>
          <a:xfrm>
            <a:off x="1104840" y="4879800"/>
            <a:ext cx="6207120" cy="12589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1280" y="1676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0.06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revised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that 0.0625 is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So in (binary) scientific notation 0.0625 = 1.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ur excess 16 biased exponent, we add 16 to -3, giving 1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=01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E33F-1A71-4386-822B-08FCFE1B6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2 Positional Numbering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cimal number 947 in powers of 10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ecimal number 5836.47 in powers of 10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3934440"/>
            <a:ext cx="5410080" cy="1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23612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64C7-B2D2-4220-BA0A-10521F7A5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22" descr=""/>
          <p:cNvPicPr/>
          <p:nvPr/>
        </p:nvPicPr>
        <p:blipFill>
          <a:blip r:embed="rId2"/>
          <a:stretch/>
        </p:blipFill>
        <p:spPr>
          <a:xfrm>
            <a:off x="1104840" y="4879800"/>
            <a:ext cx="6207120" cy="12589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79232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-26.6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revised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ind 26.6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1010.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Normalizing, we have: 26.6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1010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our excess 16 biased exponent, we add 16 to 5, giving 2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=101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We also need a 1 in the sign b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775A-BE0C-4431-81A5-B3E7C9D961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83041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EEE-754 single precision floating point standard uses bias of 127 over its 8-bit exponent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ponent of 255 indicates a special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ignificand is zero, the value is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fi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he significand is nonzero, the value is NaN, “not a number,” often used to flag an error condi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double precision standard has a bias of 1023 over its 11-bit expon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special” exponent value for a double precision number is 2047, instead of the 255 used by the single precision stand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D1398-27C6-4B6B-A64F-E01167FAF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04120" cy="38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h the 14-bit model that we have presented and the IEEE-754 floating point standard allow two representations for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ro is indicated by all zeros in the exponent and the significand, but the sign bit can be either 0 o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why programmers should avoid testing a floating-point value for equality to zer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zero does not equal positive ze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1623-8C74-41AD-8ABE-0A399FEDB9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784692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addition and subtraction are done using methods analogous to how we perform calculations using pencil and pap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thing that we do is express both operands in the same exponential power, then add the numbers, preserving the exponent in the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xponent requires adjustment, we do so at the end of the calcul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6781-1EFB-4D5C-B616-184B5001C0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10920" y="1447560"/>
            <a:ext cx="79232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sum of 1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.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ind 1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10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nd 1.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000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23" descr=""/>
          <p:cNvPicPr/>
          <p:nvPr/>
        </p:nvPicPr>
        <p:blipFill>
          <a:blip r:embed="rId2"/>
          <a:stretch/>
        </p:blipFill>
        <p:spPr>
          <a:xfrm>
            <a:off x="3352680" y="3200400"/>
            <a:ext cx="5100840" cy="25938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09480" y="3505320"/>
            <a:ext cx="3276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our sum is 0.110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842D-07C0-411A-B550-F1A313013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761832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multiplication is also carried out in a manner akin to how we perform multiplication using pencil and pap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multiply the two operands and add their expon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xponent requires adjustment, we do so at the end of the calcul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77E1-1F48-4B79-9769-AFA9493B0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24" descr=""/>
          <p:cNvPicPr/>
          <p:nvPr/>
        </p:nvPicPr>
        <p:blipFill>
          <a:blip r:embed="rId2"/>
          <a:stretch/>
        </p:blipFill>
        <p:spPr>
          <a:xfrm>
            <a:off x="3657600" y="3429000"/>
            <a:ext cx="5100480" cy="259380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610920" y="1447560"/>
            <a:ext cx="7770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product of 1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.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ing the 14-bit floating-point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ind 1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110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And 1.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10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480" y="3200400"/>
            <a:ext cx="32767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our product is 0.0111100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5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111 x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malized product requires an exponent of 2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1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C364-9F88-402C-8880-59E85D15D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830412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matter how many bits we use in a floating-point representation, our model must be finit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eal number system is, of course, infinite, so our models can give nothing more than an approximation of a real valu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some point, every model breaks down, introducing errors into our calcul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using a greater number of bits in our model, we can reduce these errors, but we can never totally eliminate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37E-8A92-4F97-A0FD-840175F24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830412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ur job becomes one of reducing error, or at least being aware of the possible magnitude of error in our calcul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must also be aware that errors can compound through repetitive arithmetic op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xample, our 14-bit model cannot exactly represent the decimal value 128.5.  In binary, it is 9 bits wid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000000.1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= 128.5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4812-CAAE-400A-8622-1EDDCAF09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we try to express 128.5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our 14-bit model, we lose the low-order bit, giving a relative error of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had a procedure that repetitively added 0.5 to 128.5, we would have an error of nearly 2% after only four iter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2057400" y="2527200"/>
            <a:ext cx="3809880" cy="1408320"/>
            <a:chOff x="2057400" y="2527200"/>
            <a:chExt cx="3809880" cy="1408320"/>
          </a:xfrm>
        </p:grpSpPr>
        <p:sp>
          <p:nvSpPr>
            <p:cNvPr id="342" name=""/>
            <p:cNvSpPr/>
            <p:nvPr/>
          </p:nvSpPr>
          <p:spPr>
            <a:xfrm>
              <a:off x="2057400" y="2527200"/>
              <a:ext cx="2133720" cy="14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u="sng" baseline="30000">
                  <a:solidFill>
                    <a:srgbClr val="000000"/>
                  </a:solidFill>
                  <a:uFillTx/>
                  <a:latin typeface="Arial"/>
                </a:rPr>
                <a:t>128.5 - 12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000000"/>
                  </a:solidFill>
                  <a:latin typeface="Arial"/>
                </a:rPr>
                <a:t>128.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33920" y="2725560"/>
              <a:ext cx="2133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 baseline="30000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4000" spc="-1" strike="noStrike" baseline="30000">
                  <a:solidFill>
                    <a:srgbClr val="000000"/>
                  </a:solidFill>
                  <a:latin typeface="Arial"/>
                </a:rPr>
                <a:t>0.39%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514A8-080A-4C84-ACBD-624C74498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2 Positional Numbering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nary number 11001 in powers of 2 i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the radix of a number is something other than 10, the base is denoted by a subscript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, the subscript 10 is added for emphas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90720" y="2205000"/>
            <a:ext cx="70866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+    8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 0 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   0  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  1    =  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24E52-9805-4AAC-81B6-D74EB5245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errors can be reduced when we use operands that are similar in magnitu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we were repetitively adding 0.5 to 128.5, it would have been better to iteratively add 0.5 to itself and then add 128.5 to this su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is example, the error was caused by loss of the low-order b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s of the high-order bit is more problemat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6536-B36E-4A70-898E-E4E8E1262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7923240" cy="38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ating-point overflow and underflow can cause programs to cras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flow occurs when there is no room to store the high-order bits resulting from a calcul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flow occurs when a value is too small to store, possibly resulting in division by z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4724280"/>
            <a:ext cx="7391520" cy="12193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Experienced programmers know that it’s better for  a program to crash than to have it produce incorrect, but plausible, resul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DB21-2757-4D15-8FA9-88ECAFCD2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81518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discussing floating-point numbers, it is important to understand the term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nge, precision, and accurac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ange of a numeric integer format is the difference between the largest and smallest values that is can expres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uracy refers to how closely a numeric representation approximates a true val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precision of a number indicates how much information we have about a valu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B927-3602-422E-AB1D-FCF4A871C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of the time, greater precision leads to better accuracy, but this is not always tru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3.1333 is a value of pi that is accurate to two digits, but has 5 digits of prec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other problems with floating point numb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of truncated bits, you cannot always assume that a particular floating point operation is commutative or distributiv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7EA5-F2C7-4740-B2C2-386EF736B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382680" y="1442880"/>
            <a:ext cx="79992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means that we cannot assum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+ b) + c = a + (b + c) 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(b + c) = ab + 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over, to test a floating point value for equality to some other number, first figure out how close one number can be to be considered equal. Call this valu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psil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use the statement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abs(x) &lt; epsilon) then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5 Floating-Point Repres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B7769-C6AD-4702-BB37-6739F2FC8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763560" y="1442880"/>
            <a:ext cx="777096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lculations aren’t useful until their results can be displayed in a manner that is meaningful to peopl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also need to store the results of calculations, and provide a means for data in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human-understandable characters must be converted to computer-understandable bit patterns using some sort of character encoding sche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2774-A768-4221-A5D9-6105CE02B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766800" y="1442880"/>
            <a:ext cx="746280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computers have evolved, character codes have evolv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rger computer memories and storage devices permit richer character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arliest computer coding systems used six bi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-coded decimal (BCD) was one of these early codes. It was used by IBM mainframes in the 1950s and 1960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E943-D74E-4C2E-8829-238322A4E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766800" y="1442880"/>
            <a:ext cx="784368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964, BCD was extended to an 8-bit code, Extended Binary-Coded Decimal Interchange Code (EBCDIC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BCDIC was one of the first widely-used computer codes that supported uppe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owercase alphabetic characters, in addition to special characters, such as punctuation and control charac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BCDIC and BCD are still in use by IBM mainframes toda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B548-6A91-482B-BC0B-D3C3E01FE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766800" y="1442880"/>
            <a:ext cx="753912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her computer manufacturers chose the 7-bit ASCII (American Standard Code for Information Interchange) as a replacement for 6-bit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le BCD and EBCDIC were based upon punched card codes, ASCII was based upon telecommunications (Telex)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til recently, ASCII was the dominant character code outside the IBM mainfram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3632-0A91-49A5-9954-D4D953A4A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766800" y="1442520"/>
            <a:ext cx="78436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y of today’s systems embrace Unicode, a 16-bit system that can encode the characters of every language in the wor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Java programming language, and some operating systems now use Unicode as their default character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code codespace is divided into six parts.  The first part is for Western alphabet codes, including English, Greek, and Russia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3DF4-F875-4B5E-834E-6AB161684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3 Decimal to Binary Convers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36576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binary numbers are the basis for all data representation in digital computer systems, it is important that you become proficient with this radix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r knowledge of the binary numbering system will enable you to understand the operation of all computer components as well as the design of instruction set architectu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F3FC7-47E2-47BC-9FD4-06E7169B0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80880" y="1442880"/>
            <a:ext cx="3810240" cy="457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Unicode codes- pace allocation is shown at the r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lowest-numbered Unicode characters comprise the ASCII cod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highest provide for user-defined co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600200" y="382320"/>
            <a:ext cx="457200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6 Character Cod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25" descr=""/>
          <p:cNvPicPr/>
          <p:nvPr/>
        </p:nvPicPr>
        <p:blipFill>
          <a:blip r:embed="rId2"/>
          <a:stretch/>
        </p:blipFill>
        <p:spPr>
          <a:xfrm>
            <a:off x="4343400" y="1371600"/>
            <a:ext cx="46260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4BA0-D125-4608-B933-7F190BFA2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838044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physically impossible for any data recording or transmission medium to be 100% perfect 100% of the time over its entire expected useful lif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more bits are packed onto a square centimeter of disk storage, as communications transmission speeds increase, the likelihood of error increases-- sometimes geometricall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, error detection and correction is critical to accurate data transmission, storage and retriev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1120-FBEC-4978-9B79-A989F23CC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 digits, appended to the end of a long number can provide some protection against data input err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st character of UPC barcodes and ISBNs are check dig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nger data streams require more economical and sophisticated error detection mechanis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yclic redundancy checking (CRC) codes provide error detection for large blocks of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275D-BA3A-4C92-AD9F-DC97DCE9E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838044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s and CRCs are examples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ystematic error det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ystematic error detec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group of error control bits is appended to the end of the block of transmitted dat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group of bits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yndro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Cs are polynomials over the modulo 2 arithmetic fiel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71600" y="5029200"/>
            <a:ext cx="6858000" cy="10666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The mathematical theory behind modulo 2 polynomials is beyond our scope. However, we can easily work with it without knowing its theoretical underpinn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DD03-C5AB-4AA8-8DF2-ADE2E4DD6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82320" y="1442520"/>
            <a:ext cx="792324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ulo 2 arithmetic works like clock arithmetic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clock arithmetic, if we add 2 hours to 11:00, we get 1: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dulo 2 arithmetic if we add 1 to 1, we get 0. The addition rules couldn’t be simpler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371600" y="5257800"/>
            <a:ext cx="7010280" cy="8380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You will fully understand why modulo 2 arithmetic is so handy after you study digital circuits in Chapter 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14600" y="3788280"/>
            <a:ext cx="3352680" cy="12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7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0 + 0 = 0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0 + 1 =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1763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 + 0 = 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 + 1 = 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E1B6-3154-4D3A-9DB0-7CC18FA97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4724640" cy="4724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the quotient and remainder when 1111101 is divided by 1101 in modulo 2 arithmeti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with traditional division, we note that the dividend is divisible once by the divis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lace the divisor under the dividend and perform modulo 2 subt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7" name="34a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78784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EC60-0EC9-4E6F-8ED9-7A719CC86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34b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797200" cy="31701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4724640" cy="4724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the quotient and remainder when 1111101 is divided by 1101 in modulo 2 arithmetic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bring down the next bit of the divid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see that 00101 is not divisible by 1101. So we place a zero in the quot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4444-AE0E-4080-937E-080C54EAB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34c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797200" cy="31701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4724640" cy="4724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the quotient and remainder when 1111101 is divided by 1101 in modulo 2 arithmetic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10 is divisible by 1101 in modulo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perform the modulo 2 subtra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B671-A932-4A18-9047-87A460ACC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34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2797200" cy="31701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4724640" cy="3581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nd the quotient and remainder when 1111101 is divided by 1101 in modulo 2 arithmetic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find the quotient is 1011, and the remainder is 00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ocedure is very useful to us in calculating CRC syndrom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81080" y="5257800"/>
            <a:ext cx="5791320" cy="8380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   </a:t>
            </a:r>
            <a:r>
              <a:rPr b="1" i="1" lang="en-US" sz="2200" spc="-1" strike="noStrike">
                <a:solidFill>
                  <a:srgbClr val="cc3300"/>
                </a:solidFill>
                <a:latin typeface="Times New Roman"/>
              </a:rPr>
              <a:t>Note: The divisor in this example corresponds to a modulo 2 polynomial:  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X</a:t>
            </a:r>
            <a:r>
              <a:rPr b="1" lang="en-US" sz="2200" spc="-1" strike="noStrike" baseline="30000">
                <a:solidFill>
                  <a:srgbClr val="cc3300"/>
                </a:solidFill>
                <a:latin typeface="Arial"/>
              </a:rPr>
              <a:t> 3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 + X</a:t>
            </a:r>
            <a:r>
              <a:rPr b="1" lang="en-US" sz="2200" spc="-1" strike="noStrike" baseline="30000">
                <a:solidFill>
                  <a:srgbClr val="cc3300"/>
                </a:solidFill>
                <a:latin typeface="Arial"/>
              </a:rPr>
              <a:t> 2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</a:rPr>
              <a:t> + 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29C9-0C67-42A5-B28F-A42F4CC69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382320" y="1442880"/>
            <a:ext cx="51800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ppose we want to transmit the information string: 111110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ceiver and sender decide to use the (arbitrary) polynomial pattern, 110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nformation string is shifted left by one position less than the number of positions in the diviso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remainder is found through modulo 2 division (at right) and added to the information string: 1111101000 + 111 = 1111101111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46784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2.8 Error Detection and Corre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35" descr=""/>
          <p:cNvPicPr/>
          <p:nvPr/>
        </p:nvPicPr>
        <p:blipFill>
          <a:blip r:embed="rId2"/>
          <a:stretch/>
        </p:blipFill>
        <p:spPr>
          <a:xfrm>
            <a:off x="5435640" y="1589040"/>
            <a:ext cx="33274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23:57:00Z</dcterms:created>
  <dc:creator>Null &amp; Lobur</dc:creator>
  <dc:description/>
  <dc:language>en-US</dc:language>
  <cp:lastModifiedBy>User</cp:lastModifiedBy>
  <dcterms:modified xsi:type="dcterms:W3CDTF">2006-01-10T02:48:20Z</dcterms:modified>
  <cp:revision>186</cp:revision>
  <dc:subject/>
  <dc:title>Chapter 2</dc:title>
</cp:coreProperties>
</file>