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8A2D-A577-4904-9641-AFA3A9BC1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D98-4431-48FA-A815-527B383DA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215C-B99F-484D-8407-602CE3F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F785-4B16-47FB-8985-639A30D1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A71-F6E7-4EFD-B449-4B4100C2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C0B-E60D-4B81-ABD6-24388DAF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2A96-8913-462E-8FBA-829BA053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8C3-4438-4500-B2BB-2D3C4F3D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45EC-C8F0-48C1-8587-9498AFE9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A48B-7141-4A28-8C3E-8079269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106-64A3-4B54-804F-9706845C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6A60-E128-4692-8D42-03FD81F3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1F4-ECED-4534-AF5C-1910ADE46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76920" y="36576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495680" y="46479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put/Output and Storage Syste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0FD1-8CFA-473A-9CF1-121765C8E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 can be controlled in four general way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grammed I/O reserves a register for each I/O device.  Each register is continually polled to detect data arri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terrupt-Driven I/O allows the CPU to do other things until I/O is reques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rect Memory Access (DMA) offloads I/O processing to a special-purpose chip that takes care of the detai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uses dedicated I/O processo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C2EE5-79BC-41BA-B993-B55DD101E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n idealized I/O subsystem that uses interru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device connects its interrupt line to the interrupt controll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7-2" descr=""/>
          <p:cNvPicPr/>
          <p:nvPr/>
        </p:nvPicPr>
        <p:blipFill>
          <a:blip r:embed="rId2"/>
          <a:srcRect l="0" t="2284" r="2970" b="10944"/>
          <a:stretch/>
        </p:blipFill>
        <p:spPr>
          <a:xfrm>
            <a:off x="1523880" y="2819520"/>
            <a:ext cx="7467840" cy="334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92120" y="258804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ler signals the CPU when any of the interrupt lines are ass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A593-8AC8-43FF-92F1-2313034E0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call from Chapter 4 that in a system that uses interrupts, the status of the interrupt signal is checked at the top of the fetch-decode-execute cycl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particular code that is executed whenever an interrupt occurs is determined by a set of addresses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interrupt vector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that are stored in low memo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system state is saved before the interrupt service routine is executed and is restored afterwar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17B9-B968-40ED-9C8D-13CB5E662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880" y="190476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DMA configur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DMA and the CPU share the bu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MA runs at a higher priority and steals memory cycles from the CP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7-5" descr=""/>
          <p:cNvPicPr/>
          <p:nvPr/>
        </p:nvPicPr>
        <p:blipFill>
          <a:blip r:embed="rId2"/>
          <a:stretch/>
        </p:blipFill>
        <p:spPr>
          <a:xfrm>
            <a:off x="3809880" y="1676520"/>
            <a:ext cx="496260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6D6B-D386-4FDA-8A80-1C63F77C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Very large systems employ channel I/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consists of one or more I/O processors (IOPs) that control various channel path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ower devices such as terminals and printers are combined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ultiplexe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into a single faster channe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n IBM mainframes, multiplexed channel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ultiplexor channe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 faster one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selector channel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431CC-23A9-416F-98A6-91E735E0F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nnel I/O is distinguished from DMA by the intelligence of the IO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IOP negotiates protocols, issues device commands, translates storage coding to memory coding, and can transfer entire files or groups of files independent of the host CPU.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host has only to create the program instructions for the I/O operation and tell the IOP where to find th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ADDA-0358-49A4-B2FB-2589C507F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a channel I/O 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7-3" descr=""/>
          <p:cNvPicPr/>
          <p:nvPr/>
        </p:nvPicPr>
        <p:blipFill>
          <a:blip r:embed="rId2"/>
          <a:stretch/>
        </p:blipFill>
        <p:spPr>
          <a:xfrm>
            <a:off x="838080" y="1754280"/>
            <a:ext cx="670104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BC8-2A47-42E5-8D5C-BFC095920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acter I/O devices process one byte (or character) at a ti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include modems, keyboards, and m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s are usually connected through an interrupt-driven I/O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lock I/O devices handle bytes in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mass storage devices (disk and tape) are block I/O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I/O systems are most efficiently connected through DMA or channel I/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160-CC69-4E46-BA01-25CCEE2C5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 buses, unlike memory buses, operate asynchronously. Requests for bus access must be arbitrated among the devices involv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s control lines activate the devices when they are needed, raise signals when errors have occurred, and reset devices when necessar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number of data lines is th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dth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bu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bus clock coordinates activities and provides bit cell bounda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8D2-5610-4C8C-A54F-81EA2910F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generic DMA configuration showing how the DMA circuit connects to a data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Fig_7-8" descr=""/>
          <p:cNvPicPr/>
          <p:nvPr/>
        </p:nvPicPr>
        <p:blipFill>
          <a:blip r:embed="rId2"/>
          <a:stretch/>
        </p:blipFill>
        <p:spPr>
          <a:xfrm>
            <a:off x="762120" y="2390760"/>
            <a:ext cx="73674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I/O systems work, including  I/O methods and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 familiar with storage media, and the differences in their respective forma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RAID improves disk performance and reliability, and which RAID systems are most useful tod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familiar with emerging data storage technologies and the barriers that remain to be overco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892C-892A-4A1A-A1F1-84D4E2F974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9BDA-BC5E-484B-970E-1E3DD200C5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how a bus connects to a disk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7-6" descr=""/>
          <p:cNvPicPr/>
          <p:nvPr/>
        </p:nvPicPr>
        <p:blipFill>
          <a:blip r:embed="rId2"/>
          <a:stretch/>
        </p:blipFill>
        <p:spPr>
          <a:xfrm>
            <a:off x="380880" y="2209680"/>
            <a:ext cx="821844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3B4D-FB23-42FE-A66D-BB679CE42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1676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ing diagrams, such as this one, define bus operation in det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7-7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674676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A608-4712-4391-9CE6-122C5012E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5 Data Transmission M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2133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s can be conveyed from one point to another by sending their encoding signals simultaneously us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arallel data trans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by sending them one bit at a time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rial data transmis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7a_1" descr=""/>
          <p:cNvPicPr/>
          <p:nvPr/>
        </p:nvPicPr>
        <p:blipFill>
          <a:blip r:embed="rId2"/>
          <a:srcRect l="0" t="3758" r="0" b="4930"/>
          <a:stretch/>
        </p:blipFill>
        <p:spPr>
          <a:xfrm>
            <a:off x="3733920" y="3429000"/>
            <a:ext cx="446220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143000" y="3395880"/>
            <a:ext cx="236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2600" indent="-28260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data transmission for a printer resembles the signal protocol of a memory b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DB23-5677-49B5-BB12-F330CBFE9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5 Data Transmission M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3581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arallel data transmission, the interface requires one conductor for each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cables are fatter than serial c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ed with parallel data interfaces, serial communications interfa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 fewer condu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less susceptible to atten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transmit data farther an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333040"/>
            <a:ext cx="6858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erial communications interfaces are suitable for time-sensitive (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sochronous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) data such as voice and vide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9B6A-DBD3-4ABA-A143-5439248BB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gnetic disks offer large amounts of durable storage that can be accessed quickl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isk drives are calle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random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access storage devices,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because blocks of data can be accessed according to their location on the dis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erm was coined when all other durable storage (e.g., tape) was sequ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gnetic disk organization is shown on the following sli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4791-597A-49FF-8D02-16F96873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2057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tracks are numbered from the outside edge, starting with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7-9" descr=""/>
          <p:cNvPicPr/>
          <p:nvPr/>
        </p:nvPicPr>
        <p:blipFill>
          <a:blip r:embed="rId2"/>
          <a:stretch/>
        </p:blipFill>
        <p:spPr>
          <a:xfrm>
            <a:off x="2725560" y="1338120"/>
            <a:ext cx="4818240" cy="53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F5C3-D050-4BEF-9747-97FAD57B8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3200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rd disk platters are mounted on spind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ad/write heads are mounted on a comb that swings radially to read the dis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7-10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054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DE6D9-362D-4F5E-94C0-97A49BD697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3200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rotating disk forms a logical cylinder beneath the read/write hea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ata blocks are addressed by their cylinder, surface, and sect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7-10" descr=""/>
          <p:cNvPicPr/>
          <p:nvPr/>
        </p:nvPicPr>
        <p:blipFill>
          <a:blip r:embed="rId2"/>
          <a:stretch/>
        </p:blipFill>
        <p:spPr>
          <a:xfrm>
            <a:off x="3581280" y="1905120"/>
            <a:ext cx="50547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45D0-DFCE-4AEC-8197-CDA89FBF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 number of electromechanical properties of hard disk drives that determine how fast its data can be acces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time that it takes for a disk arm to move into position over the desired cylin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otational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time that it takes for the desired sector to move into position beneath the read/write hea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ek time + rotational delay =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access tim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DB05-B61A-4F8E-AA85-CF8C767F7C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ransfer ra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s us the rate at which data can be read from the dis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verage laten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function of the rotational spee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ean Time To Failure (MTTF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statistically-determined value often calculated experiment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usually doesn’t tell us much about the actual expected life of the disk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ign li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more realis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at" descr=""/>
          <p:cNvPicPr/>
          <p:nvPr/>
        </p:nvPicPr>
        <p:blipFill>
          <a:blip r:embed="rId2"/>
          <a:stretch/>
        </p:blipFill>
        <p:spPr>
          <a:xfrm>
            <a:off x="1860480" y="2743200"/>
            <a:ext cx="4944960" cy="1324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90720" y="5896440"/>
            <a:ext cx="6933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Figure 7.11 in the text shows a sample disk specific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6D0C-E6BF-427B-BEC2-CE86228A5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storage and retrieval is one of the primary functions of computer system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could easily make the argument that computers are more useful to us as data storage and retrieval devices than they are as computational mach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omputers have I/O devices connected to them, and to achieve good performance I/O should be kept to a minimu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tudying I/O, we seek to understand the different types of I/O devices as well as how they wor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7414-D67D-46BA-8408-4802ED6F1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(flexible) disks are organized in the same way as hard disks, with concentric tracks that are divided into sect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hysical and logical limitations restrict floppies to much lower densities than hard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ajor logical limitation of the DOS/Windows floppy diskette is the organization of its file allocation table (FAT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T gives the status of each sector on the disk: Free, in use, damaged, reserved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4756-1C86-408B-B3C8-F44F6C742B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standard 1.44MB floppy, the FAT is limited to nine 512-byte sector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two copies of the F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18 sectors per track and 80 tracks on each surface of a floppy, for a total of 2880 sectors on the disk.  So each FAT entry needs at least 12 bits (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2048 &lt; 2880 &lt;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4096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FAT entries for disks smaller than 10MB are 12 bits, and the organization is called FAT1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 16 is employed for disks larger than 10M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F572-748B-48AD-B652-A8E684757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sk directory associates logical file names with physical disk loc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ies contain a file name and the file’s first FAT en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file spans more than one sector (or cluster), the FAT contains a pointer to the next cluster (and FAT entry) for the fi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AT is read like a linked list until the &lt;EOF&gt; entry is found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2C87-E2BF-40FD-8706-DC94FFCB1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rectory entry says that a file we want to read starts at sector 121 in the FAT fragment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tors 121, 124, 126, and 122 are read.  After each sector is read, its FAT entry is to find the next sector occupied by the fi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 the FAT entry for sector 122, we find the end-of-file marker &lt;EOF&gt;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6 Magnetic Disk Technolog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7-12" descr=""/>
          <p:cNvPicPr/>
          <p:nvPr/>
        </p:nvPicPr>
        <p:blipFill>
          <a:blip r:embed="rId2"/>
          <a:stretch/>
        </p:blipFill>
        <p:spPr>
          <a:xfrm>
            <a:off x="304920" y="2362320"/>
            <a:ext cx="8448480" cy="13237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5485320"/>
            <a:ext cx="69339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How many disk accesses are required to read this fil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D953-5223-4856-BC38-DE8A1CE0C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al disks provide large storage capacities very inexpensive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ome in a number of varieties including CD-ROM, DVD, and W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large computer installations produce document output on optical disk rather than on paper. This idea is called COLD--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puter Output Laser Dis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stimated that optical disks can endure for a hundred years. Other media are good for only a decade-- at be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246F-DE71-44DF-89E6-2BC20CD873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D-ROMs were designed by the music industry in the 1980s, and later adapted to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history is reflected by the fact that data is recorded in a single spiral track, starting from the center of the disk and spanning outw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ones and zeros are delineated by bumps in the polycarbonate disk substrate. The transitions between pits and lands define binary 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could unravel a full CD-ROM track, it would be nearly five miles long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11C2C-EEDE-4249-B59D-75DA3BC4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gical data format for a CD-ROM is much more complex than that of a magnetic disk. (See the text for details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formats are provided for data and mus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levels of error correction are provided for the data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his, a CD holds at most 650MB of data, but can contain as much as 742MB of mus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E12A-40BE-46DB-838A-6ACCDDA0F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VDs can be thought of as quad-density C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ties include single sided, single layer, single sided double layer, double sided double layer, and double sided double lay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a CD-ROM can hold at most 650MB of data, DVDs can hold as much as 17G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reasons for this is that DVD employs a laser that has a shorter wavelength than the CD’s las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allows pits and land to be closer together and the spiral track to be wound tigh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CF46-1F0D-4CD6-829C-B9F22732B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horter wavelength light can read and write bytes in greater densities than can be done by a longer wavelength las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ne reason that DVD’s density is greater than that of C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nufacture of blue-violet lasers can now be done economically, bringing about the next generation of laser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incompatible formats, HD-CD and Blu-Ray, are competing for market domin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19B0-911F-4916-9AB0-9A8E81AD7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-Ray was developed by a consortium of nine companies that includes Sony, Samsung, and Pione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capacity of a single layer Blu-Ray disk is 25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D-DVD was developed under the auspices of the DVD Forum with NEC and Toshiba leading the effo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um capacity of a single layer HD-DVD is 15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difference between the two is that HD-DVD is backward compatible with red laser DVDs, and Blu-Ray is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BA0A-E15A-4C23-A1C2-CC6F8EC93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2 I/O and Perform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luggish I/O throughput can have a ripple effect, dragging down overall system performanc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especially true when virtual memory is invol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astest processor in the world is of little use if it spends most of its time waiting for dat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we really understand what’s happening in a computer system we can make the best possible use of its resour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71B4-AE62-46D8-9C84-A2C66CA786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ue-violet laser disks have also been designed for use in the data cen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ntion is to provide a means for long term data storage and retrie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are now domina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y’s Professional Disk for Data (PDD) that can store 23GB on one disk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smon’s Ultra Density Optical (UDO) that can hold up to 30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oo soon to tell which of these technologies will emerge as the winn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7 Optical Disk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CCE4-8BD4-41BB-AE65-D52C8B33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-generation magnetic tape was not much more than wide analog recording tape, having capacities under 11M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was usually written in nine vertical track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7-17" descr=""/>
          <p:cNvPicPr/>
          <p:nvPr/>
        </p:nvPicPr>
        <p:blipFill>
          <a:blip r:embed="rId2"/>
          <a:stretch/>
        </p:blipFill>
        <p:spPr>
          <a:xfrm>
            <a:off x="262080" y="3352680"/>
            <a:ext cx="850104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5643-64A0-445E-A69E-170A1E7F3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’s tapes are digital, and provide multiple gigabytes of data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dominant recording methods a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rpentin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helical sc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ich are distinguished by how the read-write head passes over the recording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pentine recording is used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gital linear ta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LT)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Quarter inch cartridg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QIC) tap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DAT) systems employ helical scan record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2120" y="574416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se two recording methods are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8CE-E091-4B57-9993-8135F1E1E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7-18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5302080" cy="331488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5486400" y="1827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pe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5256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ical Sca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Fig7-23_a" descr=""/>
          <p:cNvPicPr/>
          <p:nvPr/>
        </p:nvPicPr>
        <p:blipFill>
          <a:blip r:embed="rId3"/>
          <a:stretch/>
        </p:blipFill>
        <p:spPr>
          <a:xfrm>
            <a:off x="4495680" y="3013200"/>
            <a:ext cx="4381560" cy="311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E246-44C7-48D6-B255-D8DE7948F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ous incompatible tape formats emerged over the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even different models of the same manufacturer’s tape drives were incompatib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ally, in 1997, HP, IBM, and Seagate collaboratively invented a best-of-breed tape stand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lled this new tape forma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inear Tape Ope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T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because the specification is openly avail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DFB-4EC0-4A33-9C56-4EBD9EC3B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, as the name implies, is a linear digital tape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pecification allowed for the refinement of the technology through four “generation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3 was released in 20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compression, the tapes support a transfer rate of 80MB per second and each tape can hold up to 400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TO supports several levels of error correction, providing superb reliabil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pe has a reputation for being an error-prone 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8 Magnetic Ta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3D43-98CC-42BD-A968-82D052CC8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,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dundant Array of Independent Dis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as invented to address problems of disk reliability, cost, and perform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RAID, data is stored across many disks, with extra disks added to the array to provide error correction (redundancy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ventors of RAID, David Patterson, Garth Gibson, and Randy Katz, provided a RAID taxonomy that has persisted for a quarter of a century, despite many efforts to redefine 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C931-A557-4075-89D7-476BA16FE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0, 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rive span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s improved performance, but no redunda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is written in blocks across the entire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isadvantage of RAID 0 is in its low reli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7-20" descr=""/>
          <p:cNvPicPr/>
          <p:nvPr/>
        </p:nvPicPr>
        <p:blipFill>
          <a:blip r:embed="rId2"/>
          <a:stretch/>
        </p:blipFill>
        <p:spPr>
          <a:xfrm>
            <a:off x="623880" y="2819520"/>
            <a:ext cx="760572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CADF-130B-4F4A-BE7B-0576F53BD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1, also known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sk mirror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provides 100% redundancy, and good performan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wo matched sets of disks contain the same dat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disadvantage of RAID 1 is co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Raid1a" descr=""/>
          <p:cNvPicPr/>
          <p:nvPr/>
        </p:nvPicPr>
        <p:blipFill>
          <a:blip r:embed="rId2"/>
          <a:stretch/>
        </p:blipFill>
        <p:spPr>
          <a:xfrm>
            <a:off x="685800" y="2913120"/>
            <a:ext cx="7620120" cy="23367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3153-9479-4A96-B708-CF3D4E57A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ID Level 2 configuration consists of a set of data drives, and a set of Hamming code dr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2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mming code drives provide error correction for the data dri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2 performance is poor and the cost is relatively high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7-22" descr=""/>
          <p:cNvPicPr/>
          <p:nvPr/>
        </p:nvPicPr>
        <p:blipFill>
          <a:blip r:embed="rId2"/>
          <a:stretch/>
        </p:blipFill>
        <p:spPr>
          <a:xfrm>
            <a:off x="1550880" y="2666880"/>
            <a:ext cx="584064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7670-2843-40F9-B18D-18CC6AB39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verall performance of a system is a result of the interaction of all of its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performance is most effectively improved when the performance of the most heavily used components is improv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dea is quantified by Amdahl’s Law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Al" descr=""/>
          <p:cNvPicPr/>
          <p:nvPr/>
        </p:nvPicPr>
        <p:blipFill>
          <a:blip r:embed="rId2"/>
          <a:stretch/>
        </p:blipFill>
        <p:spPr>
          <a:xfrm>
            <a:off x="990720" y="4253040"/>
            <a:ext cx="3071520" cy="1309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14800" y="4158000"/>
            <a:ext cx="4648320" cy="16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overall speedu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fraction of work performed by a faster component;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is the speedup of the faster compon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F471-97AB-4D40-80C6-5244BE6BF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3 stripes bits across a set of data drives and provides a separate disk for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ity is the XOR of the data b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6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3 is not suitable for commercial applications, but is good for personal 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7-23" descr=""/>
          <p:cNvPicPr/>
          <p:nvPr/>
        </p:nvPicPr>
        <p:blipFill>
          <a:blip r:embed="rId2"/>
          <a:stretch/>
        </p:blipFill>
        <p:spPr>
          <a:xfrm>
            <a:off x="380880" y="2855880"/>
            <a:ext cx="8136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0277-5DD2-4613-B73E-C7E41693C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4 is like adding parity disks to RAID 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is written in blocks across the data disks, and a parity block is written to the redundant driv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4 would be feasible if all record blocks were the same siz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7-24" descr=""/>
          <p:cNvPicPr/>
          <p:nvPr/>
        </p:nvPicPr>
        <p:blipFill>
          <a:blip r:embed="rId2"/>
          <a:stretch/>
        </p:blipFill>
        <p:spPr>
          <a:xfrm>
            <a:off x="291960" y="2749680"/>
            <a:ext cx="85471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A4DB-5571-4F1D-A0F1-B608BEB34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5 is RAID 4 with distributed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ith distributed parity, some accesses can be serviced concurrently, giving good performance and high reliabil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5 is used in many commercial system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7-25" descr=""/>
          <p:cNvPicPr/>
          <p:nvPr/>
        </p:nvPicPr>
        <p:blipFill>
          <a:blip r:embed="rId2"/>
          <a:stretch/>
        </p:blipFill>
        <p:spPr>
          <a:xfrm>
            <a:off x="914400" y="2822400"/>
            <a:ext cx="68104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038A-F82D-41AB-A723-848C4AECD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Level 6 carries two levels of error protection over striped data: Reed-Soloman and par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can tolerate the loss of two disk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1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AID 6 is write-intensive, but highly fault-tolera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7-26" descr=""/>
          <p:cNvPicPr/>
          <p:nvPr/>
        </p:nvPicPr>
        <p:blipFill>
          <a:blip r:embed="rId2"/>
          <a:stretch/>
        </p:blipFill>
        <p:spPr>
          <a:xfrm>
            <a:off x="457200" y="2895480"/>
            <a:ext cx="8236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DCB8-867B-409A-88C9-7057A68E2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parity RAID (RAID DP) employs pairs of over- lapping parity blocks that provide linearly independent parity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Fig_7-31_ECOA2E_ppt" descr=""/>
          <p:cNvPicPr/>
          <p:nvPr/>
        </p:nvPicPr>
        <p:blipFill>
          <a:blip r:embed="rId2"/>
          <a:stretch/>
        </p:blipFill>
        <p:spPr>
          <a:xfrm>
            <a:off x="152280" y="2666880"/>
            <a:ext cx="868680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B955-D04A-413C-89AD-B3500E496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RAID 6, RAID DP can tolerate the loss of two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se of simple parity functions provides RAID DP with better performance than RAID 6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because two parity functions are involved, RAID DP’s performance is somewhat degraded from that of RAID 5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 DP is also known as EVENODD, diagonal parity RAID, RAID 5DP, advanced data guarding RAID (RAID ADG) and-- erroneously-- RAI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7B96-0FAF-4325-8345-2FBEA15BC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 systems consisting of many drive arrays may employ various RAID levels, depending on the criticality of the data on the dr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k array that provides program workspace (say for file sorting) does not require high fault toleranc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itical, high-throughput files can benefit from combining RAID 0 with RAID 1, called RAID 1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in mind that a higher RAID level does not necessarily mean a “better” RAID level.  It all depends upon the needs of the applications that use the disk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456840" y="382320"/>
            <a:ext cx="655308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9 RAI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D5C9-15C7-48D6-8165-9407CA623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ances in technology have defied all efforts to define the ultimate upper limit for magnetic disk storage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1970s, the upper limit was thought to be around 2M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’s disks commonly support 2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rovements have occurred in several different technologies includ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rials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o-optical recording he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correcting c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2248-4567-4F16-B251-FB5CC3679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data densities increase, bit cells consist of proportionately fewer magnetic gra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a point at which there are too few grains to hold a value, and a 1 might spontaneously change to a 0, or vice ver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oint is called the superparamagnetic lim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006, the superparamagnetic limit is thought to lie between 15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200G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en if this limit is wrong by a few orders of magnitude, the greatest gains in magnetic storage have probably already been realiz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409A-0320-4A1F-A633-A15DDEDBA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exponential gains in data storage most likely will occur through the use of totally new technolog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into finding suitable replacements for magnetic disks is taking place on several fro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 more interesting technologie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ologic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ographic system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electro-mechanical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BCE3-8696-4A4D-91E8-DDA68CA343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ahl’s Law gives us a handy way to estimate the performance improvement we can expect when we upgrade a system compon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large system, suppose we can upgrade a CPU to make it 50% faster for $10,000 or upgrade its disk drives for $7,000 to make them 250% fast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es spend 70% of their time running in the CPU and 30% of their time waiting for disk ser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upgrade of which component would offer the greater benefit for the lesser cost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109E-8268-47B6-8AD1-5E4DB9B029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 day biological data storage systems combine organic compounds such as proteins or oils with inorganic (magentizable) substa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prototypes have encouraged the expectation that densities of 1T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attain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the ultimate biological data storage medium is DN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illions of messages can be stored in a tiny strand of D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actical DNA-based data storage is most likely decades a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E70-6435-41BB-9A1A-8481EEF93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ographic storage uses a pair of laser beams to etch a three-dimensional hologram onto a polymer med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FIG" descr=""/>
          <p:cNvPicPr/>
          <p:nvPr/>
        </p:nvPicPr>
        <p:blipFill>
          <a:blip r:embed="rId2"/>
          <a:stretch/>
        </p:blipFill>
        <p:spPr>
          <a:xfrm>
            <a:off x="380880" y="2317680"/>
            <a:ext cx="842508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5399-672F-4C57-A3C7-16F7AF6D54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retrieved by passing the reference beam through the hologram, thereby reproducing the original coded object b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Fig_7-33_ECOA2E_ppt" descr=""/>
          <p:cNvPicPr/>
          <p:nvPr/>
        </p:nvPicPr>
        <p:blipFill>
          <a:blip r:embed="rId2"/>
          <a:srcRect l="12229" t="64312" r="13670" b="0"/>
          <a:stretch/>
        </p:blipFill>
        <p:spPr>
          <a:xfrm>
            <a:off x="533520" y="2743200"/>
            <a:ext cx="78483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ED0-3C25-4626-86C5-3F06AEE00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holograms are three-dimensional, tremendous data densities are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erimental systems have achieved over 30G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ith transfer rates of around 1GB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ddition, holographic storage is content address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ans that there is no need for a file directory on the disk. Accordingly, access time is re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jor challenge is in finding an inexpensive, stable, rewriteable holographic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3CBE-EDC7-469B-95A2-E588485137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cro-electro-mechanical storage (MEMS) devices offer another promising approach to mass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BM’s Millipede is one such dev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totypes have achieved densities of 100G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ith 1Tb/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as the technology is refin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502812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 photomicrograph of Millipede  is shown on the next slid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3702D-7AF5-4810-B887-9F53A1711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ipede consists of thousands of cantilevers that record a binary 1 by pressing a heated tip into a polymer subst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382320"/>
            <a:ext cx="6858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10 The Future of Data Storag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28170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4064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p reads a binary 1 when it dips into the imprint in the poly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5005080"/>
            <a:ext cx="3504960" cy="1116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Photomicrograph courtesy of the IBM Corpo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© 2005 IBM Corp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Fig_7-34_ECOA2E" descr=""/>
          <p:cNvPicPr/>
          <p:nvPr/>
        </p:nvPicPr>
        <p:blipFill>
          <a:blip r:embed="rId2"/>
          <a:stretch/>
        </p:blipFill>
        <p:spPr>
          <a:xfrm>
            <a:off x="3886200" y="2666880"/>
            <a:ext cx="4419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6541-3774-413B-BBC6-DE58234D7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ystems are critical to the overall performance of a computer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dahl’s Law quantifies this asser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ystems consist of memory blocks, cabling, control circuitry, interfaces, and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control methods include programmed I/O, interrupt-based I/O, DMA, and channel I/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ses require control lines, a clock, and data lines. Timing diagrams specify operational detai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D7CF-5D6C-4E0F-832C-501C440B6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disk is the principal form of durable stor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k performance metrics include seek time, rotational delay, and reliability estima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cal disks provide long-term storage for large amounts of data, although access is s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netic tape is also an archival medium.  Recording methods are track-based, serpentine, and helical sc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B15E-10F2-46E9-9B5A-577F04308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gives disk systems improved performance and reliability. RAID 3 and RAID 5 are the most comm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ID 6 and RAID DP protect against dual disk failure, but RAID DP offers better performanc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one of several new technologies including biological, holographic, or mechanical may someday replace magnetic disk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ardest part of data storage may be end up be in locating the data after it’s sto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7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7EDDA-EE09-4225-9000-D1A141B201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7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096D-F4D3-4279-B235-00CC8CABA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3 Amdahl’s La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cessor option offers a 130% speedu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he disk drive option gives a 122% speedup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1% of improvement for the processor costs $333, and for the disk a 1% improvement costs $31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l1" descr=""/>
          <p:cNvPicPr/>
          <p:nvPr/>
        </p:nvPicPr>
        <p:blipFill>
          <a:blip r:embed="rId2"/>
          <a:stretch/>
        </p:blipFill>
        <p:spPr>
          <a:xfrm>
            <a:off x="2514600" y="1981080"/>
            <a:ext cx="5932440" cy="903240"/>
          </a:xfrm>
          <a:prstGeom prst="rect">
            <a:avLst/>
          </a:prstGeom>
          <a:ln w="0">
            <a:noFill/>
          </a:ln>
        </p:spPr>
      </p:pic>
      <p:pic>
        <p:nvPicPr>
          <p:cNvPr id="63" name="Al2" descr=""/>
          <p:cNvPicPr/>
          <p:nvPr/>
        </p:nvPicPr>
        <p:blipFill>
          <a:blip r:embed="rId3"/>
          <a:stretch/>
        </p:blipFill>
        <p:spPr>
          <a:xfrm>
            <a:off x="2514600" y="3581280"/>
            <a:ext cx="5978520" cy="959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219320" y="5713920"/>
            <a:ext cx="61722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Should price/performance be your only concern?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5490-DAB0-4D8D-80C2-155E5EB94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define input/output as a subsystem of components that moves coded data between external devices and a host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 subsystems inclu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s of main memory that are devoted to I/O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es that move data into and out of the syste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modules in the host and in periphera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s to external components such as keyboards and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bling or communications links between the host system and its peripher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3DB5-4DD9-4897-86CB-45EA4A62A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7-1" descr=""/>
          <p:cNvPicPr/>
          <p:nvPr/>
        </p:nvPicPr>
        <p:blipFill>
          <a:blip r:embed="rId2"/>
          <a:stretch/>
        </p:blipFill>
        <p:spPr>
          <a:xfrm>
            <a:off x="2473200" y="1320840"/>
            <a:ext cx="6137280" cy="49561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7.4 I/O Archite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2361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a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el I/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figu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6:46Z</dcterms:modified>
  <cp:revision>455</cp:revision>
  <dc:subject/>
  <dc:title>Chapter 7</dc:title>
</cp:coreProperties>
</file>