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C8D-FA7F-48A4-8289-3E12512CD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25DE-C8EA-47B6-8D2E-43DCEE25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4E02-2E3B-41CF-A844-6AE476EC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83D-30F6-44EB-A098-5C55B16A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C4B-51EE-4661-B8AD-94446822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7B5-E840-42DE-9B95-C5B7CFCA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C298-F444-4FEE-9E7F-13E76622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A968-264F-450B-9720-49CB0E6E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E00F-A49D-41C6-A2B9-7C7A787B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90D-553B-4430-A923-F8AF8C1F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50D5-B2B3-49BC-8ED8-DF9E84F2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2B22-6AE2-4276-8691-2FB0B88D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F68D-2D93-4088-B3FE-C3F703B04F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0" y="914040"/>
            <a:ext cx="4038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2 Special S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14440" y="3962520"/>
            <a:ext cx="48769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ocus on Codes for Data Recording and Transmis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BA80-B6FC-480C-9FC0-31FED85E1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RLL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,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ode dictates a minimum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a maximum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secutive zeros between any pair of consecutive on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LL(2,7) has been the dominant disk storage coding method for many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RLL(2,7) code contains more bit cells than its corresponding ASCII or EBCDIC charac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the coding method allows bit cells to be smaller, thus closer together, than in MFM or any other c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5  Run-Length Limi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A765-EBA8-47B9-829E-B3B4BB891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32" descr=""/>
          <p:cNvPicPr/>
          <p:nvPr/>
        </p:nvPicPr>
        <p:blipFill>
          <a:blip r:embed="rId2"/>
          <a:stretch/>
        </p:blipFill>
        <p:spPr>
          <a:xfrm>
            <a:off x="1346040" y="3049560"/>
            <a:ext cx="7340760" cy="2208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7923240" cy="16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LL(2,7) coding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shown below, compared to MFM. The RLL code (bottom) contains 25% fewer transitions than the MFM code (to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43200" y="5486400"/>
            <a:ext cx="4800600" cy="7621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The details as to how this code is derived are given in the tex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5  Run-Length Limi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4C78-F120-42A2-9FA9-BA4351F36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LL by itself is insufficient for reliable recording on ultra high density med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jacent bits interfere with each other at very high densit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fewer magnetic grains are available to each bit cell, the magnetic flux weakens proportion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phenomenon,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uperposition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shown on the next sli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6 Partial Response Maximum Likelihood Co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23C5-1827-4F77-925D-4B0AE539F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34290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tunately, this behavior is well understood and can be used to our advantag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6 Partial Response Maximum Likelihood Co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2a8" descr=""/>
          <p:cNvPicPr/>
          <p:nvPr/>
        </p:nvPicPr>
        <p:blipFill>
          <a:blip r:embed="rId2"/>
          <a:stretch/>
        </p:blipFill>
        <p:spPr>
          <a:xfrm>
            <a:off x="3962520" y="1630440"/>
            <a:ext cx="472428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35E4-2875-40BF-B94D-FA455281B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atterns in the previous slide can be made meaningful when each bit cell is sampled several tim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ampling determines a “partial response” patter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Viterbi detector tries to match the partial response with the most likely patter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technique is stunningly accurate. We describe it in detail in Chapter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52280" y="152280"/>
            <a:ext cx="7467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6 Partial Response Maximum Likelihood Cod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40F5-4DA9-43C0-9198-73D1E71F7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mission and storage codes are devised to convey or store bytes reliably and economica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ding scheme that uses fewer magnetic transitions is more efficient than one with more magnetic transitions per charac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 strings of zeroes and ones can result in synchronization los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ction 2A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3BF7-3C42-4AC7-9CA4-CA8CDDE51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LL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,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ode dictates a minimum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a maximum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nsecutive zeros between any pair of consecutive o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FM was widely used until PRML and its extensions became widely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ML requires multiple samplings per bit cell, but permits bit cells to be spaced closer togeth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return to this subject in Chapter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ection 2A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880C-9983-4C8F-84E7-26F2987AE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D1E6-FA90-4D09-9BD5-A2B571614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54380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in part of Chapter 2 provides great detail about the various ways in which digital computers express numeric and non-numeric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expressions are an abstraction for the way in which the values are actually stored on computer media and sent over transmission med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BDF7-E3A2-48DC-ACC7-E9ADCA17B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81518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transmit data, pulses of “high” and “low” voltage are sent across communications med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store data, changes are induced in the magnetic polarity of the recording medi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polarity change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lux reversals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eriod of time during which a bit is transmitted, or the area of magnetic storage within which a bit is stored is called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it ce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B7B7-351E-4CCA-B793-E351F3DBA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22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mplest data recording and transmission code is the non-return-to-zero (NRZ) c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RZ encodes 1 as “high” and 0 as “low.”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ding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in ASCII) is shown be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1 Non-Return-to-Zero Co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26" descr=""/>
          <p:cNvPicPr/>
          <p:nvPr/>
        </p:nvPicPr>
        <p:blipFill>
          <a:blip r:embed="rId2"/>
          <a:srcRect l="0" t="0" r="4350" b="0"/>
          <a:stretch/>
        </p:blipFill>
        <p:spPr>
          <a:xfrm>
            <a:off x="237960" y="4095720"/>
            <a:ext cx="76694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B55DC-7A82-42EB-AFC3-DEEBEBF60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8151840" cy="22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oblem with NRZ code is that long strings of zeros and ones cause synchronization los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return-to-zero-invert (NRZI) reduces this synchronization loss by providing a transition (either low-to-high or high-to-low) for each binary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27" descr=""/>
          <p:cNvPicPr/>
          <p:nvPr/>
        </p:nvPicPr>
        <p:blipFill>
          <a:blip r:embed="rId2"/>
          <a:stretch/>
        </p:blipFill>
        <p:spPr>
          <a:xfrm>
            <a:off x="1047600" y="4114800"/>
            <a:ext cx="6042240" cy="152568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54100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2 Non-Return-to-Zero-Invert Co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2AD0-3D91-4C28-B10C-476B8E627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227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though it prevents loss of synchronization over long strings of binary ones, NRZI coding does nothing to prevent synchronization loss within long strings of zer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nchester coding (also known as phase modulation) prevents this problem by encoding a binary one with an “up” transition and a binary zero with a “down” trans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28" descr=""/>
          <p:cNvPicPr/>
          <p:nvPr/>
        </p:nvPicPr>
        <p:blipFill>
          <a:blip r:embed="rId2"/>
          <a:stretch/>
        </p:blipFill>
        <p:spPr>
          <a:xfrm>
            <a:off x="1276200" y="4648320"/>
            <a:ext cx="6032520" cy="1506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3 Manchester Co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32A1-53F5-431A-BF18-924C3B07B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22780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r many years, Manchester code was the dominant transmission code for local area networks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 is, however, wasteful of communications capacity because there is a transition on every bit cell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 more efficient coding method is based upon the frequency modulation (FM) code. In FM, a transition is provided at each cell boundary.  Cells containing binary ones have a mid-cell transitio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29" descr=""/>
          <p:cNvPicPr/>
          <p:nvPr/>
        </p:nvPicPr>
        <p:blipFill>
          <a:blip r:embed="rId2"/>
          <a:stretch/>
        </p:blipFill>
        <p:spPr>
          <a:xfrm>
            <a:off x="1273320" y="4800600"/>
            <a:ext cx="6014880" cy="1503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4  Frequency Modu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BC0A-1053-4064-8F5A-D7359395BC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30" descr=""/>
          <p:cNvPicPr/>
          <p:nvPr/>
        </p:nvPicPr>
        <p:blipFill>
          <a:blip r:embed="rId2"/>
          <a:stretch/>
        </p:blipFill>
        <p:spPr>
          <a:xfrm>
            <a:off x="1270080" y="4800600"/>
            <a:ext cx="6216480" cy="15526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 first glance, FM is worse than Manchester code, because it requires a transition at each cell boundary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f we can eliminate some of these transitions, we would have a more economical code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dified FM does just this. It provides a cell boundary transition only when adjacent cells contain zeros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n MFM cell containing a binary one has a transition in the middle as in regular F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4  Frequency Modu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EF81-36B6-472A-BF5F-385ACE896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77706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ain challenge for data recording and trans-mission is how to retain synchronization without chewing up more resources than necessa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n-length-limited, RLL, is a code specifically designed to reduce the number of consecutive ones and zero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xtra bits are inserted into th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even with these extra bits RLL is remarkably effic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6324480" cy="9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A.5  Run-Length Limit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8:54Z</dcterms:modified>
  <cp:revision>179</cp:revision>
  <dc:subject/>
  <dc:title>Chapter 2</dc:title>
</cp:coreProperties>
</file>